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EAE-C8AD-4036-9C17-62D9F251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F3B-15C3-4A03-9E75-002B68D2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874-23C9-4AA4-97FD-9BD5A889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4C4-D283-46DB-95C7-792920A2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F93-ED96-4F37-AFC5-B3FC3F92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E88-C23C-4058-BD38-10E957D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DEB-8E37-42C4-8BF2-5A4F0BCD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B5C-84A1-4C0E-9D38-39EB64B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910-FE87-4661-9A45-583345D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A60-5918-42C2-BB42-BB7D78E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947-BD99-4B56-9A02-4BF34B4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584-03F8-49B0-B687-8364AF1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E45-3CE1-478A-BD65-0D0CD79FA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99 из 2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артинка 33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-900000" y="1052640"/>
            <a:ext cx="11223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ТЕ СВОИХ МАМ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ЛЮБИТЕ ИХ ТАК,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ЛЮБЯТ ОНИ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С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dm2.gif"/>
          <p:cNvPicPr/>
          <p:nvPr/>
        </p:nvPicPr>
        <p:blipFill>
          <a:blip r:embed="rId1"/>
          <a:stretch/>
        </p:blipFill>
        <p:spPr>
          <a:xfrm>
            <a:off x="-214200" y="1168560"/>
            <a:ext cx="6286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 для меня как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-конечная звезда 3"/>
          <p:cNvSpPr/>
          <p:nvPr/>
        </p:nvSpPr>
        <p:spPr>
          <a:xfrm>
            <a:off x="1285920" y="2143080"/>
            <a:ext cx="1571760" cy="1500120"/>
          </a:xfrm>
          <a:custGeom>
            <a:avLst/>
            <a:gdLst>
              <a:gd name="textAreaLeft" fmla="*/ 485640 w 1571760"/>
              <a:gd name="textAreaRight" fmla="*/ 1086120 w 1571760"/>
              <a:gd name="textAreaTop" fmla="*/ 573120 h 1500120"/>
              <a:gd name="textAreaBottom" fmla="*/ 1146240 h 1500120"/>
            </a:gdLst>
            <a:ahLst/>
            <a:rect l="textAreaLeft" t="textAreaTop" r="textAreaRight" b="textAreaBottom"/>
            <a:pathLst>
              <a:path w="1571625" h="1500188">
                <a:moveTo>
                  <a:pt x="2" y="573019"/>
                </a:moveTo>
                <a:lnTo>
                  <a:pt x="600311" y="573023"/>
                </a:lnTo>
                <a:lnTo>
                  <a:pt x="785813" y="0"/>
                </a:lnTo>
                <a:lnTo>
                  <a:pt x="971314" y="573023"/>
                </a:lnTo>
                <a:lnTo>
                  <a:pt x="1571623" y="573019"/>
                </a:lnTo>
                <a:lnTo>
                  <a:pt x="1085961" y="927163"/>
                </a:lnTo>
                <a:lnTo>
                  <a:pt x="1271472" y="1500183"/>
                </a:lnTo>
                <a:lnTo>
                  <a:pt x="785813" y="1146034"/>
                </a:lnTo>
                <a:lnTo>
                  <a:pt x="300153" y="1500183"/>
                </a:lnTo>
                <a:lnTo>
                  <a:pt x="485664" y="92716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лнце 4"/>
          <p:cNvSpPr/>
          <p:nvPr/>
        </p:nvSpPr>
        <p:spPr>
          <a:xfrm>
            <a:off x="3429000" y="1857240"/>
            <a:ext cx="2214720" cy="14288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есяц 5"/>
          <p:cNvSpPr/>
          <p:nvPr/>
        </p:nvSpPr>
        <p:spPr>
          <a:xfrm>
            <a:off x="7215120" y="1714680"/>
            <a:ext cx="785880" cy="157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ердце 6"/>
          <p:cNvSpPr/>
          <p:nvPr/>
        </p:nvSpPr>
        <p:spPr>
          <a:xfrm>
            <a:off x="1285920" y="4071960"/>
            <a:ext cx="1714320" cy="1643040"/>
          </a:xfrm>
          <a:custGeom>
            <a:avLst/>
            <a:gdLst>
              <a:gd name="textAreaLeft" fmla="*/ 285480 w 1714320"/>
              <a:gd name="textAreaRight" fmla="*/ 1428840 w 1714320"/>
              <a:gd name="textAreaTop" fmla="*/ 410760 h 1643040"/>
              <a:gd name="textAreaBottom" fmla="*/ 1095480 h 1643040"/>
            </a:gdLst>
            <a:ahLst/>
            <a:rect l="textAreaLeft" t="textAreaTop" r="textAreaRight" b="textAreaBottom"/>
            <a:pathLst>
              <a:path w="1714500" h="1643062">
                <a:moveTo>
                  <a:pt x="857250" y="410766"/>
                </a:moveTo>
                <a:cubicBezTo>
                  <a:pt x="1214438" y="-547687"/>
                  <a:pt x="2607469" y="410766"/>
                  <a:pt x="857250" y="1643062"/>
                </a:cubicBezTo>
                <a:cubicBezTo>
                  <a:pt x="-892969" y="410766"/>
                  <a:pt x="500062" y="-547687"/>
                  <a:pt x="857250" y="410766"/>
                </a:cubicBezTo>
                <a:close/>
              </a:path>
            </a:pathLst>
          </a:custGeom>
          <a:solidFill>
            <a:srgbClr val="ecb2e8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7"/>
          <p:cNvSpPr/>
          <p:nvPr/>
        </p:nvSpPr>
        <p:spPr>
          <a:xfrm>
            <a:off x="5357880" y="3929040"/>
            <a:ext cx="2428920" cy="1214640"/>
          </a:xfrm>
          <a:custGeom>
            <a:avLst/>
            <a:gdLst>
              <a:gd name="textAreaLeft" fmla="*/ 334800 w 2428920"/>
              <a:gd name="textAreaRight" fmla="*/ 1921680 w 2428920"/>
              <a:gd name="textAreaTop" fmla="*/ 183240 h 1214640"/>
              <a:gd name="textAreaBottom" fmla="*/ 974880 h 1214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6b6bc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самая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Картинка 39 из 64000"/>
          <p:cNvPicPr/>
          <p:nvPr/>
        </p:nvPicPr>
        <p:blipFill>
          <a:blip r:embed="rId1"/>
          <a:stretch/>
        </p:blipFill>
        <p:spPr>
          <a:xfrm>
            <a:off x="1000080" y="1357200"/>
            <a:ext cx="68691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бывает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лыбающееся лицо 3"/>
          <p:cNvSpPr/>
          <p:nvPr/>
        </p:nvSpPr>
        <p:spPr>
          <a:xfrm>
            <a:off x="857160" y="1857240"/>
            <a:ext cx="2143080" cy="2000520"/>
          </a:xfrm>
          <a:prstGeom prst="smileyFace">
            <a:avLst>
              <a:gd name="adj" fmla="val 9282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лыбающееся лицо 4"/>
          <p:cNvSpPr/>
          <p:nvPr/>
        </p:nvSpPr>
        <p:spPr>
          <a:xfrm>
            <a:off x="3429000" y="3714840"/>
            <a:ext cx="2286000" cy="2143080"/>
          </a:xfrm>
          <a:prstGeom prst="smileyFace">
            <a:avLst>
              <a:gd name="adj" fmla="val -4652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лыбающееся лицо 5"/>
          <p:cNvSpPr/>
          <p:nvPr/>
        </p:nvSpPr>
        <p:spPr>
          <a:xfrm>
            <a:off x="6143760" y="1785960"/>
            <a:ext cx="2643120" cy="2286000"/>
          </a:xfrm>
          <a:prstGeom prst="smileyFace">
            <a:avLst>
              <a:gd name="adj" fmla="val 366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лучше всех уме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5.gif"/>
          <p:cNvPicPr/>
          <p:nvPr/>
        </p:nvPicPr>
        <p:blipFill>
          <a:blip r:embed="rId1"/>
          <a:stretch/>
        </p:blipFill>
        <p:spPr>
          <a:xfrm>
            <a:off x="3214800" y="3714840"/>
            <a:ext cx="2082600" cy="2306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.gif"/>
          <p:cNvPicPr/>
          <p:nvPr/>
        </p:nvPicPr>
        <p:blipFill>
          <a:blip r:embed="rId2"/>
          <a:stretch/>
        </p:blipFill>
        <p:spPr>
          <a:xfrm>
            <a:off x="928800" y="2000160"/>
            <a:ext cx="185076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774.gif"/>
          <p:cNvPicPr/>
          <p:nvPr/>
        </p:nvPicPr>
        <p:blipFill>
          <a:blip r:embed="rId3"/>
          <a:stretch/>
        </p:blipFill>
        <p:spPr>
          <a:xfrm>
            <a:off x="6500880" y="1643040"/>
            <a:ext cx="2352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м мамам посвящ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а 84 из 64000"/>
          <p:cNvPicPr/>
          <p:nvPr/>
        </p:nvPicPr>
        <p:blipFill>
          <a:blip r:embed="rId1"/>
          <a:stretch/>
        </p:blipFill>
        <p:spPr>
          <a:xfrm>
            <a:off x="1166760" y="1714680"/>
            <a:ext cx="5797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лая моя…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имая мо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77 из 64000"/>
          <p:cNvPicPr/>
          <p:nvPr/>
        </p:nvPicPr>
        <p:blipFill>
          <a:blip r:embed="rId1"/>
          <a:srcRect l="0" t="9751" r="8545" b="22716"/>
          <a:stretch/>
        </p:blipFill>
        <p:spPr>
          <a:xfrm>
            <a:off x="0" y="1417680"/>
            <a:ext cx="60008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113 из 64000"/>
          <p:cNvPicPr/>
          <p:nvPr/>
        </p:nvPicPr>
        <p:blipFill>
          <a:blip r:embed="rId1"/>
          <a:stretch/>
        </p:blipFill>
        <p:spPr>
          <a:xfrm>
            <a:off x="0" y="0"/>
            <a:ext cx="957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48:52Z</dcterms:created>
  <dc:creator>Олег</dc:creator>
  <dc:description/>
  <dc:language>en-US</dc:language>
  <cp:lastModifiedBy>Admin</cp:lastModifiedBy>
  <dcterms:modified xsi:type="dcterms:W3CDTF">2011-12-01T16:26:10Z</dcterms:modified>
  <cp:revision>7</cp:revision>
  <dc:subject/>
  <dc:title>Слайд 1</dc:title>
</cp:coreProperties>
</file>