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gif" ContentType="image/gif"/>
  <Override PartName="/ppt/media/image5.gif" ContentType="image/gif"/>
  <Override PartName="/ppt/media/image6.png" ContentType="image/png"/>
  <Override PartName="/ppt/media/image7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540A-08B8-4345-9AF8-AF8CA4CFE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AA74-AC46-4E1A-97FD-F8A41312F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1ECB-2C14-482F-A9A9-DF0928643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49AA-1C71-4138-8986-84F1154FC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4206-AD0F-4FAB-B87F-00352CF02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FE28-24CB-4929-A6F3-E945C8206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BCD7-C98E-41FF-AAF4-31C5D71FE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C0E4-9C1E-4271-87BE-FC2090941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0167-2E07-45D5-89C7-BF9C7118C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6AB8-2E24-4443-BAB9-B0E33805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D7F0-8242-43EF-83DB-255C6DC3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F2EC-A00E-478F-BB52-26F67E38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FEB8F-7252-4927-B368-A131805841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Картинка 299 из 26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Картинка 33 из 640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WordArt 5"/>
          <p:cNvSpPr txBox="1"/>
          <p:nvPr/>
        </p:nvSpPr>
        <p:spPr>
          <a:xfrm>
            <a:off x="-900000" y="1052640"/>
            <a:ext cx="11223360" cy="38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БЕРЕГИТЕ СВОИХ МАМ </a:t>
            </a:r>
            <a:endParaRPr b="1" i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И ЛЮБИТЕ ИХ ТАК,</a:t>
            </a:r>
            <a:endParaRPr b="1" i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АК ЛЮБЯТ ОНИ </a:t>
            </a:r>
            <a:endParaRPr b="1" i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АС.</a:t>
            </a:r>
            <a:endParaRPr b="1" i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ши ма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Содержимое 3" descr="dm2.gif"/>
          <p:cNvPicPr/>
          <p:nvPr/>
        </p:nvPicPr>
        <p:blipFill>
          <a:blip r:embed="rId1"/>
          <a:stretch/>
        </p:blipFill>
        <p:spPr>
          <a:xfrm>
            <a:off x="-214200" y="1168560"/>
            <a:ext cx="628632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МА для меня как 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5-конечная звезда 3"/>
          <p:cNvSpPr/>
          <p:nvPr/>
        </p:nvSpPr>
        <p:spPr>
          <a:xfrm>
            <a:off x="1285920" y="2143080"/>
            <a:ext cx="1571760" cy="1500120"/>
          </a:xfrm>
          <a:custGeom>
            <a:avLst/>
            <a:gdLst>
              <a:gd name="textAreaLeft" fmla="*/ 485640 w 1571760"/>
              <a:gd name="textAreaRight" fmla="*/ 1086120 w 1571760"/>
              <a:gd name="textAreaTop" fmla="*/ 573120 h 1500120"/>
              <a:gd name="textAreaBottom" fmla="*/ 1146240 h 1500120"/>
            </a:gdLst>
            <a:ahLst/>
            <a:rect l="textAreaLeft" t="textAreaTop" r="textAreaRight" b="textAreaBottom"/>
            <a:pathLst>
              <a:path w="1571625" h="1500188">
                <a:moveTo>
                  <a:pt x="2" y="573019"/>
                </a:moveTo>
                <a:lnTo>
                  <a:pt x="600311" y="573023"/>
                </a:lnTo>
                <a:lnTo>
                  <a:pt x="785813" y="0"/>
                </a:lnTo>
                <a:lnTo>
                  <a:pt x="971314" y="573023"/>
                </a:lnTo>
                <a:lnTo>
                  <a:pt x="1571623" y="573019"/>
                </a:lnTo>
                <a:lnTo>
                  <a:pt x="1085961" y="927163"/>
                </a:lnTo>
                <a:lnTo>
                  <a:pt x="1271472" y="1500183"/>
                </a:lnTo>
                <a:lnTo>
                  <a:pt x="785813" y="1146034"/>
                </a:lnTo>
                <a:lnTo>
                  <a:pt x="300153" y="1500183"/>
                </a:lnTo>
                <a:lnTo>
                  <a:pt x="485664" y="927163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олнце 4"/>
          <p:cNvSpPr/>
          <p:nvPr/>
        </p:nvSpPr>
        <p:spPr>
          <a:xfrm>
            <a:off x="3429000" y="1857240"/>
            <a:ext cx="2214720" cy="142884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есяц 5"/>
          <p:cNvSpPr/>
          <p:nvPr/>
        </p:nvSpPr>
        <p:spPr>
          <a:xfrm>
            <a:off x="7215120" y="1714680"/>
            <a:ext cx="785880" cy="1571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ердце 6"/>
          <p:cNvSpPr/>
          <p:nvPr/>
        </p:nvSpPr>
        <p:spPr>
          <a:xfrm>
            <a:off x="1285920" y="4071960"/>
            <a:ext cx="1714320" cy="1643040"/>
          </a:xfrm>
          <a:custGeom>
            <a:avLst/>
            <a:gdLst>
              <a:gd name="textAreaLeft" fmla="*/ 285480 w 1714320"/>
              <a:gd name="textAreaRight" fmla="*/ 1428840 w 1714320"/>
              <a:gd name="textAreaTop" fmla="*/ 410760 h 1643040"/>
              <a:gd name="textAreaBottom" fmla="*/ 1095480 h 1643040"/>
            </a:gdLst>
            <a:ahLst/>
            <a:rect l="textAreaLeft" t="textAreaTop" r="textAreaRight" b="textAreaBottom"/>
            <a:pathLst>
              <a:path w="1714500" h="1643062">
                <a:moveTo>
                  <a:pt x="857250" y="410766"/>
                </a:moveTo>
                <a:cubicBezTo>
                  <a:pt x="1214438" y="-547687"/>
                  <a:pt x="2607469" y="410766"/>
                  <a:pt x="857250" y="1643062"/>
                </a:cubicBezTo>
                <a:cubicBezTo>
                  <a:pt x="-892969" y="410766"/>
                  <a:pt x="500062" y="-547687"/>
                  <a:pt x="857250" y="410766"/>
                </a:cubicBezTo>
                <a:close/>
              </a:path>
            </a:pathLst>
          </a:custGeom>
          <a:solidFill>
            <a:srgbClr val="ecb2e8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блако 7"/>
          <p:cNvSpPr/>
          <p:nvPr/>
        </p:nvSpPr>
        <p:spPr>
          <a:xfrm>
            <a:off x="5357880" y="3929040"/>
            <a:ext cx="2428920" cy="1214640"/>
          </a:xfrm>
          <a:custGeom>
            <a:avLst/>
            <a:gdLst>
              <a:gd name="textAreaLeft" fmla="*/ 334800 w 2428920"/>
              <a:gd name="textAreaRight" fmla="*/ 1921680 w 2428920"/>
              <a:gd name="textAreaTop" fmla="*/ 183240 h 1214640"/>
              <a:gd name="textAreaBottom" fmla="*/ 974880 h 121464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6b6bcf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я мама самая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Картинка 39 из 64000"/>
          <p:cNvPicPr/>
          <p:nvPr/>
        </p:nvPicPr>
        <p:blipFill>
          <a:blip r:embed="rId1"/>
          <a:stretch/>
        </p:blipFill>
        <p:spPr>
          <a:xfrm>
            <a:off x="1000080" y="1357200"/>
            <a:ext cx="6869160" cy="52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я мама бывает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Улыбающееся лицо 3"/>
          <p:cNvSpPr/>
          <p:nvPr/>
        </p:nvSpPr>
        <p:spPr>
          <a:xfrm>
            <a:off x="857160" y="1857240"/>
            <a:ext cx="2143080" cy="2000520"/>
          </a:xfrm>
          <a:prstGeom prst="smileyFace">
            <a:avLst>
              <a:gd name="adj" fmla="val 9282"/>
            </a:avLst>
          </a:prstGeom>
          <a:solidFill>
            <a:srgbClr val="ecb2e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Улыбающееся лицо 4"/>
          <p:cNvSpPr/>
          <p:nvPr/>
        </p:nvSpPr>
        <p:spPr>
          <a:xfrm>
            <a:off x="3429000" y="3714840"/>
            <a:ext cx="2286000" cy="2143080"/>
          </a:xfrm>
          <a:prstGeom prst="smileyFace">
            <a:avLst>
              <a:gd name="adj" fmla="val -4652"/>
            </a:avLst>
          </a:prstGeom>
          <a:solidFill>
            <a:srgbClr val="ecb2e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Улыбающееся лицо 5"/>
          <p:cNvSpPr/>
          <p:nvPr/>
        </p:nvSpPr>
        <p:spPr>
          <a:xfrm>
            <a:off x="6143760" y="1785960"/>
            <a:ext cx="2643120" cy="2286000"/>
          </a:xfrm>
          <a:prstGeom prst="smileyFace">
            <a:avLst>
              <a:gd name="adj" fmla="val 366"/>
            </a:avLst>
          </a:prstGeom>
          <a:solidFill>
            <a:srgbClr val="ecb2e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я мама лучше всех умеет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Содержимое 3" descr="5.gif"/>
          <p:cNvPicPr/>
          <p:nvPr/>
        </p:nvPicPr>
        <p:blipFill>
          <a:blip r:embed="rId1"/>
          <a:stretch/>
        </p:blipFill>
        <p:spPr>
          <a:xfrm>
            <a:off x="3214800" y="3714840"/>
            <a:ext cx="2082600" cy="230652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4" descr="2.gif"/>
          <p:cNvPicPr/>
          <p:nvPr/>
        </p:nvPicPr>
        <p:blipFill>
          <a:blip r:embed="rId2"/>
          <a:stretch/>
        </p:blipFill>
        <p:spPr>
          <a:xfrm>
            <a:off x="928800" y="2000160"/>
            <a:ext cx="1850760" cy="164304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5" descr="1774.gif"/>
          <p:cNvPicPr/>
          <p:nvPr/>
        </p:nvPicPr>
        <p:blipFill>
          <a:blip r:embed="rId3"/>
          <a:stretch/>
        </p:blipFill>
        <p:spPr>
          <a:xfrm>
            <a:off x="6500880" y="1643040"/>
            <a:ext cx="235260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шим мамам посвящает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Картинка 84 из 64000"/>
          <p:cNvPicPr/>
          <p:nvPr/>
        </p:nvPicPr>
        <p:blipFill>
          <a:blip r:embed="rId1"/>
          <a:stretch/>
        </p:blipFill>
        <p:spPr>
          <a:xfrm>
            <a:off x="1166760" y="1714680"/>
            <a:ext cx="5797440" cy="47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лая моя…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юбимая моя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Картинка 77 из 64000"/>
          <p:cNvPicPr/>
          <p:nvPr/>
        </p:nvPicPr>
        <p:blipFill>
          <a:blip r:embed="rId1"/>
          <a:srcRect l="0" t="9751" r="8545" b="22716"/>
          <a:stretch/>
        </p:blipFill>
        <p:spPr>
          <a:xfrm>
            <a:off x="0" y="1417680"/>
            <a:ext cx="600084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Картинка 113 из 64000"/>
          <p:cNvPicPr/>
          <p:nvPr/>
        </p:nvPicPr>
        <p:blipFill>
          <a:blip r:embed="rId1"/>
          <a:stretch/>
        </p:blipFill>
        <p:spPr>
          <a:xfrm>
            <a:off x="0" y="0"/>
            <a:ext cx="9577440" cy="67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9:48:52Z</dcterms:created>
  <dc:creator>Олег</dc:creator>
  <dc:description/>
  <dc:language>en-US</dc:language>
  <cp:lastModifiedBy>Admin</cp:lastModifiedBy>
  <dcterms:modified xsi:type="dcterms:W3CDTF">2011-12-01T16:26:10Z</dcterms:modified>
  <cp:revision>7</cp:revision>
  <dc:subject/>
  <dc:title>Слайд 1</dc:title>
</cp:coreProperties>
</file>