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73B-7751-4986-BFA5-BFEA19F3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572-21D9-487F-A2F0-36A0DC31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647-2BDD-479B-9DD1-E28C13A7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C15-DE79-43A9-BB52-0275CDBD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599-AB6A-40E5-917D-7DC901D9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912-0FEA-452E-ABE6-74A39CBD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47A-A014-4D35-9357-030BAA5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9CE-D528-4677-9894-26EF473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EDD-27BB-4CCF-B8BE-183EA6B0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D6B-19A6-4315-9EA8-48B42E5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1A6-DBB2-4B1B-9F39-253F5E8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FC2-C40E-458E-AB41-6415C23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F54-F5BC-48A2-8CEF-F659870ED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7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785960" y="0"/>
            <a:ext cx="450072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уня</cp:lastModifiedBy>
  <dcterms:modified xsi:type="dcterms:W3CDTF">2011-09-22T04:59:21Z</dcterms:modified>
  <cp:revision>4</cp:revision>
  <dc:subject/>
  <dc:title>Слайд 1</dc:title>
</cp:coreProperties>
</file>