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C04-2482-4A4C-BB55-EEC486DB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B8C-D0F9-4081-B319-B0D06F97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665-568F-46CF-8347-2D5C75A5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25D-0079-4D3E-A888-52B1839E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ABA-A38C-440B-B948-DEC1710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12B-A9FC-460E-B700-3B3F0244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DEE-694D-41EC-A4D6-273ABDA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D13-A23E-4027-90AC-C4010F30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53B-6222-4F70-8C14-44C8B63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679-223C-41D3-9310-853375E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203-161B-4206-AE14-47EC97C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1D0-AE9F-4BDA-A564-38724B0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502-946E-4AC6-9164-3E6CB8545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7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85960" y="0"/>
            <a:ext cx="4500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уня</cp:lastModifiedBy>
  <dcterms:modified xsi:type="dcterms:W3CDTF">2011-09-22T04:59:21Z</dcterms:modified>
  <cp:revision>4</cp:revision>
  <dc:subject/>
  <dc:title>Слайд 1</dc:title>
</cp:coreProperties>
</file>