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192-5741-479B-9027-F8FC54CBED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8291-35F2-407B-AFCA-0609180AEB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119-C19A-4995-A78A-89BDCCC5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C61-E62C-46BC-B9D6-F25C39C5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52E-8871-4BDC-88AF-95662754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E59-468A-4007-AAA4-FB912C45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4255-9107-4C9C-91BF-8D07E8CD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690F-8E4A-4769-BB17-F97929ED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EACD-2359-4791-ACC3-D98AAB46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135C-391B-4A0B-9E6A-BDEC4CB8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5C5-611F-4E46-9D35-BD517F28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EE6E-01E0-4191-8C27-0C447A9D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7A68-5CE4-407E-9536-FAEBCC1C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A68-802D-48F4-9039-3B162E5A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7EB0-CAC4-47A0-BE20-10CBF50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F45F-B06C-451B-9E8D-0DEFDCB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1474-9AA2-460A-9F12-D82D2679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7555-5CE9-4851-950A-8A004367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6DFB-4A90-4A60-AA2E-D5D85DF0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7E973-98AD-4E0F-9900-E3E96AA2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B4037-13D0-4E1C-B999-4FC89527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53DC0-0670-4642-BC2C-E463B76C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2AA30-74CA-4589-AF01-FAECDF88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E9BDE-A7BA-4BEF-BF45-BBF33482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F81-CCB4-4101-AB5F-BF468740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DF44F-2BB4-47E0-9C72-9ABFE2CC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EA86B-B00C-4AC5-8D19-F75BFFD2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7B0E4-F8D1-44B1-9196-252FD40E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76B75-3875-4C86-AABF-DD96E98D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D8EC0-48D0-465B-9F46-AA0B1434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569B3-DE5F-47EC-A1AE-16901512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F89F1-D52F-4A82-879A-581135AD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7C3C2-78E2-427E-941E-5787A1EF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E82D3-7715-4B80-BB40-A70DCB6C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20AED-7283-4ED2-8A7E-160D8156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3E7-2047-47A5-B399-DE1CAE85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4B864-208A-4E73-ADDB-E2C13F9C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805B4-45D4-468F-80A3-258FAEF9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B963-5E3F-4AE0-B0C2-AAC547B4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3857C-4CC5-4348-AAC9-B109891C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52173-C52B-4BBA-8BC3-101EC679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DA14A-E3A2-4A09-AEA7-C26232D7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5554-248C-48D2-941E-5BA6AAEB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4B25F-2FC4-4ED5-9932-F3196FEA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9FDF-1547-414C-9611-FB673ABE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03456-0CB7-4C7B-BDA6-D3EC0115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F3A-3A27-438A-AC4D-819D5E41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F2C80-DC4F-4448-9C7F-224C8E39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21E94-3861-430C-B166-6526AF4B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770A1-0AEA-4695-ABA1-FD1AE064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B8792-7CA4-4D84-B4EC-8EC558E1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978DB-4F28-433E-B89E-556DE1C5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D3B86-D82F-4B40-A560-2CFEF83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5F69C-3941-4C5F-B87F-901189E7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835DF-C1E0-4DBE-B97E-A57B39D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94119-CE13-4A57-AA6A-2981B22E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8199B-B806-4F50-BBC1-27390A31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FEC-2DAA-45EE-804C-91F4EADF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6110E-0CFF-46D9-93A3-20FF4855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D38A0-CE23-435E-BAB3-72735B34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86A55-7CE4-4DD0-9D49-FC3DF829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5C5ED-6B45-4854-AE7E-BDEA5E8F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E221D-7EE0-4725-972F-535CCC23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EC227-6B13-4AA0-BB93-A69F3838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8D827-14ED-47BC-8863-6271DC26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CCF31-6E8B-4BD2-AB8C-E8C84179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200E9-ADF5-452D-9D4F-37ACEA5B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E3AE8-36E4-4A23-8D44-A2DFAD3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00A-2A0F-47B9-A964-22E014CE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E44C5-73CB-448F-9D1F-30498D34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214A9-783A-4EBA-9226-5B00EA21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87C86-DFBD-489F-92FE-61D8F5A4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8AD01-E29D-47C6-BCAF-D4B63248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C7659-9D0F-49E8-A6BD-8D5402D6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DA5E5-BFEA-4AD0-97F1-2BAF65D8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5A18E-A671-4B99-A1FF-1C0A984B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33D9D1-5870-442A-B908-99254CCC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C5BE8-2E66-49F2-A5EC-E6C45E6C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1033D-77ED-4A3F-95B9-29D2ABEC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004-3971-4F8F-89BD-D92FC626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4CC59-5C91-49CF-BC9E-E14053CE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7F73A-1412-4A0F-A675-74E445F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B5FA2-0D7A-4962-B7FB-2E521CC8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C21AB-DA98-4EA9-B98A-CAA4AA2C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B2660-8AF6-4A53-A135-D3A3C5FB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B75-79C2-4254-A121-343F4D3D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8554-5E38-41D3-B270-6AB3E6ECEA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9185-C7D4-4D8E-8D4C-39758114E4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0E33-22EE-4191-8A6E-3E2370AA88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FFEF-EB99-48D4-A201-63251D3389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6645-8AF7-4D61-A54F-9D760DCDE8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E0CC-5C7A-4DE5-ABC8-3D11FE18BE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4731-4C9A-4C29-9942-86837DA88C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mplepastimes.com/prod_images_blowup/151-WORL_hir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9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НЫЙ 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ОДХОД В ОБРАЗОВАН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714560" y="4285800"/>
            <a:ext cx="414324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7" descr="Картинка 626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9289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Ы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(ПО Ю.В. ГРОМЫКО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57120" y="192852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пределённый взгляд на интегративность и на то, как она может выстраиваться в соответствии с двумя позиция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. Материал переорганизуется в соответствии с логикой развития какой-то конкретной организованности (знания, знака, проблемы, задачи), которая надпредметна и носит универсальный характер (отсюда и название метапредметов – «Знание», «Знак», «Проблема», «Задача»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. Обычный учебный материал переорганизуется в соответствии с логикой формирования определенных способностей, позволяющих работать с той или другой организованность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 «ЗНАК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ная задача метапредмет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Знак»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у школьников способности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хематизаци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G:\Метапредметность\Диск для Неволиной\МД_диск\images\Знак.jpg"/>
          <p:cNvPicPr/>
          <p:nvPr/>
        </p:nvPicPr>
        <p:blipFill>
          <a:blip r:embed="rId1"/>
          <a:stretch/>
        </p:blipFill>
        <p:spPr>
          <a:xfrm>
            <a:off x="6715080" y="3143160"/>
            <a:ext cx="2143080" cy="2960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Картинка 13 из 8466"/>
          <p:cNvPicPr/>
          <p:nvPr/>
        </p:nvPicPr>
        <p:blipFill>
          <a:blip r:embed="rId2"/>
          <a:stretch/>
        </p:blipFill>
        <p:spPr>
          <a:xfrm>
            <a:off x="3071880" y="4643280"/>
            <a:ext cx="2903400" cy="1955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Картинка 25 из 8466"/>
          <p:cNvPicPr/>
          <p:nvPr/>
        </p:nvPicPr>
        <p:blipFill>
          <a:blip r:embed="rId3"/>
          <a:stretch/>
        </p:blipFill>
        <p:spPr>
          <a:xfrm>
            <a:off x="1714680" y="2643120"/>
            <a:ext cx="3862080" cy="2189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Картинка 70 из 6011"/>
          <p:cNvPicPr/>
          <p:nvPr/>
        </p:nvPicPr>
        <p:blipFill>
          <a:blip r:embed="rId4"/>
          <a:stretch/>
        </p:blipFill>
        <p:spPr>
          <a:xfrm>
            <a:off x="0" y="4459320"/>
            <a:ext cx="250020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 «ЗНАНИЕ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адача метапредм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ние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работать с понятия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4" descr="G:\Метапредметность\Диск для Неволиной\МД_диск\images\Знание.jpg"/>
          <p:cNvPicPr/>
          <p:nvPr/>
        </p:nvPicPr>
        <p:blipFill>
          <a:blip r:embed="rId1"/>
          <a:stretch/>
        </p:blipFill>
        <p:spPr>
          <a:xfrm>
            <a:off x="6578640" y="2786040"/>
            <a:ext cx="2136600" cy="2928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http://www.clas.ufl.edu/users/jrea/penelopeodysseus3628.jpg"/>
          <p:cNvPicPr/>
          <p:nvPr/>
        </p:nvPicPr>
        <p:blipFill>
          <a:blip r:embed="rId2"/>
          <a:srcRect l="0" t="0" r="0" b="6250"/>
          <a:stretch/>
        </p:blipFill>
        <p:spPr>
          <a:xfrm>
            <a:off x="2714760" y="4143240"/>
            <a:ext cx="3779640" cy="2500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http://turcija.dljavseh.ru/src/images/Turcija_129.GIF"/>
          <p:cNvPicPr/>
          <p:nvPr/>
        </p:nvPicPr>
        <p:blipFill>
          <a:blip r:embed="rId3"/>
          <a:stretch/>
        </p:blipFill>
        <p:spPr>
          <a:xfrm>
            <a:off x="357120" y="3071880"/>
            <a:ext cx="285768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 «ПРОБЛЕМ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714240" y="2356920"/>
            <a:ext cx="48578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адача метапредм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блем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школьников собственной позиции относительно данного собы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3" descr="G:\Метапредметность\Диск для Неволиной\МД_диск\images\Проблема.jpg"/>
          <p:cNvPicPr/>
          <p:nvPr/>
        </p:nvPicPr>
        <p:blipFill>
          <a:blip r:embed="rId1"/>
          <a:stretch/>
        </p:blipFill>
        <p:spPr>
          <a:xfrm>
            <a:off x="5715000" y="2214720"/>
            <a:ext cx="29433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 «ЗАДАЧ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задача метапредм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дач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шение школьниками разных задач и освоение способов их реш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5" descr="Картинка 1 из 64000"/>
          <p:cNvPicPr/>
          <p:nvPr/>
        </p:nvPicPr>
        <p:blipFill>
          <a:blip r:embed="rId1"/>
          <a:stretch/>
        </p:blipFill>
        <p:spPr>
          <a:xfrm>
            <a:off x="2357280" y="3048120"/>
            <a:ext cx="4543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ЫВ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овременной педагогике существуют три взгляда на метапредметность в образова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апредметы могут быть представлены в двух формах: как «связки» между предметами и как отдельные учебные кур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основе метапредметного подхода положение: знания об объектах не сообщаются ученику в виде готового материала, а добываются каждым ученик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50104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нтегрированное занят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9" descr="1219181670_scienceicons"/>
          <p:cNvPicPr/>
          <p:nvPr/>
        </p:nvPicPr>
        <p:blipFill>
          <a:blip r:embed="rId1"/>
          <a:stretch/>
        </p:blipFill>
        <p:spPr>
          <a:xfrm>
            <a:off x="4429080" y="2428920"/>
            <a:ext cx="406548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учащихся не с целью передачи им знаний, а с целью им передачи способов работы со знанием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составляют деятельностные единицы, носящие универсальный характер:  понятия, модели, схемы, задачи, проблемы и т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24" descr="12755"/>
          <p:cNvPicPr/>
          <p:nvPr/>
        </p:nvPicPr>
        <p:blipFill>
          <a:blip r:embed="rId1"/>
          <a:stretch/>
        </p:blipFill>
        <p:spPr>
          <a:xfrm>
            <a:off x="4071960" y="3500280"/>
            <a:ext cx="4724280" cy="3119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ая работа со способом: если ученик освоил решение задач на три параметра в математике, учитель даёт ему решение задачи этого же типа, но из химии или физ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ОНЯТИЙНОЕ ПОЛ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7000920" y="27147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Давы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3" descr="Давыдов"/>
          <p:cNvPicPr/>
          <p:nvPr/>
        </p:nvPicPr>
        <p:blipFill>
          <a:blip r:embed="rId1"/>
          <a:stretch/>
        </p:blipFill>
        <p:spPr>
          <a:xfrm>
            <a:off x="7429680" y="428760"/>
            <a:ext cx="1223640" cy="211428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6" descr="Рисунок1.png"/>
          <p:cNvPicPr/>
          <p:nvPr/>
        </p:nvPicPr>
        <p:blipFill>
          <a:blip r:embed="rId2"/>
          <a:stretch/>
        </p:blipFill>
        <p:spPr>
          <a:xfrm>
            <a:off x="457200" y="1971720"/>
            <a:ext cx="7467480" cy="4130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умчивая работа с поняти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5" descr="Картинка 79 из 64000"/>
          <p:cNvPicPr/>
          <p:nvPr/>
        </p:nvPicPr>
        <p:blipFill>
          <a:blip r:embed="rId1"/>
          <a:stretch/>
        </p:blipFill>
        <p:spPr>
          <a:xfrm>
            <a:off x="3714840" y="264312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должен хорошо знать свой предмет и его возмож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9" name="Picture 16" descr="teacher"/>
          <p:cNvPicPr/>
          <p:nvPr/>
        </p:nvPicPr>
        <p:blipFill>
          <a:blip r:embed="rId1"/>
          <a:stretch/>
        </p:blipFill>
        <p:spPr>
          <a:xfrm>
            <a:off x="4857840" y="2857680"/>
            <a:ext cx="3757680" cy="34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071960" y="1999800"/>
            <a:ext cx="465768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на развитие базовых способностей: мышления, воображения, целеполагания, понимания, действ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5" descr="Картинка 135 из 64000"/>
          <p:cNvPicPr/>
          <p:nvPr/>
        </p:nvPicPr>
        <p:blipFill>
          <a:blip r:embed="rId1"/>
          <a:stretch/>
        </p:blipFill>
        <p:spPr>
          <a:xfrm>
            <a:off x="285840" y="1571760"/>
            <a:ext cx="358920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ОБЕННОСТИ МЕТАПРЕДМЕТНОГО ЗА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приёмы и соответствующие им формы: неделя метапредметного осознания, рефлексивная остановка, выстраивание личной учебной стратегии, коллективная игра в мыслительный эксперимен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ИМЕРЫ МЕТАПРЕДМЕТНЫХ КАТЕГОРИ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ение и понят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исунок и схе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нание и информац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ь и задач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ль и позиц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ель и спосо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и фор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нание и незн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рядок и хао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менение и развит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09040" indent="-5090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тое и сложн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торской А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предмет «Мироведение»: Экспериментальный интегрированный курс. Пособие для учителя. - Черноголовка, 1993. - 70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торской А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предмет «Числа»: Экспериментальный интегрированный курс. - Черноголовка, 1994. - 68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ыко Ю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предмет «Проблема» / Учебное пособие для учащихся старших классов. – М., 1998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ыко Ю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следеятельностная педагогика (теоретико-практическое руководство по совоению высших образцов педагогического искусства). – Минск, 200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ыко Ю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предмет «Знак» / Учебное пособие для учащихся старших классов. – М.: Пушкинский институт, 200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ыко Ю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предмет «Знание» / Учебное пособие для учащихся старших классов. – М.: Пушкинский институт, 200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ыко Н.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схематизации: Сборник сценариев для проведения уроков и тренингов / Учебно-методическое пособие для учащихся 10-11 классов. – М.. 2005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ОНЯТИЙНОЕ ПОЛ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едеятельностная педагог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ин из ведущих отечественных подходов к построению нового содержания образования, основывающийся на включении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льтурных способов и средств мышления и дея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дход, основанный на положениях мыследеятельностной педагог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категор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очные или парные категории, свойственные абстрактному мышл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традиционный учебный предмет, выстраиваемый вокруг определенной мыслительной организованности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бл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Рисунок 4" descr="Рисунок2.png"/>
          <p:cNvPicPr/>
          <p:nvPr/>
        </p:nvPicPr>
        <p:blipFill>
          <a:blip r:embed="rId1"/>
          <a:stretch/>
        </p:blipFill>
        <p:spPr>
          <a:xfrm>
            <a:off x="6715080" y="0"/>
            <a:ext cx="206064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АКТУАЛЬНОСТЬ МЕТАПРЕДМЕТНОГО ПОДХО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Содержимое 5" descr="Рисунок3.png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6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ТРЕБОВАНИЯ К СОВРЕМЕННЫМ СПЕЦИАЛИСТА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Содержимое 6" descr="Рисунок4.png"/>
          <p:cNvPicPr/>
          <p:nvPr/>
        </p:nvPicPr>
        <p:blipFill>
          <a:blip r:embed="rId1"/>
          <a:stretch/>
        </p:blipFill>
        <p:spPr>
          <a:xfrm>
            <a:off x="457200" y="1978200"/>
            <a:ext cx="7467480" cy="4117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"/>
          <p:cNvPicPr/>
          <p:nvPr/>
        </p:nvPicPr>
        <p:blipFill>
          <a:blip r:embed="rId2"/>
          <a:stretch/>
        </p:blipFill>
        <p:spPr>
          <a:xfrm>
            <a:off x="6424560" y="920880"/>
            <a:ext cx="2586240" cy="227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НЫЕ РЕЗУЛЬТАТЫ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(ПО А.Г. АСМОЛОВУ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57120" y="2285640"/>
            <a:ext cx="6786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результаты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 освоенные обучающимися универсальные учебные действия (познавательные, регулятивные и коммуникативные), обеспечивающие овладение ключевыми компетенциями, составляющими основу умения учитьс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6786720" y="1071720"/>
            <a:ext cx="21096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Ы (ПО А.В. ХУТОРСКОМУ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57120" y="1856880"/>
            <a:ext cx="822960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ое содержа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то, что предшествует учебному предмету, как бы находится за ним, существует до его конкретного проявления»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личие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даментального образовательного объект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метапредметов: 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ы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«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еде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Ы (ПО Ю.В. ГРОМЫКО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ы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редметы, отличные от предметов традиционного цикла. Они соединяют в себе идею предметности и одновременн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сти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5" descr="Картинка 3 из 64000"/>
          <p:cNvPicPr/>
          <p:nvPr/>
        </p:nvPicPr>
        <p:blipFill>
          <a:blip r:embed="rId1"/>
          <a:stretch/>
        </p:blipFill>
        <p:spPr>
          <a:xfrm>
            <a:off x="4067280" y="3343320"/>
            <a:ext cx="507672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ТАПРЕДМЕТЫ 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(ПО Ю.В. ГРОМЫКО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00040" y="1928880"/>
          <a:ext cx="8229600" cy="4389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диционный под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й под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важнейшими определениями учебного предмет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мысливание (а не запоминание) важнейших понятий учебного предме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сознание понятий и работа с ним в рамках учебного предме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ереоткрывание процесса возникновения того или другого знания одного учебного предме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ьзование способа переоткрывания знания на разном учебном материал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07:41Z</dcterms:created>
  <dc:creator>Лилия</dc:creator>
  <dc:description/>
  <dc:language>en-US</dc:language>
  <cp:lastModifiedBy>Admin</cp:lastModifiedBy>
  <dcterms:modified xsi:type="dcterms:W3CDTF">2011-11-15T16:06:07Z</dcterms:modified>
  <cp:revision>67</cp:revision>
  <dc:subject/>
  <dc:title>Метапредметный подход в образовании</dc:title>
</cp:coreProperties>
</file>