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DB5C-735C-4887-828F-C08845F9B8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5C29-7B7F-41A6-86B4-7C40751186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DBD0-9FF7-452F-A996-4BF4176C6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F7E1-F5D4-4683-BDA2-EB755C23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A197-2855-450D-B9B0-A36CBEC9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FFB3-36BC-4B0D-9961-6215117F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33E7-C17A-4B15-BDB5-1D87F21E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6CEA-1F45-4D81-9566-800E242D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9239-45E5-4DF0-B6CC-5B7524AF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801A-F851-408F-BDAD-69614CF8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AEC6-15BD-4351-8FCC-3A50FF3F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311F-A626-4F9D-9B60-DBB43C7A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CB89-C220-4A76-BB7C-134C4220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C5D4-7FF9-49AD-AC66-DF25EA24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DBAC-465C-443B-9FC4-C55895DE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5755-7646-40D6-9510-EC14FAFA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5F8B-9A04-41C5-B72A-96BF05DF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89F9-7B54-44EC-AF4A-825B240F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645D-A490-49B7-9F97-D0AC0DD8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4AFE3A-02D6-4B15-9DCB-8EC153A2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698D3-0CE6-4734-B198-367B6119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8719F0-9DFE-40BD-AC6F-84B7BA68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1A9754-8687-482C-AB24-47EA6E91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13CD19-1C33-49C1-B5C2-83692197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38B8-E68D-419A-947D-8BD3F1BF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4B210F-A773-4686-B5E6-51699D0B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C42D38-E236-4C21-B067-97F5CE11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6DCE32-B034-4C1B-8E74-D9B94683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2E1D6B-899E-43D7-AA38-FCB3EE5C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61250-FD44-44DE-AAC1-A6F6BA0A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FB6764-4F5F-4DA4-A8B0-1B7BA6DB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FC1DCD-8D96-44DC-844B-0A6F894E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76B4A-6F92-4DF6-ADB3-2491B87F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BFE18-439C-4CEF-9BCF-F20E5108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268BC-C34F-46D2-AA6C-FFB9F06B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85A-0FD8-4EC7-8237-F5883204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D69FF-AFB2-4DE5-94A0-418114D8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76F50-38FB-4BE1-8F8A-B2FAEB39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694E2-BDDD-47C5-BDDB-682E7A29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49CC3-4F10-40C2-9D36-0C8E1D7A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8AC3D-7356-491C-8867-749DED2A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0FE6C-85A6-4654-9D7C-599354D4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8A6AF-80B4-4361-B2FC-EB69CFF9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136D4-1AEC-4F97-97D9-FB631EEE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AF0D8-E461-447B-A300-861E93D3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0C169F-55BC-4F2B-915D-7EA47459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603A-2B3B-444E-B4CA-9BDE92B8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828F7C-2442-4E16-8333-BA6CF629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C8EE56-3DE8-4D31-8CCC-6869E532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1BF559-ED9E-42F7-8815-82A40BC7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A6EBD5-A774-41B3-AABC-70A844E4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504DA6-8A4C-4428-9763-CFEA8E19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909206-BA7C-465C-A8E5-A77B0EED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5ED941-932C-4892-9EA2-8B3E9B5B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ACF483-0AFE-4196-BC51-C22D13F9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731CE5-9C7A-43A2-A073-EA4D9A57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116C98-D827-447D-8CFE-53CE22A4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3415-7D10-4BC4-B8C0-6E597710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E61E96-9966-40D2-A92C-5F2B5BF4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134D3B-7425-4FA2-9D60-F4183C0F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F9B533-34C8-44FA-80C2-27B494A6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E6BD3A-0733-4A95-A789-77E67845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AB2265-E5EB-4198-8121-159BD9EF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D578B2-8060-47BB-8D93-5DA3255F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D4D4CC-6891-47F4-891B-3E199BA2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D5C002-1027-4861-8E19-70979A4F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854B4F-3100-40F9-8E4C-648D3928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0D6443-4711-4B68-B15F-ED933A2B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6980-DF75-41F3-A0A6-9E9E45EE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C82BD0-EC6F-4F52-80EB-B7C91A46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6F18BC-BCF2-44FA-9B14-BA5E6A7C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BBB6C7-0B30-4281-B85F-6CCE5E71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031976-5732-4446-A39D-A938CF5B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B503A9-A295-40FD-8AD6-0960CCBB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647F09-FB45-423E-8FEC-A9694AFE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F02B41-AEC4-41C6-9BB2-49F2454C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DE2466-80D9-49ED-9D49-7565F188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BDBFEF-90F1-412E-9C1A-C3B5A401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3CDD9D-42C8-4184-9DED-06F04DF7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5C77-49F5-4471-806A-D84C78F3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CC3DFE-6264-4529-BB79-0FEC23A5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6E1DB2-E06B-4B03-B186-FF13871A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6C650D-4373-4273-9118-26D07A1B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6775FC-F9FC-4E52-937F-51FE95456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B1DB0B-403C-4958-B3B4-E2837C5E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57CC-6CEB-43C1-A297-B6A82513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D8AC-F9EE-4305-8311-57AC36C8128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6B52-8F97-45B3-A05C-A61DA8241DF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6B41-329F-46A8-B8CE-B086B15A1E8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DEF3-98A6-4A2F-BD89-43C1CAD25A6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7321-B1B0-4E1F-AE32-174DCBDF536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97DD-B5BA-4A14-A3B8-C10FB8150C2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C9AD-4D4F-46C9-AE46-3693F184D84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implepastimes.com/prod_images_blowup/151-WORL_hire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600" y="9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МЕТАПРЕДМЕТНЫЙ </a:t>
            </a:r>
            <a:br>
              <a:rPr sz="3000"/>
            </a:br>
            <a:r>
              <a:rPr b="1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ПОДХОД В ОБРАЗОВАНИ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714560" y="4285800"/>
            <a:ext cx="4143240" cy="13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7" descr="Картинка 626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2928960"/>
            <a:ext cx="428616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МЕТАПРЕДМЕТЫ 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(ПО Ю.В. ГРОМЫКО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57120" y="1928520"/>
            <a:ext cx="85010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определённый взгляд на интегративность и на то, как она может выстраиваться в соответствии с двумя позиция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. Материал переорганизуется в соответствии с логикой развития какой-то конкретной организованности (знания, знака, проблемы, задачи), которая надпредметна и носит универсальный характер (отсюда и название метапредметов – «Знание», «Знак», «Проблема», «Задача»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. Обычный учебный материал переорганизуется в соответствии с логикой формирования определенных способностей, позволяющих работать с той или другой организованность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МЕТАПРЕДМЕТ «ЗНАК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сновная задача метапредмет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Знак»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ирование у школьников способности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хематизаци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2" descr="G:\Метапредметность\Диск для Неволиной\МД_диск\images\Знак.jpg"/>
          <p:cNvPicPr/>
          <p:nvPr/>
        </p:nvPicPr>
        <p:blipFill>
          <a:blip r:embed="rId1"/>
          <a:stretch/>
        </p:blipFill>
        <p:spPr>
          <a:xfrm>
            <a:off x="6715080" y="3143160"/>
            <a:ext cx="2143080" cy="29606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Картинка 13 из 8466"/>
          <p:cNvPicPr/>
          <p:nvPr/>
        </p:nvPicPr>
        <p:blipFill>
          <a:blip r:embed="rId2"/>
          <a:stretch/>
        </p:blipFill>
        <p:spPr>
          <a:xfrm>
            <a:off x="3071880" y="4643280"/>
            <a:ext cx="2903400" cy="19558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Картинка 25 из 8466"/>
          <p:cNvPicPr/>
          <p:nvPr/>
        </p:nvPicPr>
        <p:blipFill>
          <a:blip r:embed="rId3"/>
          <a:stretch/>
        </p:blipFill>
        <p:spPr>
          <a:xfrm>
            <a:off x="1714680" y="2643120"/>
            <a:ext cx="3862080" cy="2189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0" descr="Картинка 70 из 6011"/>
          <p:cNvPicPr/>
          <p:nvPr/>
        </p:nvPicPr>
        <p:blipFill>
          <a:blip r:embed="rId4"/>
          <a:stretch/>
        </p:blipFill>
        <p:spPr>
          <a:xfrm>
            <a:off x="0" y="4459320"/>
            <a:ext cx="2500200" cy="2398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МЕТАПРЕДМЕТ «ЗНАНИЕ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задача метапредме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нание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и работать с понятиям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4" descr="G:\Метапредметность\Диск для Неволиной\МД_диск\images\Знание.jpg"/>
          <p:cNvPicPr/>
          <p:nvPr/>
        </p:nvPicPr>
        <p:blipFill>
          <a:blip r:embed="rId1"/>
          <a:stretch/>
        </p:blipFill>
        <p:spPr>
          <a:xfrm>
            <a:off x="6578640" y="2786040"/>
            <a:ext cx="2136600" cy="29289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http://www.clas.ufl.edu/users/jrea/penelopeodysseus3628.jpg"/>
          <p:cNvPicPr/>
          <p:nvPr/>
        </p:nvPicPr>
        <p:blipFill>
          <a:blip r:embed="rId2"/>
          <a:srcRect l="0" t="0" r="0" b="6250"/>
          <a:stretch/>
        </p:blipFill>
        <p:spPr>
          <a:xfrm>
            <a:off x="2714760" y="4143240"/>
            <a:ext cx="3779640" cy="2500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http://turcija.dljavseh.ru/src/images/Turcija_129.GIF"/>
          <p:cNvPicPr/>
          <p:nvPr/>
        </p:nvPicPr>
        <p:blipFill>
          <a:blip r:embed="rId3"/>
          <a:stretch/>
        </p:blipFill>
        <p:spPr>
          <a:xfrm>
            <a:off x="357120" y="3071880"/>
            <a:ext cx="2857680" cy="2751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МЕТАПРЕДМЕТ «ПРОБЛЕМА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714240" y="2356920"/>
            <a:ext cx="485784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задача метапредме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блема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школьников собственной позиции относительно данного событ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Picture 3" descr="G:\Метапредметность\Диск для Неволиной\МД_диск\images\Проблема.jpg"/>
          <p:cNvPicPr/>
          <p:nvPr/>
        </p:nvPicPr>
        <p:blipFill>
          <a:blip r:embed="rId1"/>
          <a:stretch/>
        </p:blipFill>
        <p:spPr>
          <a:xfrm>
            <a:off x="5715000" y="2214720"/>
            <a:ext cx="294336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МЕТАПРЕДМЕТ «ЗАДАЧА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задача метапредме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дача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ешение школьниками разных задач и освоение способов их реш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5" descr="Картинка 1 из 64000"/>
          <p:cNvPicPr/>
          <p:nvPr/>
        </p:nvPicPr>
        <p:blipFill>
          <a:blip r:embed="rId1"/>
          <a:stretch/>
        </p:blipFill>
        <p:spPr>
          <a:xfrm>
            <a:off x="2357280" y="3048120"/>
            <a:ext cx="454356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ВЫВОД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современной педагогике существуют три взгляда на метапредметность в образован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апредметы могут быть представлены в двух формах: как «связки» между предметами и как отдельные учебные курс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основе метапредметного подхода положение: знания об объектах не сообщаются ученику в виде готового материала, а добываются каждым ученико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50104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ОСОБЕННОСТИ МЕТАПРЕДМЕТНОГО ЗАНЯТ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интегрированное занят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6" name="Picture 9" descr="1219181670_scienceicons"/>
          <p:cNvPicPr/>
          <p:nvPr/>
        </p:nvPicPr>
        <p:blipFill>
          <a:blip r:embed="rId1"/>
          <a:stretch/>
        </p:blipFill>
        <p:spPr>
          <a:xfrm>
            <a:off x="4429080" y="2428920"/>
            <a:ext cx="4065480" cy="4071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010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ОСОБЕННОСТИ МЕТАПРЕДМЕТНОГО ЗАНЯТ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еятельности учащихся не с целью передачи им знаний, а с целью им передачи способов работы со знанием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439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ОСОБЕННОСТИ МЕТАПРЕДМЕТНОГО ЗАНЯТ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составляют деятельностные единицы, носящие универсальный характер:  понятия, модели, схемы, задачи, проблемы и т.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1" name="Picture 24" descr="12755"/>
          <p:cNvPicPr/>
          <p:nvPr/>
        </p:nvPicPr>
        <p:blipFill>
          <a:blip r:embed="rId1"/>
          <a:stretch/>
        </p:blipFill>
        <p:spPr>
          <a:xfrm>
            <a:off x="4071960" y="3500280"/>
            <a:ext cx="4724280" cy="3119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ОСОБЕННОСТИ МЕТАПРЕДМЕТНОГО ЗАНЯТ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ая работа со способом: если ученик освоил решение задач на три параметра в математике, учитель даёт ему решение задачи этого же типа, но из химии или физи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ПОНЯТИЙНОЕ ПОЛ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Прямоугольник 4"/>
          <p:cNvSpPr/>
          <p:nvPr/>
        </p:nvSpPr>
        <p:spPr>
          <a:xfrm>
            <a:off x="7000920" y="27147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В. Давы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3" descr="Давыдов"/>
          <p:cNvPicPr/>
          <p:nvPr/>
        </p:nvPicPr>
        <p:blipFill>
          <a:blip r:embed="rId1"/>
          <a:stretch/>
        </p:blipFill>
        <p:spPr>
          <a:xfrm>
            <a:off x="7429680" y="428760"/>
            <a:ext cx="1223640" cy="2114280"/>
          </a:xfrm>
          <a:prstGeom prst="rect">
            <a:avLst/>
          </a:prstGeom>
          <a:ln w="0">
            <a:noFill/>
          </a:ln>
        </p:spPr>
      </p:pic>
      <p:pic>
        <p:nvPicPr>
          <p:cNvPr id="364" name="Содержимое 6" descr="Рисунок1.png"/>
          <p:cNvPicPr/>
          <p:nvPr/>
        </p:nvPicPr>
        <p:blipFill>
          <a:blip r:embed="rId2"/>
          <a:stretch/>
        </p:blipFill>
        <p:spPr>
          <a:xfrm>
            <a:off x="457200" y="1971720"/>
            <a:ext cx="7467480" cy="413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ОСОБЕННОСТИ МЕТАПРЕДМЕТНОГО ЗАНЯТ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умчивая работа с понятие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6" name="Picture 5" descr="Картинка 79 из 64000"/>
          <p:cNvPicPr/>
          <p:nvPr/>
        </p:nvPicPr>
        <p:blipFill>
          <a:blip r:embed="rId1"/>
          <a:stretch/>
        </p:blipFill>
        <p:spPr>
          <a:xfrm>
            <a:off x="3714840" y="2643120"/>
            <a:ext cx="428616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ОСОБЕННОСТИ МЕТАПРЕДМЕТНОГО ЗАНЯТ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должен хорошо знать свой предмет и его возмож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9" name="Picture 16" descr="teacher"/>
          <p:cNvPicPr/>
          <p:nvPr/>
        </p:nvPicPr>
        <p:blipFill>
          <a:blip r:embed="rId1"/>
          <a:stretch/>
        </p:blipFill>
        <p:spPr>
          <a:xfrm>
            <a:off x="4857840" y="2857680"/>
            <a:ext cx="3757680" cy="3481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ОСОБЕННОСТИ МЕТАПРЕДМЕТНОГО ЗАНЯТ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071960" y="1999800"/>
            <a:ext cx="465768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ация на развитие базовых способностей: мышления, воображения, целеполагания, понимания, действ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2" name="Picture 5" descr="Картинка 135 из 64000"/>
          <p:cNvPicPr/>
          <p:nvPr/>
        </p:nvPicPr>
        <p:blipFill>
          <a:blip r:embed="rId1"/>
          <a:stretch/>
        </p:blipFill>
        <p:spPr>
          <a:xfrm>
            <a:off x="285840" y="1571760"/>
            <a:ext cx="3589200" cy="450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ОСОБЕННОСТИ МЕТАПРЕДМЕТНОГО ЗАНЯТ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приёмы и соответствующие им формы: неделя метапредметного осознания, рефлексивная остановка, выстраивание личной учебной стратегии, коллективная игра в мыслительный эксперимен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ПРИМЕРЫ МЕТАПРЕДМЕТНЫХ КАТЕГОРИЙ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ределение и понят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09040" indent="-5090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исунок и схем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09040" indent="-5090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нание и информац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09040" indent="-5090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ль и задач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09040" indent="-5090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оль и позиц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09040" indent="-5090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одель и спосо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09040" indent="-5090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держание и форм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09040" indent="-5090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нание и незна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09040" indent="-5090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рядок и хао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09040" indent="-5090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менение и развит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09040" indent="-5090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стое и сложно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ЛИТЕРАТУР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торской А.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тапредмет «Мироведение»: Экспериментальный интегрированный курс. Пособие для учителя. - Черноголовка, 1993. - 70 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торской А.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тапредмет «Числа»: Экспериментальный интегрированный курс. - Черноголовка, 1994. - 68 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мыко Ю.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тапредмет «Проблема» / Учебное пособие для учащихся старших классов. – М., 1998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ЛИТЕРАТУР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мыко Ю.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ыследеятельностная педагогика (теоретико-практическое руководство по совоению высших образцов педагогического искусства). – Минск, 2000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мыко Ю.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тапредмет «Знак» / Учебное пособие для учащихся старших классов. – М.: Пушкинский институт, 2001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мыко Ю.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тапредмет «Знание» / Учебное пособие для учащихся старших классов. – М.: Пушкинский институт, 2001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мыко Н.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ение схематизации: Сборник сценариев для проведения уроков и тренингов / Учебно-методическое пособие для учащихся 10-11 классов. – М.. 2005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ПОНЯТИЙНОЕ ПОЛ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следеятельностная педагог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дин из ведущих отечественных подходов к построению нового содержания образования, основывающийся на включении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ультурных способов и средств мышления и деятель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ный подх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дход, основанный на положениях мыследеятельностной педагоги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ные категор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иночные или парные категории, свойственные абстрактному мышлен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традиционный учебный предмет, выстраиваемый вокруг определенной мыслительной организованности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бле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Рисунок 4" descr="Рисунок2.png"/>
          <p:cNvPicPr/>
          <p:nvPr/>
        </p:nvPicPr>
        <p:blipFill>
          <a:blip r:embed="rId1"/>
          <a:stretch/>
        </p:blipFill>
        <p:spPr>
          <a:xfrm>
            <a:off x="6715080" y="0"/>
            <a:ext cx="206064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АКТУАЛЬНОСТЬ МЕТАПРЕДМЕТНОГО ПОДХОД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Содержимое 5" descr="Рисунок3.png"/>
          <p:cNvPicPr/>
          <p:nvPr/>
        </p:nvPicPr>
        <p:blipFill>
          <a:blip r:embed="rId1"/>
          <a:stretch/>
        </p:blipFill>
        <p:spPr>
          <a:xfrm>
            <a:off x="457200" y="1603440"/>
            <a:ext cx="7467480" cy="4867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ТРЕБОВАНИЯ К СОВРЕМЕННЫМ СПЕЦИАЛИСТАМ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1" name="Содержимое 6" descr="Рисунок4.png"/>
          <p:cNvPicPr/>
          <p:nvPr/>
        </p:nvPicPr>
        <p:blipFill>
          <a:blip r:embed="rId1"/>
          <a:stretch/>
        </p:blipFill>
        <p:spPr>
          <a:xfrm>
            <a:off x="457200" y="1978200"/>
            <a:ext cx="7467480" cy="41176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"/>
          <p:cNvPicPr/>
          <p:nvPr/>
        </p:nvPicPr>
        <p:blipFill>
          <a:blip r:embed="rId2"/>
          <a:stretch/>
        </p:blipFill>
        <p:spPr>
          <a:xfrm>
            <a:off x="6424560" y="920880"/>
            <a:ext cx="2586240" cy="2273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МЕТАПРЕДМЕТНЫЕ РЕЗУЛЬТАТЫ 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(ПО А.Г. АСМОЛОВУ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57120" y="2285640"/>
            <a:ext cx="67867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ные результаты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ют освоенные обучающимися универсальные учебные действия (познавательные, регулятивные и коммуникативные), обеспечивающие овладение ключевыми компетенциями, составляющими основу умения учиться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2" descr="Картинка 1 из 196"/>
          <p:cNvPicPr/>
          <p:nvPr/>
        </p:nvPicPr>
        <p:blipFill>
          <a:blip r:embed="rId1"/>
          <a:stretch/>
        </p:blipFill>
        <p:spPr>
          <a:xfrm>
            <a:off x="6786720" y="1071720"/>
            <a:ext cx="2109600" cy="3257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МЕТАПРЕДМЕТЫ (ПО А.В. ХУТОРСКОМУ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57120" y="1856880"/>
            <a:ext cx="8229600" cy="42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ное содержание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есть то, что предшествует учебному предмету, как бы находится за ним, существует до его конкретного проявления»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личие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даментального образовательного объект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метапредметов: «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«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ы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«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«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оведение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МЕТАПРЕДМЕТЫ (ПО Ю.В. ГРОМЫКО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ы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предметы, отличные от предметов традиционного цикла. Они соединяют в себе идею предметности и одновременно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ости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5" descr="Картинка 3 из 64000"/>
          <p:cNvPicPr/>
          <p:nvPr/>
        </p:nvPicPr>
        <p:blipFill>
          <a:blip r:embed="rId1"/>
          <a:stretch/>
        </p:blipFill>
        <p:spPr>
          <a:xfrm>
            <a:off x="4067280" y="3343320"/>
            <a:ext cx="5076720" cy="351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МЕТАПРЕДМЕТЫ 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(ПО Ю.В. ГРОМЫКО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500040" y="1928880"/>
          <a:ext cx="8229600" cy="4389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адиционный подх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тапредметный подх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омство с важнейшими определениями учебного предмет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омысливание (а не запоминание) важнейших понятий учебного предмет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сознание понятий и работа с ним в рамках учебного предмет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ереоткрывание процесса возникновения того или другого знания одного учебного предмет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Использование способа переоткрывания знания на разном учебном материал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3:07:41Z</dcterms:created>
  <dc:creator>Лилия</dc:creator>
  <dc:description/>
  <dc:language>en-US</dc:language>
  <cp:lastModifiedBy>Admin</cp:lastModifiedBy>
  <dcterms:modified xsi:type="dcterms:W3CDTF">2011-11-15T16:06:07Z</dcterms:modified>
  <cp:revision>67</cp:revision>
  <dc:subject/>
  <dc:title>Метапредметный подход в образовании</dc:title>
</cp:coreProperties>
</file>