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BE5-29FE-4698-986A-9AB49711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2E0-9E26-4150-9429-783D4811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23F-5E7A-495F-AB42-F51EBDEC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3DA-518D-4231-AFA5-946CB98D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A41B-4575-4F6C-81D1-4C1A335F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566-8C1B-4D22-B48F-34D1F44B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BD1-8BEF-400F-951B-6763BA5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9E8E-6C7D-4667-B4E5-2E256C0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31D0-B5E6-4A26-B1F8-E547C28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6E75-287C-44AD-9C0A-3920F2B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758B-EB1A-4797-8FBB-F535AD3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A20-F5E1-4C9D-84F2-3477F58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5CD3-0C94-4FC6-B0E0-E51EB9C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239-1FE6-4A8F-8FF8-046CB00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1825-A4B4-4E50-8967-8C1316B0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A7EC-F918-4819-B45B-C59A89B6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1E1B-6351-4875-81E7-34D985DD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4D68-098E-4E5A-A032-EB572E61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CCF9-1CC6-42F5-B40B-873E7EFF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37D1-B69B-4474-8A13-D5DB2C3C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EBB1-2F41-42F8-B838-C3112038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8EC2-40E4-4CDF-A3FE-E8AA475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65F-7033-4900-A826-A9625D17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4E3A-87D5-41B6-9967-91CB240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F791-108D-4194-8D22-0FBB851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7C25-FEF2-47DD-960E-81BA51B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3047-E8C8-4647-AA64-1AB211E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CCF0-94DD-4A7E-B8CD-271E2612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6A91-70AD-41E2-8551-BE9F6DF4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7708-37C3-455C-8808-3A88F85C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135A-5A19-47A5-8FBF-DBB4482C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2114-EC67-40B4-98D4-EFE66B8F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DF64-184A-4741-A634-040F571D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2B6-97F3-4F2B-BC3D-8FB858C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0E11-76F8-4C49-A911-0335E22A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98A8-8AC0-45B4-8D69-C7B0319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2AA4-8860-42F5-8070-74C8D0C6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AA46-B81A-4AF3-BCDD-8A4379D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C5F1-B2FE-4FA0-8A14-2FD96DF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AEDAD-78BE-4006-96AD-18360B7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F25B-9069-4D7C-9DA6-BE9C8C75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2487-D300-499D-9AA0-A91AA972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387C-A9F8-4091-A9A1-D03264CF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05C5-F798-487C-A97E-BD376CAA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C95-431F-485C-81BB-4E17718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E13E-7A64-4D11-BE08-40CB4655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668E-CFA0-4904-A9DA-9C738F45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CB22-8729-4467-AA6A-EB34F53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089B-AAD9-462D-9601-222216AC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B188-D197-481F-B2D4-0643E3A0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C94F-12E1-4F68-8547-5FB7C2C5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765E-766D-4923-BBFE-FA0C6092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C10E-6D50-4DB8-878F-1851DD6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02E4-BE98-4868-96AE-66885C7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0CBB-70DE-4AFE-8B4B-9366267F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6F8-E3F6-4CC0-B59E-26AE5EFE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900D-799E-4A15-B322-6119F97A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F47-009C-4A72-8988-6E6B8F5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5B8-D811-463A-B7BD-1736DEF0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844-68FA-4561-AA8C-7A0514A7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66B-3D47-444F-83E9-C072EB8DFFA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0EB7-0E60-4971-A3F3-64780C379A0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38D-E4B9-4EF5-A5BE-D0F2756A69D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E46E-D900-44D2-BBF7-8627BB46FE1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165-82EE-4D7D-8901-717B9FECBA2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164040" y="365040"/>
            <a:ext cx="5711760" cy="3043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http://ladyflower.ru/uploads/posts/2011-04/1301653147_1273907606_1.jpg"/>
          <p:cNvPicPr/>
          <p:nvPr/>
        </p:nvPicPr>
        <p:blipFill>
          <a:blip r:embed="rId2"/>
          <a:stretch/>
        </p:blipFill>
        <p:spPr>
          <a:xfrm>
            <a:off x="0" y="4000680"/>
            <a:ext cx="2714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20840" y="171360"/>
            <a:ext cx="7254720" cy="1481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мочь учащимся осознать необходимость получения новых знан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звивать ответственность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ддерживать уверенность учащихся в собственных силах, вырабатывая позитивную самооценк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шение проблемных ситуац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пользование исследовательского подхода при изучении учебного материал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вязь учебной информации с жизненным опытом учащихс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рганизация сотрудничества, использование командных форм работы и методов деятельности, построенных на соревновании с периодической сменой состава групп; позитивное эмоциональное подкрепление, индивидуальная и групповая работа над проекта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20840" y="328680"/>
            <a:ext cx="7254720" cy="139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пражнение для повышения мотивации к уче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Пиктограмма, или Пляшущие человечки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93560" y="96840"/>
            <a:ext cx="7358040" cy="14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457200" y="1609560"/>
          <a:ext cx="7238880" cy="525312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642600">
                <a:tc gridSpan="4">
                  <a:txBody>
                    <a:bodyPr lIns="80280" rIns="802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тапы формирования положительного отношения к у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430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содержанию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ее легкий занимательный материал, независимо от его важности, значи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ый материал, касающийся сущности изуч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енный, важный, но не привлекательный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982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роцессу учения (усвоения знан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ет учитель – ученик только восприним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м остается учитель, ученик участвует в отдельных звеньях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м становится ученик, учитель участвует в отдельных звеньях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534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себе, своим си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ение успехов в учебе, не требующей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ение успехов в работе, требующей некоторых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ение успехов в работе, требующий значительных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982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учителю (коллектив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нутая объективность, нейтр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желательность, внимание, личное расположение, помощь, с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суждения наряду с доброжелательностью, помощью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500040" y="-6480"/>
            <a:ext cx="83757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357120" y="826920"/>
          <a:ext cx="8229600" cy="6031080"/>
        </p:xfrm>
        <a:graphic>
          <a:graphicData uri="http://schemas.openxmlformats.org/drawingml/2006/table">
            <a:tbl>
              <a:tblPr/>
              <a:tblGrid>
                <a:gridCol w="2643120"/>
                <a:gridCol w="5586480"/>
              </a:tblGrid>
              <a:tr h="371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помощи в учен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3669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дготовленности уча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атмосферы особой доброжелательности при опрос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темпа опроса, разрешение дольше готовиться у дос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учащимся примерного плана отв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ие пользоваться наглядными пособиями, помогающими излагать суть явл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ование оценкой, подбадриванием, похвал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857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 нового материа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ание интереса слабоуспевающих учеников с помощью вопросов, выявляющих степень понимания ими учебного материал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х в качестве помощников при подготовке приборов, опытов и т. 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к высказыванию предложений при проблемном обучении, к выводам и обобщениям или объяснению сути проблемы, высказанной сильным ученик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21193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учащихся на урок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ивка заданий на дозы, этапы, выделение в сложных заданиях ряда простых, ссылка на аналогичное задание, выполненное ране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инание приема и способа выполнения зада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необходимость актуализировать то или иное правило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ылка на правила и свойства, которые необходимы для решения задач, упражне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ирование о рациональных путях выполнения заданий, требованиях к их оформлен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ование самостоятельных действий слабоуспевающи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тщательный контроль их деятельности, указание на ошибки, проверка, исправ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875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амостоятельной работы вне класс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для групп слабоуспевающих наиболее рациональной системы упражнений, а не механическое увеличение их числ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подробное объяснение последовательности выполнения зада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преждение о возможных затруднениях, использование карточек-консультаций, карточек с направляющим планом действ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7570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428760" y="1309680"/>
          <a:ext cx="7238880" cy="5548320"/>
        </p:xfrm>
        <a:graphic>
          <a:graphicData uri="http://schemas.openxmlformats.org/drawingml/2006/table">
            <a:tbl>
              <a:tblPr/>
              <a:tblGrid>
                <a:gridCol w="2487600"/>
                <a:gridCol w="4751280"/>
              </a:tblGrid>
              <a:tr h="369720"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ы в обуч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246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дготовленности учащих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 контролировать усвоение вопросов, обычно вызывающих у учащихся наибольшее затруднение. Тщательно анализировать и систематизировать ошибки, допускаемые учениками в устных ответах, письменных работах, выявить типичные для класса и концентрировать внимание на их устранении. Контролировать усвоение материала учениками, пропустившими предыдущие уроки. В конце темы или раздела обобщить итоги усвоения основных понятий, законов, правил, умений и навыков, выявить причины отста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95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проверять в ходе урока степень понимания учащимися основных элементов излагаемого материала. Стимулировать вопросы со стороны учащихся при затруднениях в усвоении учебного материала. Применять средства поддержания интереса к усвоению знаний. Обеспечивать разнообразие методов обучения, позволяющих всем учащимся активно усваивать матери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95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учащихся на уро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ирать для самостоятельной работы задания по наиболее существенным, сложным и трудным разделам учебного материала. Стремиться меньшим числом упражнений, но поданных в определенной системе достичь большего эффекта. Включать в содержание самостоятельной работы упражнения по устранению ошибок, допущенных при отве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95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письменных работах. Инструктировать о порядке выполнения работы. Стимулировать постановку вопросов к учителю при затруднениях в самостоятельной работе. Умело оказывать помощь ученикам в работе, всемерно развивать их самостоятельность. Учить умениям планировать работу, выполняя ее в должном темпе, и осуществлять контр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246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амостоятельной работы вне клас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ть в ходе домашней работы повторение пройденного, концентрируя внимание на наиболее существенных элементах программы, вызывающих обычно наибольшие затруднения. Систематически давать домашние задания по работе над типичными ошибками. Четко инструктировать учащихся о порядке выполнения домашних работ, проверять понимание этих инструкций школьниками. Согласовывать объем домашних заданий с другими учителями класса, исключая перегрузку, особенно слабоуспевающих уче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6327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57200" y="1609560"/>
          <a:ext cx="7238880" cy="4761000"/>
        </p:xfrm>
        <a:graphic>
          <a:graphicData uri="http://schemas.openxmlformats.org/drawingml/2006/table">
            <a:tbl>
              <a:tblPr/>
              <a:tblGrid>
                <a:gridCol w="4184640"/>
                <a:gridCol w="3054240"/>
              </a:tblGrid>
              <a:tr h="371520"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5916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контрольного среза знаний учащихся класса по основным разделам учебного материала предыдущих лет обучения. Цел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фактического уровня знаний дете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в знаниях учеников пробелов, которые требуют быстрой ликви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6040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становление причин неуспеваемости учащихся через встречи с родителями, беседы со школьными специалистами: классным руководителем, психологом, врачом, логопедом и обязательно с самим ребе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3956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ставление индивидуального плана работы по ликвидации пробелов в знаниях отстающего ученика на текущую четвер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, далее корректировать по мер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508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пользование дифференцированного подхода при организации самостоятельной работы на уроке. Включение посильных индивидуа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399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едение тематического учета знаний слабоуспевающих учащихся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3956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рганизация индивидуальной работы со слабым учеником учителями-предметни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7255080" cy="1481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Ф.И.О. ученика 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Класс 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По каким предметам не успевает 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Поведение ученика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Причины, которые привели к плохой успеваемости 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Какие средства (дидактические, воспитательные, учебные, внеклассные, дополнительные занятия) используются в работе с учеником 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Кто привлечен к работе по преодолению неуспеваемости ученика 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Сколько времени длится эта работа 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9. Какие изменения наблюдаются, есть ли результаты работы 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28680" y="-23760"/>
            <a:ext cx="8407440" cy="1388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1. "Не бить лежачего"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ценку своих знаний учащийся уже получил и ждет спокойной помощи, а не новых упреков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2. Не более одного недостатка в минуту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збавляя человека от недостатков, знайте меру. Иначе человек станет нечувствительным к вашим оценкам. По возможности выберите из множества недостатков тот, который особенно непереносим, который хотите ликвидировать в первую очередь, и помогайте бороться с ним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3. "За двумя зайцами погонишься…"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чните с ликвидации тех учебных трудностей, которые в первую очередь значимы для самого учащегося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4. Хвалить исполнителя, критиковать исполнение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ценка должна иметь точный адрес. Критика должна быть как можно более безличной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5. Сравнивайте сегодняшние успехи учащегося с его собственными вчерашними неудачам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Даже самый малый успех – это победа над собой, и она должна быть замечена и оценена по заслугам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6. Не скупитесь на похвалу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ыделите из потока неудач крошечный островок, соломинку успеха, и возникнет плацдарм, с которого можно вести наступление на незнание и неумение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7. Техника оценочной безопасност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ценивать деятельность дробно, дифференцированно. Возникает деловая мотивация учения: "Еще не знаю, но могу и хочу знать"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8. Ставьте перед учащимися предельно конкретные и реальные цел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е искушайте его невыполнимыми целями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9. Учащийся не объект, а соучастник оценк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мение оценивать себя самостоятельно – главное средство преодоления учебных трудностей. Приучение к самооценке начните с ее дифференциации. Отдельной отметки заслуживают красота, скорость выполнения работ, ошибки за невнимание и ошибки "на правила", своевременное выполнение задания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10. Сравнивайте достижения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457200" y="1609560"/>
          <a:ext cx="7238880" cy="35211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621000"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ронически неуспевающие дети (по физиологическим причин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ти, неуспевающие по отдельным учебным дисциплинам (по социальным причин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чащиеся с несформированной учебной деятель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90016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я воспринимают невнимательно, часто их  не понимают, но вопросы учителю не задают, разъяснений не просят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работают пассивно, постоянно нуждаются в стимулах для перехода к очередным видам работы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не имеют постоянной цели, не планируют и не организовывают свою работу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работают очень вяло, либо постепенно снижают темп, уставая раньше других детей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индифферентно относятся к результатам собственной работы, к познавательному труду в цело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с относительно высоким уровнем развития мыслительной деятельности, но с отрицательным отношением к учению: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 связи с частичной или полной утратой позиции школьника по причине непонимания отдельного предмета или группы учебных дисциплин (точных, гуманитарных и т.п.) или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 результате отсутствия необходимых условий: неблагополучная семья, плохое здоровье, отсутствие адекватного педагогического сопровожд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спевающие учащиеся, для которых характерно низкое качество мыслительной деятельности (по физиологическим причинам) при положительном отношении к учению и сохранении позиции школьника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неуспевающие учащиеся, для которых характерно как низкое, так и высокое качество мыслительной деятельности при отрицательном отношении к учению и полной утрате позиции школьника, проявляющееся в стремлении оставить школ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457200" y="1609560"/>
          <a:ext cx="7238880" cy="45928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371520"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гд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чем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то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к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19708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на уро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  выявлении стадии развития, на которой находится ученик, определении зоны его ближайшего развития посредством регулярного мониторинга, диагност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предотвращения отставания,  своевременного усвоения предме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Создание микроклимата в классе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Алгоритмизация действий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держание интереса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Формирование мотивации к обучению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Стимулирование оценкой, похвало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Вести карту наблюдения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Работа в группах,  парах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Индивидуальные консультаци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Уроки коррекции знаний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Опорные конспекты, памятк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Дидактические игр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02428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урочная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возникновении затруднений: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 изучении нового материала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ыявлении пробелов в знания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: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предупреждения неуспеваемости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ликвидации выявленных пробелов в знаниях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формирования мотивации, интереса к уч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оличностный подход в работе со слабоуспевающими и неуспевающими учащими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дивидуальные и групповые консультаци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Оказание помощи при выполнении домашнего задания (карточки инструкции, помощь сильных учеников)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Творческие зада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же такое неуспеваем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чины неуспеваем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явления неуспеваем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стема работы с неуспевающими детьм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6" descr="http://www.mk.ru/upload/iblock/df2/df21a0ce22619b8801a2e4d78ad31b94.jpg"/>
          <p:cNvPicPr/>
          <p:nvPr/>
        </p:nvPicPr>
        <p:blipFill>
          <a:blip r:embed="rId2"/>
          <a:stretch/>
        </p:blipFill>
        <p:spPr>
          <a:xfrm>
            <a:off x="285840" y="4214880"/>
            <a:ext cx="3238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759456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457200" y="1609560"/>
          <a:ext cx="7238880" cy="31705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132264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спитательная раб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гулярно, опираясь на контроль со стороны учителей предметни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ля формирования личности школьника, мотивации, интереса к уч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дивидуально-личностный подход, создание комфортной сред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Вовлечение в кружки, КТД.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Проведение тематических классных часов, предметных недель.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Опора на хобб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84788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отставании в учебе, пропусках занятий, невыполнении домашних заданий, несоответствующей обстановке в классе, семье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ведется регулярн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оказания профессиональнопедагогической помощи родителям; выяснения причин неуспеваемости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ановления единых требова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ение типа ученика и причин неуспеваемости. Формирование как внутренних, так и внешних  мотивов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мощь родителям в коррекции успеваемости ребен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еские родительские собрания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ая и коррекционная работа с родителям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т профилакт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i.obozrevatel.ua/16/1196847/693865.jpg"/>
          <p:cNvPicPr/>
          <p:nvPr/>
        </p:nvPicPr>
        <p:blipFill>
          <a:blip r:embed="rId2"/>
          <a:stretch/>
        </p:blipFill>
        <p:spPr>
          <a:xfrm>
            <a:off x="285840" y="2166840"/>
            <a:ext cx="67150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static.etoya.ru/files/images/imgsng/part_0/1829/src/%D0%94%D0%B2%D0%BE%D0%B5%D1%87%D0%BD%D0%B8%D0%BA%20%D0%B8%20%D0%BE%D1%82%D0%BB%D0%B8%D1%87%D0%BD%D0%B8%D1%86%D0%B0.jpg"/>
          <p:cNvPicPr/>
          <p:nvPr/>
        </p:nvPicPr>
        <p:blipFill>
          <a:blip r:embed="rId1"/>
          <a:srcRect l="0" t="0" r="0" b="12614"/>
          <a:stretch/>
        </p:blipFill>
        <p:spPr>
          <a:xfrm>
            <a:off x="0" y="4286160"/>
            <a:ext cx="3624120" cy="2571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7400880" cy="1159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c64"/>
                </a:solidFill>
                <a:latin typeface="Trebuchet MS"/>
              </a:rPr>
              <a:t>Неуспеваемость – это отставание в учении, при котором за отведенное время учащийся не овладевает на удовлетворительном уровне знаниями, предусмотренными учебной программой, а также весь комплекс проблем, который может сложиться у ребенка в связи с систематическим обучени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725508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42920" y="5357880"/>
          <a:ext cx="7572240" cy="1380960"/>
        </p:xfrm>
        <a:graphic>
          <a:graphicData uri="http://schemas.openxmlformats.org/drawingml/2006/table">
            <a:tbl>
              <a:tblPr/>
              <a:tblGrid>
                <a:gridCol w="3863880"/>
                <a:gridCol w="37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блема слабого развития волевой сферы у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42920" y="1214280"/>
          <a:ext cx="7572240" cy="417852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нутренни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циальные, т. е. снижение ценности образования в обществе, нестабильность существующей образовательн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фекты здоровья школьников, вызванные резким ухудшением уровня материального благосостояния сем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совершенство организации учебного процесса на мест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кое развитие интелл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цательное влияние изв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сутствие мотивации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25508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2920" y="1000080"/>
          <a:ext cx="8001000" cy="52689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715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ы неуспевае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проя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350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развития учебной мотивации (ничто не побуждает учиться). Влияют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а жизни ребенка в семь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тношения с окружающими взрос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 сформировавшееся отношение к учению, непонимание его общественной значимо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тремления быть успешным в учебной деятельности (отсутствует заинтересованность в получении хороших отметок, вполне устраивают удовлетворитель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748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ая пассивность как результат неправильного воспита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о пассивные учащиеся – те, которые не имели ни правильных условий для умственного развития, ни достаточной практики интеллектуальной деятельности, у них отсутствуют интеллектуальные умения, знания и навыки, на основе которых педагог строит об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чебного задания, требующего активной мыслительной работы, отсутствует стремление его понять и осмысли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о активного размышления – использование различных обходных путей: зазубривание, списывание, подсказки товарищей, угадывание правильных вариантов отве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ая пассивность может проявляться как избирательно в отношении учебных предметов, так и во всей учебной работе. Вне учебных занятий многие из таких учащихся действуют умнее, активнее и сообразительнее, чем в уч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2463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ые навыки учебной работы – со стороны педагога нет должного контроля над способами и приемами ее вы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не умеют учиться, не умеют самостоятельно работать, потому что пользуются малоэффективными способами учебной работы, которые требуют от них значительной траты лишнего времени и труда: заучивают текст, не выделяя логических частей; начинают выполнять практические задания раньше, чем выучивают правило, для применения которого эти задания задаются; не проверяют свои работы или не умеют проверять; выполняют работу в медленном темп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428760" y="1609560"/>
          <a:ext cx="7572240" cy="5475600"/>
        </p:xfrm>
        <a:graphic>
          <a:graphicData uri="http://schemas.openxmlformats.org/drawingml/2006/table">
            <a:tbl>
              <a:tblPr/>
              <a:tblGrid>
                <a:gridCol w="3800520"/>
                <a:gridCol w="3771720"/>
              </a:tblGrid>
              <a:tr h="55584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ы не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проя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6218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 сформировавшееся отношение к учебному труд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елы в воспитании (нет постоянных трудовых обязанностей, не приучены выполнять их аккуратно, не предъявлялось строгих требований к качеству работы; избалованные, неорганизованные учащиес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ая организация учебной деятельности в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ие выполнять не очень интересное, скучное, трудное, отнимающее много времени зад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режность и недобросовестность в выполнении учеб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ыполненные или частично выполненные домашни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куратное обращение с учебными пособ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7326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или слабое развитие учебных и познавательных интересов – недостаточное внимание к этой проблеме со стороны педагогов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 усваиваются без интереса, легко становятся формальными, т. к. не отвечают потребности в их приобретении, остаются мертвым грузом, не используются, не влияют на представления школьника об окружающей действительности и не побуждают к дальнейш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547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3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 группа. Низкое качество мыслительной деятельности (слабое развитие познавательных процессов – внимания, памяти, мышления, несформированность познавательных умений и навыков и т. д.) сочетается с положительным отношением к уч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 группа. Высокое качество мыслительной деятельности в паре с отрицательным отношением к уч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 группа. Низкое качество мыслительной деятельности сочетается с отрицательным отношением к уч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93560" y="23760"/>
            <a:ext cx="7255080" cy="1908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вать проблемные ситуа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ктивизировать самостоятельное мышлени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ганизовывать сотрудничество учащихся на урок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страивать позитивные отношения с групп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являть искреннюю заинтересованность в успехах ребя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040"/>
            <a:ext cx="7302240" cy="1543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пражнения, направленные на развитие мышления, памяти и вним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Самое главное«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Моментальное фото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Лучший вопрос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Пересказ по кругу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9T19:21:22Z</dcterms:modified>
  <cp:revision>6</cp:revision>
  <dc:subject/>
  <dc:title>Система работы с неуспевающими детьми. </dc:title>
</cp:coreProperties>
</file>