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B222-3B09-47C1-AA99-087D4F7EA0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57FA-E8FC-472F-8907-4DE2D667F1B0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7A13-95DC-477B-97F0-51F157FCC9F1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DAC-57AD-43E2-806B-1E7FEAEB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5D3-F3ED-4F72-B6C0-F4F9EBF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D10-37DC-429D-827B-8AEF1B58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F2A-C712-45D0-B86B-3BF66B6B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B33-D020-45BF-9941-DEB74054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827-2B61-4D50-9228-51DBA61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D281-2283-45AA-A8EB-4981D06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A44-B9AD-4FC6-83AE-1FC8BA5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D88-467A-4207-9BBE-C3B3BB6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675F-1701-4A34-829C-8A41C9D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A84-72A1-46E3-8642-4B255B1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FB8-13FA-4F9C-868F-2F7E364A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C061-ABA7-4EAE-91C1-FD287520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525B-D91A-4368-9E8B-5644988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8E48-A38A-4ACE-ADB3-C72E74C2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AC10-54E2-47BB-B185-85A389BA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FC58-17D5-493A-9C4D-4FAAD043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717-4C66-4627-937F-1B86F3B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CC3-B35F-4C0F-8B22-58750AC8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89C-1DB1-42B5-A64B-AF6BF0C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C9D-5698-4DA6-B4B0-CB434EF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0FF-FD08-4A88-9818-EC44212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8E2-C5E7-47FE-8648-50E379C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9C9-F77C-46EF-91E3-9402C8F9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C438-24F9-4625-83B2-D76DF97FC4B7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6426-75DC-47FA-BDA3-A36D27E294CF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23840" y="184320"/>
            <a:ext cx="8077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38240" y="184320"/>
            <a:ext cx="8077320" cy="519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Picture 13" descr="20m"/>
          <p:cNvPicPr/>
          <p:nvPr/>
        </p:nvPicPr>
        <p:blipFill>
          <a:blip r:embed="rId1"/>
          <a:stretch/>
        </p:blipFill>
        <p:spPr>
          <a:xfrm>
            <a:off x="0" y="12708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3276720" y="1890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«Разработка компетентностно-ориентированных заданий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о учебным предметам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Picture 15" descr="20m"/>
          <p:cNvPicPr/>
          <p:nvPr/>
        </p:nvPicPr>
        <p:blipFill>
          <a:blip r:embed="rId2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928800" y="5716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cb9"/>
                </a:solidFill>
                <a:latin typeface="Times New Roman"/>
              </a:rPr>
              <a:t>Добрый ден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1093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Стимул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(проблемная ситуация) – погружает в контекст задания и мотивирует на его выполнение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4" descr="57"/>
          <p:cNvPicPr/>
          <p:nvPr/>
        </p:nvPicPr>
        <p:blipFill>
          <a:blip r:embed="rId2"/>
          <a:srcRect l="10928" t="35999" r="0" b="0"/>
          <a:stretch/>
        </p:blipFill>
        <p:spPr>
          <a:xfrm>
            <a:off x="468360" y="4797360"/>
            <a:ext cx="38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404640"/>
            <a:ext cx="7772400" cy="1022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Задачная формулировка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(инструкция) – содержит указания учащемуся на его действия по выполнению зада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ростая структура: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2 главных принципа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Г) бегло просмотри текст и выбери непонятные слова, объясни их при помощи ...(а,б,в - задачные формулировки простой структуры, но их можно перестроить в сложные структуры)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e9"/>
                </a:solidFill>
                <a:uFillTx/>
                <a:latin typeface="Times New Roman"/>
              </a:rPr>
              <a:t>Задачная формулировка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Сложная структура: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..., подготовь выступление перед одноклассникам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..., найди недостающие данные и введи их в условие задач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три главных принципа..., составь памятку для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сточник информации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 содержит информацию, необходимую для успешной деятельности учащегося по выполнению задания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4" descr="20"/>
          <p:cNvPicPr/>
          <p:nvPr/>
        </p:nvPicPr>
        <p:blipFill>
          <a:blip r:embed="rId2"/>
          <a:stretch/>
        </p:blipFill>
        <p:spPr>
          <a:xfrm>
            <a:off x="17928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нструмент проверк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Бланк</a:t>
            </a:r>
            <a:r>
              <a:rPr b="1" i="1" lang="ru-RU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7" name="Picture 4" descr="52897604_3"/>
          <p:cNvPicPr/>
          <p:nvPr/>
        </p:nvPicPr>
        <p:blipFill>
          <a:blip r:embed="rId3"/>
          <a:stretch/>
        </p:blipFill>
        <p:spPr>
          <a:xfrm>
            <a:off x="250920" y="3821040"/>
            <a:ext cx="3456000" cy="3036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5950080"/>
            <a:ext cx="2521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№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«Определение структурных элементов компетентностно-ориентированного задания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34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</a:t>
            </a: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«Корректируем задания учебника»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читайте параграф учебника, посвященный Пугачевскому восстанию,  и заполните таблицу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4360" y="3860640"/>
          <a:ext cx="6095880" cy="21607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Этап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82316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История, 7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информацион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первичная обработка информ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 публичное выступл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самоменеджмен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: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аш товарищ был болен,  поэтому не присутствовал  на уроках, посвященных Пугачевскому восстанию. 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1. Прочитай текст параграфа. Запиши основные этапы, годы и события в виде таблиц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2. Подготовь краткое выступление, используя средства логической связи для выделения смысловых блоков своего выступления. Будь готов ответить на вопрос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3. Назови трудности, с которыми ты столкнулся  при выполнении задания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рректируем задания учебник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Выбор задания. (УМК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Настоящий урок –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это совместный поиск истины учителем и учеником. Где этого нет, там скука…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38240" y="184320"/>
            <a:ext cx="807732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4" descr="0_b8e4_f137b848_XL"/>
          <p:cNvPicPr/>
          <p:nvPr/>
        </p:nvPicPr>
        <p:blipFill>
          <a:blip r:embed="rId1"/>
          <a:stretch/>
        </p:blipFill>
        <p:spPr>
          <a:xfrm>
            <a:off x="108000" y="3357720"/>
            <a:ext cx="5754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одумать стиму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Сформулировать задачную формулировку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инести учебник(по выбору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0a15d1e65643464a78fd44d41c1ba812"/>
          <p:cNvPicPr/>
          <p:nvPr/>
        </p:nvPicPr>
        <p:blipFill>
          <a:blip r:embed="rId1"/>
          <a:stretch/>
        </p:blipFill>
        <p:spPr>
          <a:xfrm>
            <a:off x="0" y="-861840"/>
            <a:ext cx="9144000" cy="87580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7"/>
          <p:cNvSpPr txBox="1"/>
          <p:nvPr/>
        </p:nvSpPr>
        <p:spPr>
          <a:xfrm>
            <a:off x="684360" y="5877000"/>
            <a:ext cx="799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55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Ознакомление с окружающим миром. 1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Как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авильно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хаживать за кошкой и собакой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Групповая работа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149720"/>
          <a:ext cx="7991280" cy="207504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66364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петентност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пект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рове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родук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рупповая коммуникаци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убличное выступление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ланирование информационного поиска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51850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«Здравствуйте, ребята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Я очень хочу завести собаку или кошку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Это моя самая заветная мечта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Но мама говорит, что я к этому ещё не готов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Помогите мне, пожалуйста, доказать маме, что я могу ухаживать за ними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 уважением дядя Фёдор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912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452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нимательно рассмотрите картинки в таблице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умайте, чего не хватает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риклейте недостающие предметы на свои места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готовьте выступление на тему «Как правильно ухаживать за кошкой и собакой»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Будьте готовы ответить на вопросы одноклассников.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7415280" cy="4190760"/>
        </p:xfrm>
        <a:graphic>
          <a:graphicData uri="http://schemas.openxmlformats.org/drawingml/2006/table">
            <a:tbl>
              <a:tblPr/>
              <a:tblGrid>
                <a:gridCol w="2419200"/>
                <a:gridCol w="2573640"/>
                <a:gridCol w="242244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20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171432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0163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01600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1943280" cy="1571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6"/>
          <p:cNvSpPr/>
          <p:nvPr/>
        </p:nvSpPr>
        <p:spPr>
          <a:xfrm>
            <a:off x="1258920" y="3068640"/>
            <a:ext cx="1657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492360" y="2276640"/>
            <a:ext cx="648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4140360" y="3141720"/>
            <a:ext cx="136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5003640" y="2276640"/>
            <a:ext cx="50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5796000" y="3213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630072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124000" y="4221000"/>
            <a:ext cx="792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427640" y="5084640"/>
            <a:ext cx="79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5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7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714680" cy="130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8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2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286000" cy="16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" descr=""/>
          <p:cNvPicPr/>
          <p:nvPr/>
        </p:nvPicPr>
        <p:blipFill>
          <a:blip r:embed="rId6"/>
          <a:stretch/>
        </p:blipFill>
        <p:spPr>
          <a:xfrm>
            <a:off x="6227640" y="4292640"/>
            <a:ext cx="1943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нструмент проверки:</a:t>
            </a:r>
            <a:r>
              <a:rPr b="0" lang="ru-RU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За каждый правильный выбор 1 балл.                                        Максимум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балл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о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Picture 4" descr="107042"/>
          <p:cNvPicPr/>
          <p:nvPr/>
        </p:nvPicPr>
        <p:blipFill>
          <a:blip r:embed="rId2"/>
          <a:stretch/>
        </p:blipFill>
        <p:spPr>
          <a:xfrm>
            <a:off x="108000" y="3075120"/>
            <a:ext cx="5184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456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 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6:55:57Z</dcterms:created>
  <dc:creator>USER</dc:creator>
  <dc:description/>
  <dc:language>en-US</dc:language>
  <cp:lastModifiedBy>Admin</cp:lastModifiedBy>
  <dcterms:modified xsi:type="dcterms:W3CDTF">2011-11-15T15:57:41Z</dcterms:modified>
  <cp:revision>88</cp:revision>
  <dc:subject/>
  <dc:title>Презентация PowerPoint</dc:title>
</cp:coreProperties>
</file>