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gif" ContentType="image/gif"/>
  <Override PartName="/ppt/media/image18.jpeg" ContentType="image/jpeg"/>
  <Override PartName="/ppt/media/image14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480D-3F42-4791-87E9-9A8784E026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8558-B2EA-4639-ABD0-87E1C349B0CE}" type="slidenum">
              <a:rPr b="0" lang="ru-RU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D0BF-C97D-4BAB-8360-D83D1EEE6798}" type="slidenum">
              <a:rPr b="0" lang="ru-RU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0BD-07CD-48E8-94A7-E2618D89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528-684F-4F5A-A0E1-23B723F5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F64-A926-4657-BB13-D6D043DB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373-1C80-43E3-A2C5-7517F1DC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BF8F-6331-4EEF-BA71-00EE0FC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5576-5D4E-4081-9D5E-4B7C4E1A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FD86-9CDD-454C-A848-06B72C22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B569-EAD5-4E85-966F-EEE185FE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4346-13C6-44C7-AA27-01C5D5DD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545D-C4C9-483B-95F9-DC6C9434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E27-789D-4846-AC0F-37055FA6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F42-0DBC-416B-AFD9-D3D3C6A4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9D47-A66F-4B3D-860D-4E90537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DE39-AC7C-43A9-BD61-41BE47FA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E87C-1C65-430F-B85A-661C9BD6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96D-4C1D-4717-A4AD-E93DF169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4A69-7DD0-4645-B88C-05FC0C76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004-5B21-4A67-84AE-CCDA0B1E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B8B-4EA8-4FC3-87F9-3B85DCD4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F70-AA46-42AA-B557-77B22810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A9D-537D-4F80-A23D-06C878B6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8F7-10A1-4E6D-8D7C-2C2A1D11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277-64ED-4747-848D-BD2C2B87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CB1-69A9-4A97-B083-0D431882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992B-5BCF-4C1A-9997-88FBB0198388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8584-7864-4943-8B45-65A5424ABAFD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023840" y="184320"/>
            <a:ext cx="8077320" cy="520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рольно-измерительные материалы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38240" y="184320"/>
            <a:ext cx="8077320" cy="519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1" name="Picture 13" descr="20m"/>
          <p:cNvPicPr/>
          <p:nvPr/>
        </p:nvPicPr>
        <p:blipFill>
          <a:blip r:embed="rId1"/>
          <a:stretch/>
        </p:blipFill>
        <p:spPr>
          <a:xfrm>
            <a:off x="0" y="12708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3276720" y="189000"/>
            <a:ext cx="45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«Разработка компетентностно-ориентированных заданий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по учебным предметам»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3" name="Picture 15" descr="20m"/>
          <p:cNvPicPr/>
          <p:nvPr/>
        </p:nvPicPr>
        <p:blipFill>
          <a:blip r:embed="rId2"/>
          <a:stretch/>
        </p:blipFill>
        <p:spPr>
          <a:xfrm>
            <a:off x="0" y="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928800" y="57168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cb9"/>
                </a:solidFill>
                <a:latin typeface="Times New Roman"/>
              </a:rPr>
              <a:t>Добрый день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1093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Стимул</a:t>
            </a: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264c"/>
                </a:solidFill>
                <a:latin typeface="Times New Roman"/>
              </a:rPr>
              <a:t>(проблемная ситуация) – погружает в контекст задания и мотивирует на его выполнение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7" name="Picture 4" descr="57"/>
          <p:cNvPicPr/>
          <p:nvPr/>
        </p:nvPicPr>
        <p:blipFill>
          <a:blip r:embed="rId2"/>
          <a:srcRect l="10928" t="35999" r="0" b="0"/>
          <a:stretch/>
        </p:blipFill>
        <p:spPr>
          <a:xfrm>
            <a:off x="468360" y="4797360"/>
            <a:ext cx="3816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3680" y="404640"/>
            <a:ext cx="7772400" cy="1022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Задачная формулировка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(инструкция) – содержит указания учащемуся на его действия по выполнению задани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Простая структура: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A) прочитай текст и составь памятку, инструкцию, таблицу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Б) прослушай задачу и ответь на вопрос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B) внимательно прочитай и найди 2 главных принципа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Г) бегло просмотри текст и выбери непонятные слова, объясни их при помощи ...(а,б,в - задачные формулировки простой структуры, но их можно перестроить в сложные структуры)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e9"/>
                </a:solidFill>
                <a:uFillTx/>
                <a:latin typeface="Times New Roman"/>
              </a:rPr>
              <a:t>Задачная формулировка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Сложная структура: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A) прочитай текст и составь памятку, инструкцию, таблицу..., подготовь выступление перед одноклассниками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Б) прослушай задачу и ответь на вопрос..., найди недостающие данные и введи их в условие задачи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B) внимательно прочитай и найди три главных принципа..., составь памятку для..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475920"/>
            <a:ext cx="7772400" cy="95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49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Источник информации</a:t>
            </a:r>
            <a:r>
              <a:rPr b="0" lang="ru-RU" sz="3600" spc="-1" strike="noStrike">
                <a:solidFill>
                  <a:srgbClr val="00264c"/>
                </a:solidFill>
                <a:latin typeface="Times New Roman"/>
              </a:rPr>
              <a:t> содержит информацию, необходимую для успешной деятельности учащегося по выполнению задания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4" name="Picture 4" descr="20"/>
          <p:cNvPicPr/>
          <p:nvPr/>
        </p:nvPicPr>
        <p:blipFill>
          <a:blip r:embed="rId2"/>
          <a:stretch/>
        </p:blipFill>
        <p:spPr>
          <a:xfrm>
            <a:off x="179280" y="414972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Инструмент проверки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Бланк</a:t>
            </a:r>
            <a:r>
              <a:rPr b="1" i="1" lang="ru-RU" sz="36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7" name="Picture 4" descr="52897604_3"/>
          <p:cNvPicPr/>
          <p:nvPr/>
        </p:nvPicPr>
        <p:blipFill>
          <a:blip r:embed="rId3"/>
          <a:stretch/>
        </p:blipFill>
        <p:spPr>
          <a:xfrm>
            <a:off x="250920" y="3821040"/>
            <a:ext cx="3456000" cy="3036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755640" y="5950080"/>
            <a:ext cx="2521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475920"/>
            <a:ext cx="7772400" cy="95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e9"/>
                </a:solidFill>
                <a:uFillTx/>
                <a:latin typeface="Times New Roman"/>
              </a:rPr>
              <a:t>Практикум №1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«Определение структурных элементов компетентностно-ориентированного задания»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344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ffffe9"/>
                </a:solidFill>
                <a:uFillTx/>
                <a:latin typeface="Times New Roman"/>
              </a:rPr>
              <a:t>Практикум </a:t>
            </a: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«Корректируем задания учебника»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8960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очитайте параграф учебника, посвященный Пугачевскому восстанию,  и заполните таблицу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4360" y="3860640"/>
          <a:ext cx="6095880" cy="21607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Этап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События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82316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История, 7 клас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информационна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первичная обработка информаци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коммуникативна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 публичное выступле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самоменеджмен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Уровень: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аш товарищ был болен,  поэтому не присутствовал  на уроках, посвященных Пугачевскому восстанию. 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1. Прочитай текст параграфа. Запиши основные этапы, годы и события в виде таблицы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2. Подготовь краткое выступление, используя средства логической связи для выделения смысловых блоков своего выступления. Будь готов ответить на вопросы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3. Назови трудности, с которыми ты столкнулся  при выполнении задания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рректируем задания учебник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Выбор задания. (УМК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64c"/>
                </a:solidFill>
                <a:uFillTx/>
                <a:latin typeface="Times New Roman"/>
              </a:rPr>
              <a:t>Характеристика задания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Класс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Формируемая компетентность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Аспек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Уровень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76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Настоящий урок –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это совместный поиск истины учителем и учеником. Где этого нет, там скука…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38240" y="184320"/>
            <a:ext cx="8077320" cy="457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Picture 4" descr="0_b8e4_f137b848_XL"/>
          <p:cNvPicPr/>
          <p:nvPr/>
        </p:nvPicPr>
        <p:blipFill>
          <a:blip r:embed="rId1"/>
          <a:stretch/>
        </p:blipFill>
        <p:spPr>
          <a:xfrm>
            <a:off x="108000" y="3357720"/>
            <a:ext cx="57546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одумать стимул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Сформулировать задачную формулировку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инести учебник(по выбору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0a15d1e65643464a78fd44d41c1ba812"/>
          <p:cNvPicPr/>
          <p:nvPr/>
        </p:nvPicPr>
        <p:blipFill>
          <a:blip r:embed="rId1"/>
          <a:stretch/>
        </p:blipFill>
        <p:spPr>
          <a:xfrm>
            <a:off x="0" y="-861840"/>
            <a:ext cx="9144000" cy="87580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7"/>
          <p:cNvSpPr txBox="1"/>
          <p:nvPr/>
        </p:nvSpPr>
        <p:spPr>
          <a:xfrm>
            <a:off x="684360" y="5877000"/>
            <a:ext cx="7991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55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едмет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Ознакомление с окружающим миром. 1 клас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Тема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Как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авильно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хаживать за кошкой и собакой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Групповая работа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4149720"/>
          <a:ext cx="7991280" cy="2075040"/>
        </p:xfrm>
        <a:graphic>
          <a:graphicData uri="http://schemas.openxmlformats.org/drawingml/2006/table">
            <a:tbl>
              <a:tblPr/>
              <a:tblGrid>
                <a:gridCol w="2879640"/>
                <a:gridCol w="2448000"/>
                <a:gridCol w="266364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омпетентность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аспект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урове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нь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родуктив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рупповая коммуникаци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убличное выступление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информацион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ланирование информационного поиска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720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51850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«Здравствуйте, ребята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Я очень хочу завести собаку или кошку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Это моя самая заветная мечта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Но мама говорит, что я к этому ещё не готов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Помогите мне, пожалуйста, доказать маме, что я могу ухаживать за ними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С уважением дядя Фёдор»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912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452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нимательно рассмотрите картинки в таблице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одумайте, чего не хватает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риклейте недостающие предметы на свои места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одготовьте выступление на тему «Как правильно ухаживать за кошкой и собакой»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Будьте готовы ответить на вопросы одноклассников.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905120"/>
          <a:ext cx="7415280" cy="4190760"/>
        </p:xfrm>
        <a:graphic>
          <a:graphicData uri="http://schemas.openxmlformats.org/drawingml/2006/table">
            <a:tbl>
              <a:tblPr/>
              <a:tblGrid>
                <a:gridCol w="2419200"/>
                <a:gridCol w="2573640"/>
                <a:gridCol w="242244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20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1714320" cy="128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038320" cy="1533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"/>
          <p:cNvPicPr/>
          <p:nvPr/>
        </p:nvPicPr>
        <p:blipFill>
          <a:blip r:embed="rId3"/>
          <a:stretch/>
        </p:blipFill>
        <p:spPr>
          <a:xfrm>
            <a:off x="5796000" y="2349360"/>
            <a:ext cx="1714320" cy="130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01636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"/>
          <p:cNvPicPr/>
          <p:nvPr/>
        </p:nvPicPr>
        <p:blipFill>
          <a:blip r:embed="rId5"/>
          <a:stretch/>
        </p:blipFill>
        <p:spPr>
          <a:xfrm>
            <a:off x="3419640" y="4221000"/>
            <a:ext cx="201600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5" descr=""/>
          <p:cNvPicPr/>
          <p:nvPr/>
        </p:nvPicPr>
        <p:blipFill>
          <a:blip r:embed="rId6"/>
          <a:stretch/>
        </p:blipFill>
        <p:spPr>
          <a:xfrm>
            <a:off x="5580000" y="4221000"/>
            <a:ext cx="1943280" cy="1571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6"/>
          <p:cNvSpPr/>
          <p:nvPr/>
        </p:nvSpPr>
        <p:spPr>
          <a:xfrm>
            <a:off x="1258920" y="3068640"/>
            <a:ext cx="16574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3492360" y="2276640"/>
            <a:ext cx="648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4140360" y="3141720"/>
            <a:ext cx="1368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5003640" y="2276640"/>
            <a:ext cx="505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5796000" y="321300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6300720" y="3213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2124000" y="4221000"/>
            <a:ext cx="792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4427640" y="5084640"/>
            <a:ext cx="792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6804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905120"/>
          <a:ext cx="7772400" cy="4190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55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1714320" cy="1285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6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038320" cy="153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7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714680" cy="130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8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276640" cy="1571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" descr=""/>
          <p:cNvPicPr/>
          <p:nvPr/>
        </p:nvPicPr>
        <p:blipFill>
          <a:blip r:embed="rId5"/>
          <a:stretch/>
        </p:blipFill>
        <p:spPr>
          <a:xfrm>
            <a:off x="3419640" y="4221000"/>
            <a:ext cx="2286000" cy="164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" descr=""/>
          <p:cNvPicPr/>
          <p:nvPr/>
        </p:nvPicPr>
        <p:blipFill>
          <a:blip r:embed="rId6"/>
          <a:stretch/>
        </p:blipFill>
        <p:spPr>
          <a:xfrm>
            <a:off x="6227640" y="4292640"/>
            <a:ext cx="1943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Инструмент проверки:</a:t>
            </a:r>
            <a:r>
              <a:rPr b="0" lang="ru-RU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За каждый правильный выбор 1 балл.                                        Максимум: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балл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ов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2" name="Picture 4" descr="107042"/>
          <p:cNvPicPr/>
          <p:nvPr/>
        </p:nvPicPr>
        <p:blipFill>
          <a:blip r:embed="rId2"/>
          <a:stretch/>
        </p:blipFill>
        <p:spPr>
          <a:xfrm>
            <a:off x="108000" y="3075120"/>
            <a:ext cx="51847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456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   </a:t>
            </a: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Характеристика задания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Назва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едме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ласс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Формируемая компетент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Уровен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6:55:57Z</dcterms:created>
  <dc:creator>USER</dc:creator>
  <dc:description/>
  <dc:language>en-US</dc:language>
  <cp:lastModifiedBy>Admin</cp:lastModifiedBy>
  <dcterms:modified xsi:type="dcterms:W3CDTF">2011-11-15T15:57:41Z</dcterms:modified>
  <cp:revision>88</cp:revision>
  <dc:subject/>
  <dc:title>Презентация PowerPoint</dc:title>
</cp:coreProperties>
</file>