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CD9-47D6-4164-B490-9EAF81B7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8DB-0C20-4A51-B13E-871845A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999-E789-4371-82AB-B9D988FE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9A7-B0A1-44A7-B4E2-2DA3EB55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F407-5BF9-490C-A7C0-7796AE7A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43F-BCBB-4D23-BA2B-E499D97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145-034E-48EA-A40B-DD7CC41E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DE08-4380-4439-9E5A-EF71152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DCC-3075-4CB1-BD08-809245C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781-07A1-4F14-828A-F09531D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DF6-931E-47CE-8DB7-A50DB09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F86-0AFF-4650-B1DD-E9C09CB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2169-8E84-4C58-9C96-4FF90AF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C991-FE31-4AA4-B336-2C925F2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0580-231C-40C7-B640-7D71F42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893-3E93-4B52-AE88-395EF843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C2E5-A9BA-4E78-9139-4819D726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311-AF3C-43E9-9425-3E092944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D3B-01C8-4DC5-92A2-C2B8446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276-224C-4003-88A3-8F5EB7C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BAC-600C-443E-83C7-89E557C0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0E7-FDF4-41B9-A01A-C71ACDE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E2F-278F-4FFB-A77E-47F9AA8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15F-A012-41A1-BB22-2567C44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AAF-4D67-49EE-8860-F32D36F4AA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F62-69E0-46CE-B0DC-5E6BAC5FDE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Технологичность уро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971800" y="7032600"/>
            <a:ext cx="664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 письмо</a:t>
            </a: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(Ч. Темпл, Дж. Стил, К. Мередит, С.Уолтер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итическое  мыш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ид интеллектуальной деятельности,  характеризующийся высоким уровнем восприятия, понимания человеком окружающего его информационного поля,  овладение рациональными способами получения и переработки информации, критическое отношение к ней, соотнесение полученных сведений с собственным опытом, другими исто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РКМЧ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аза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изация имеющихся знаний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я к выполнению предложенно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етаются индивидуальные и групповые формы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фиксир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ализации смыс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уча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ктив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учителя - поддержать интере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для  соотнесение нового знания с уже известным, систематизировать полученную информацию по категориям 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через чтение и письм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ирование,  систематизация информ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 оценка прочитанн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 вопросов  для дальнейшего продвиж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мнениями, выработка собственной пози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орождение своего смысла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учебной диску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ритического мышления  учащихся формирование коммуникативн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щность учебной диску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огическая позиция педагога, которая реализуется в предпринимаемых им специальных организационных усилиях, задает тон обсуждению соблюдению его правил всеми участ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иды дискусс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лый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едание эксперт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анельная дискус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ози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аквари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0140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В.Киллпатрик , Д. Дью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28800" y="1500120"/>
            <a:ext cx="7543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чеб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совмест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ебно-познаватель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исследователь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творчес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ли иг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учащихся-партнеров, имею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общую цел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согласованные методы, способы деятельности, направлен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на достижение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общего результа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ешен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какой-либо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значимо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для участников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00" y="178596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метода проектов лежит развит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ознаватель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ов учащихся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ме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нструироват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зн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риентировать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нформационном пространств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ритического и творческо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увидеть, сформулировать 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шить проблему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4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 достижения  це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альная  разработка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й, осязаемый практический результат, оформленный тем или иным обра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3"/>
          <p:cNvSpPr/>
          <p:nvPr/>
        </p:nvSpPr>
        <p:spPr>
          <a:xfrm>
            <a:off x="4071960" y="22860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4"/>
          <p:cNvSpPr/>
          <p:nvPr/>
        </p:nvSpPr>
        <p:spPr>
          <a:xfrm>
            <a:off x="4071960" y="364320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br>
              <a:rPr sz="30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од проектов всегда предполагает решение какой-то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проблемы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Решение проблемы предусматривает, с одной стороны, использование совокупности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разнообразных методов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средств обучения, а с другой, - необходимость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интегрирования знани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умений; применять знания из различных областей науки, техники, технологии, творческих облас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нятие педагогической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уманная во всех деталях модель и реальный   процесс целостной педагогической деятельности по проектированию, организации и проведению образовательного процесса с безусловным обеспечением комфортных условий для учащихся и учител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ахов В. 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Т.И. Шамова «Проблемный подход», М.И. Махмутов, М.Н. Скаткин «Технология проблемного обучения», В. Оконь «Проблемное обучение», Е. Мельникова «Проблемное обучение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вается на теоретических положениях Д. Дьюи. Под  проблемным обучением понимается такая организация учебного процесса, которая предполагает создание в сознании учащихся под руководством учител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блемных ситуаци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и организация активной самостоятельной деятельности учащихся по их разреш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Проблемное обучение основано на создании особого вида мотивации – проблемной, поэтому требует адекватного конструирования дидактического содержания материала, который должен быть представлен как цепь проблемных ситу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гровые технологии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Технология развивающих игр Б. П. Никитина, деловые игры Г. П. Щедровицкого; КТД и др.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–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игры: развлекательная, коммуникативная, игротерапевтическая, диагностическая, корректирующая, социализирующая, творческая, эмоциональ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используются: в качестве самостоятельных технологий (для освоения темы, раздела); как элемент, включенный в другую технологию; в качестве технологии урока или его фрагмента; как технология внекласс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иды деятельности ученика и учителя, обеспечивающие формирование знаний, умений и навыков, необходимых для решения учебно- познаватель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 учебно-познавательной деятельности , проектируемый учит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льно- иллюст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чно-поис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таль мет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е его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практические и мыслительные), моменты в процессе учебной деятельности, усвоении знаний и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Основные аспекты педагогической технологии</a:t>
            </a:r>
            <a:br>
              <a:rPr sz="3000"/>
            </a:b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является научно разработанным (разрабатываемым) решением определенной проблемы, основывающемся на достижениях педагогической теории и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ьно-описате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представляется моделью, описанием целей, содержания, методов и средств, алгоритмов действий, применяемых для 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уально-дей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я есть сам процесс осуществления деятельности объектов и субъектов (от целеполагания до анали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Критерии педагогической технологии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5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п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я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оизводимость  и гарантированност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Интерактивн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, основанное на активном взаимодействии с субъекто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с хорошо организованной обратной связью, с двусторонним обменом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индивидуальных умственных процессов, возбуждение внутреннего диалога у учащегося, понимание информации, вывод учащегося на позицию субъекта обучения, достижение двусторонней связи учащего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принимает позицию фасилитатора (помощника, осуществляющего поддержку и облегчение в учен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Процесс интерактивного обуче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живание участниками конкретного опыта (игра, упражнение, тренинг, анализ ситу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мысление получен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(рефлекс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на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8:20:58Z</dcterms:created>
  <dc:creator>mbuhar</dc:creator>
  <dc:description/>
  <dc:language>en-US</dc:language>
  <cp:lastModifiedBy>пользователь</cp:lastModifiedBy>
  <dcterms:modified xsi:type="dcterms:W3CDTF">2011-01-24T03:36:24Z</dcterms:modified>
  <cp:revision>94</cp:revision>
  <dc:subject/>
  <dc:title>Презентация о новых педагогических технологиях.</dc:title>
</cp:coreProperties>
</file>