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E81-5E85-426C-86B6-1A0C773E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619-A4B6-44C6-802C-257A3B4D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20C-2AE6-45B5-A8C7-1A54F012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E0F-A820-4F87-9C3A-B65E0C92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383-DAB4-4753-AE28-9AAECFE6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E2A-ADC0-4BB6-8C96-88C882A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C226-C8BC-46BC-8FB1-BC2CA28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9AFF-8EF3-43C8-9404-59BFD2F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25A2-5773-450A-A0F4-FC13466B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3B19-B120-44DE-B3A8-A17D25C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D4E9-4B3C-4EEC-9C1F-801088A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178-8706-4E08-88F8-9E2CE3A1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F6B9-E597-4570-8E2D-17C32AB2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C15-1804-4F11-9816-BB48138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A57-3BC7-4C7F-92AD-413F83A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D72-A32E-415E-9A66-005D0834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C8F6-AC97-4A86-9804-13B1DA43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6A1-60D8-466A-B8D1-2CB04474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B82-37CE-4C78-9057-523658E1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A53-17CE-4E1E-A85A-95E95B23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28F-57A0-4DF8-B4D2-DC45A49D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EB9-9A78-4FC0-AFDC-99140922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282-997F-4E83-B2D8-FC398B4D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CE9-B809-42FB-A031-1844819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806-2A56-4C1C-A875-BEB34BD781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9709-7435-49E6-83BB-40A9661F2A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Технологичность уро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971800" y="7032600"/>
            <a:ext cx="664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 письмо</a:t>
            </a: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(Ч. Темпл, Дж. Стил, К. Мередит, С.Уолтер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итическое  мыш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ид интеллектуальной деятельности,  характеризующийся высоким уровнем восприятия, понимания человеком окружающего его информационного поля,  овладение рациональными способами получения и переработки информации, критическое отношение к ней, соотнесение полученных сведений с собственным опытом, другими исто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РКМЧ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аза вы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изация имеющихся знаний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я к выполнению предложенно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етаются индивидуальные и групповые формы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фиксир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аза реализации смыс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и уча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ктив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учителя - поддержать интере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для  соотнесение нового знания с уже известным, систематизировать полученную информацию по категориям 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аза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ирование,  систематизация информ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ценка прочитан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 вопросов  для дальнейшего продвиж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мнениями, выработка собственной пози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орождение своего смысла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скусс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учебной диску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 учащихся формирование коммуникатив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щность учебной диску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огическая позиция педагога, которая реализуется в предпринимаемых им специальных организационных усилиях, задает тон обсуждению соблюдению его правил всеми уча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лый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едание эксперт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анельная дискус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оз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б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аквари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0140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0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В.Киллпатрик , Д. Дью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28800" y="1500120"/>
            <a:ext cx="7543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чеб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совмест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ебно-познаватель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исследователь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творче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ли иг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учащихся-партнеров, имею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общую цел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согласованные методы, способы деятельности, направлен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на достижение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общего результа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ешен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какой-либо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значимо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для участник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0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00" y="178596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метода проектов лежит развити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ознаватель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ов учащихся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ме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нструиров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зн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риентировать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нформационном пространств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ритического и творческо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увидеть, сформулировать и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шить проблему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4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 достижения  це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альная  разработка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ьный, осязаемый практический результат, оформленный тем или иным обра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3"/>
          <p:cNvSpPr/>
          <p:nvPr/>
        </p:nvSpPr>
        <p:spPr>
          <a:xfrm>
            <a:off x="4071960" y="22860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4"/>
          <p:cNvSpPr/>
          <p:nvPr/>
        </p:nvSpPr>
        <p:spPr>
          <a:xfrm>
            <a:off x="4071960" y="364320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0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од проектов всегда предполагает решение какой-то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проблемы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Решение проблемы предусматривает, с одной стороны, использование совокупност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разнообразных методо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средств обучения, а с другой, - необходимость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интегрирования знани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умений; применять знания из различных областей науки, техники, технологии, творческих облас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нятие педагогической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уманная во всех деталях модель и реальный   процесс целостной педагогической деятельности по проектированию, организации и проведению образовательного процесса с безусловным обеспечением комфортных условий для учащихся и учител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ахов В. 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Т.И. Шамова «Проблемный подход», М.И. Махмутов, М.Н. Скаткин «Технология проблемного обучения», В. Оконь «Проблемное обучение», Е. Мельникова «Проблемное обучение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вается на теоретических положениях Д. Дьюи. Под  проблемным обучением понимается такая организация учебного процесса, которая предполагает создание в сознании учащихся под руководством учител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блемных ситуаци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и организация активной самостоятельной деятельности учащихся по их разреш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Проблемное обучение основано на создании особого вида мотивации – проблемной, поэтому требует адекватного конструирования дидактического содержания материала, который должен быть представлен как цепь проблемных ситу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Технология развивающих игр Б. П. Никитина, деловые игры Г. П. Щедровицкого; КТД и др.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–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игры: развлекательная, коммуникативная, игротерапевтическая, диагностическая, корректирующая, социализирующая, творческая, эмоциональ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используются: в качестве самостоятельных технологий (для освоения темы, раздела); как элемент, включенный в другую технологию; в качестве технологии урока или его фрагмента; как технология внекласс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иды деятельности ученика и учителя, обеспечивающие формирование знаний, умений и навыков, необходимых для решения учебно- познаватель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учебно-познавательной деятельности , проектируемый уч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льно- иллюст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чно-поис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е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аль мет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ельные его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практические и мыслительные), моменты в процессе учебной деятельности, усвоении знаний и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Основные аспекты педагогической технологии</a:t>
            </a:r>
            <a:br>
              <a:rPr sz="3000"/>
            </a:b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я является научно разработанным (разрабатываемым) решением определенной проблемы, основывающемся на достижениях педагогической теории и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ьно-описа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я представляется моделью, описанием целей, содержания, методов и средств, алгоритмов действий, применяемых для 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уально-дей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я есть сам процесс осуществления деятельности объектов и субъектов (от целеполагания до анали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Критерии педагогической технологии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5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п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оизводимость  и гарантированност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нтерактивные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, основанное на активном взаимодействии с субъекто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с хорошо организованной обратной связью, с двусторонним обменом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индивидуальных умственных процессов, возбуждение внутреннего диалога у учащегося, понимание информации, вывод учащегося на позицию субъекта обучения, достижение двусторонней связи учащего и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принимает позицию фасилитатора (помощника, осуществляющего поддержку и облегчение в уче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Процесс интерактивного обучения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живание участниками конкретного опыта (игра, упражнение, тренинг, анализ ситуац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мысление получен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(рефлекс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на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8:20:58Z</dcterms:created>
  <dc:creator>mbuhar</dc:creator>
  <dc:description/>
  <dc:language>en-US</dc:language>
  <cp:lastModifiedBy>пользователь</cp:lastModifiedBy>
  <dcterms:modified xsi:type="dcterms:W3CDTF">2011-01-24T03:36:24Z</dcterms:modified>
  <cp:revision>94</cp:revision>
  <dc:subject/>
  <dc:title>Презентация о новых педагогических технологиях.</dc:title>
</cp:coreProperties>
</file>