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AB42-46D1-4D9F-80DE-C7E46E70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EBD-4710-4914-BB90-66B5DC8A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2EC2-F455-4B60-9E73-FD33936F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5E7-6B67-4DFD-869A-B7FAA119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A5A-51CC-4D60-8DD6-8C25FD80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0F15-3C1C-499D-A50F-351B8BDE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538-3E4D-4220-A52E-2D228204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A873-7938-4A72-9B8C-58A27B13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7E58-640E-477B-93D9-14D826A3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2A05-E540-468B-8343-461C662D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7631-3655-445E-827F-8D197E9D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476D-84FA-4E7A-A00D-9F2FCF6F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EAD0-DD57-44C5-BA0A-5161A3630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питательная система клас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569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ельная система – это развивающийся во времени и пространстве комплекс взаимосвязанных компонентов: исходной концепции (совокупность идей, для реализации которых она создает);деятельности, обеспечивающей реализацию концепции; субъектов деятельности, её организующих и в ней участвующих; отношений интегрирующих субъектов в некую общность ;среды, освоенной субъектами; управления, обеспечивающего интеграцию всех компонентов системы в целостность. Так определяют это понятие создатели теории воспитательных систем-( Л.И.Новикова, В.А.Караковский ,Н.Л.Селиван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н работы по моделированию воспитательной системы кла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1628640"/>
          <a:ext cx="4643280" cy="4681800"/>
        </p:xfrm>
        <a:graphic>
          <a:graphicData uri="http://schemas.openxmlformats.org/drawingml/2006/table">
            <a:tbl>
              <a:tblPr/>
              <a:tblGrid>
                <a:gridCol w="464328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 работы по моделированию воспитательной сист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зучение класса, его учащихся, внутренней и внешней среды классного коллекти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роектирование целей, перспектив и образа жизнедеятельности классного сооб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Деятельность по сплочению и развитию коллектива кл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643280" y="1484280"/>
          <a:ext cx="4500720" cy="4824360"/>
        </p:xfrm>
        <a:graphic>
          <a:graphicData uri="http://schemas.openxmlformats.org/drawingml/2006/table">
            <a:tbl>
              <a:tblPr/>
              <a:tblGrid>
                <a:gridCol w="1125720"/>
                <a:gridCol w="1125360"/>
                <a:gridCol w="1124280"/>
                <a:gridCol w="1125360"/>
              </a:tblGrid>
              <a:tr h="647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по моделированию воспитательной системы 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а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цепция воспитательной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сихолого-педагогическая характеристика классного коллект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Общее сведение о кла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долго существует данный коллектив, имеются ли в классе новички, второгодники, переростки, общая характеристика класса по успеваемости и дисциплине, его место среди других классов школы. Особенности классного руководства и отношение учащихся к классному руководител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уктура классного коллектива и внутригрупповые процес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дерство, руководство, наличие изолированных, замкнутых и необщительных учеников, пути методы вовлечение их в жизнь коллектива. Нормы, ценности группы, наличие традиций в коллективе. Критика и самокритика в коллекти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Характер общение учащихся в групп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рганизованности, спаянности и сплоченности классного коллектива. Взаимоотношения между мальчиками и девоч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Позновательный потенциал и познавательная активность учащих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имание учащихся на уроке при выполнении домашних заданий, наличие учеников с неустойчивым, рассеянным внимание. Память учащихся, наличие учеников с ярко выраженным типом памяти, а так же учеников с плохой памятью, не владеющих способами запоминания учебного материала. Работоспособность коллектива, владеют ли ученики навыками самостоятельного умственного тру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Творческий потенциал и творческая активность учащих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ичие учащихся с высоким уровнем общих и специальных способностей, склонных к проявлению фантазии и не стандартно мыслящих. Способность коллектива к творческому решению задач, потребность коллектива в творческой деятельности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14ч по17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 и задачи воспитательной системы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и воспитательной сист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воспита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равление процессом развития лич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заимодействие всех участников воспит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учащих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ование коммуникативных нав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ре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ование Я-концеп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родите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учение социальным навыка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даптация к социу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люченность класса в воспитательную систему школы в качестве ее компон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спективы и принципы жизнедеятельности классного сообще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спитание – это жизнь рядом и в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того, чтобы наши дети выросли такими, какими мы хотим их видеть, нужно всего-навсего самим стать так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жи мне - я заб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кажи мне – я запом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воль мне сделать – я пой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важение детского незн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ханизм функционирования и построения воспитательной системы клас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развитие познавательной акт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потребностей и самообразова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 умений и навыков в учеб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вление индивидуальных способ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самостоятельности мыш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ы 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лимпиады по предмет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тические К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ейн-ринг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тори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зговые шту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вор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ь: Развитие творческой актив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явление и развитие индивидуальных способ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умений и навыков в твор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творческого вооб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ы ре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к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та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це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роки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атральные постан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ч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ции и про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ещение театров, музеев, выстав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доровь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ь: формирования потреб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общение детей к здоровому образу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учение конструктивным способам выхода из ситуаций, связанных  с употреблением алкоголя, наркотиков и с табакокуру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ы реализ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ции и бесе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курсы плакатов и газет по здоровому образу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ртивные сорев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пу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левые иг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ль: развитие умений и навыков в сфере об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чувства собственного достоинства и умения уважать достоинство друг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социальной восприимчивости, социального воображения, доверия, умение выслушивать другого человека, способность к эмпатии, сочувствию, сопережи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ю способности к самопознанию, самоанали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учение коммуникативным навы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ы 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нинги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левые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чера отды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коте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речи с интересными люд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скурсии, походы, совместный отдых на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Т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964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лект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ль: создание благоприятной социально-психологической обстановке в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коммуникативных навыков, укрепляющих социальные свя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ение самооценки через получение позитивной обратной связи и поддержки от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учение конструктивным способам выхода из конфликтных ситуаций, выражению своих чувств и переживаний без конфли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ы 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нинги общ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левые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чера отды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скурсии, походы, совместный отдых на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Т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В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ции и про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ещение театров, музеев, выстав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ыми функциями воспитательной системы являются: интегрирующая ( приводит к соединению несогласованных воспитательных воздействий); регулирующая (упорядочивает воспитательный процесс, управление им); развивающая(обеспечивает динамику системы, которая выражается в оптимизации ее функционирования, в поступательном развитии, в совершенствован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95280" y="335772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воспитательной работы - системы взаимосвязанных воспитательных мероприятий, дел, акций, индивидуальных бесед со школьниками, адекватных поставленной цели. В массовой практике она, как правило, означает организацию воспитательной работы, со школьниками во внеурочное врем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14-17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итерии эффективности воспитательной системы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анность 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щищенность и комфортность ребенка в клас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овлетворенность учащихся и их родителей жизнедеятельность в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формированность классного коллект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путация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явление индивидуальности классной общ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формированность нравственного, познавательного, коммуникативного, художественного и физического потенциалов личности младшего шк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ость креативных способностей учащих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уктура воспитательной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оненты воспитательной системы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Индивидуально-группо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Ценносно-ориентацион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Функциально-деятельност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ространственно-времен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Диагностико-результативны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17ч-18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41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видуально-групповой компонент состои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ный руководи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щиеся класс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ители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дагоги и другие взрослые, которые участвуют в воспитательном процессе и жизнедеятельности классного коллект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и и задачи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спективы жизнедеятельности классного со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нципы построения воспитательной системы и жизнедеятельности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2000" y="0"/>
            <a:ext cx="24447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260280"/>
            <a:ext cx="410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ностно-ориентационный 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нкционально- деятельностный 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ообразующий вид деятельности, формы и методы организации совместной деятельности и об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ые функции воспитательн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дагогическое обеспечение  самоуправление, жизнедеятельности классного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27280" y="1599840"/>
            <a:ext cx="453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моционально-психологическая, духовно-нравственная и предметно-материальная ср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язи и отношения классного сообщества с другими общностями детей и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сто и роль класса в воспитательном пространстве образовательного учре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апы становления и развития воспитательн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3280" y="260280"/>
            <a:ext cx="42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89000"/>
            <a:ext cx="4186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странственно-временной компонен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иогностико-аналитический компонен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итерии эффективности воспитательной сист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ы и приёмы изучения результативности воспитательной сист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ы и способы анализа, оценки и интерпретации полученных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хнология моделирования воспитательной систем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ение учащихся класса, отношений, общение и деятельности в классном коллектив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ектирование целей, перспектив и образа жизнедеятельности классного сообще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лочение и развитие классного коллектива, создание развивающей среды личности ребё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ы, методы и приемы, которые классный руководитель может использовать в деятельности по созданию модели воспитательной системы класса отражены в следующей таб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907920"/>
          <a:ext cx="8785440" cy="5720040"/>
        </p:xfrm>
        <a:graphic>
          <a:graphicData uri="http://schemas.openxmlformats.org/drawingml/2006/table">
            <a:tbl>
              <a:tblPr/>
              <a:tblGrid>
                <a:gridCol w="1513080"/>
                <a:gridCol w="2303280"/>
                <a:gridCol w="49690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направления деятель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и деятель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реализации зада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учащихся класса, отношений, общение и деятельности в классном      коллектив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зучить потребности, интересы, склонности и другие личностные характеристики членов классного коллектив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Определить уровень сформированности классного коллектива, состояние в нем деловых и межличностных отношени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Выявить воспитательные возможности родителей и других категорий взрослых, вовлеченных в жизнедеятельность классной общност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Определить эффективность учебно-воспитательного процесс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нкетирование, игра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тешествие по морю любимых знаний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методика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ик-семицветик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развивающая анкета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и увлечения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методики для исследования мотивов участия школьников в деятельности и для определения общественной активности учащихся, составление карты интересов и увлечений учащихся класса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Мастерская общения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айте познакомимся!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альбом-эстафета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ш класс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классный час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гружение в мир своего Я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игра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кажи мне обо мн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методика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ское стихотворени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Изученние сформированности коллектива по методикам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 у нас коллектив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.Н.Лотушин),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– коллектив? Мы – коллектив… Мы коллектив!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состояние межличностных отношений с помощью иг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де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ностудия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социометрических методов, конкурса рисунков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в моем класс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Смотр сочинений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я семья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огонек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и наши дет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беседа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я семья –чудесное место для жизн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коллективное творческое дело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 интересов моей семь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Тесты Н.Е.Щурковой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ышляем о жизненном опыт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А.А.Андреева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енность учащихся школьной жизнью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Е.Н.Стапанова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енность родителей работой образовательного учреждения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4920" y="115920"/>
          <a:ext cx="9109080" cy="6200640"/>
        </p:xfrm>
        <a:graphic>
          <a:graphicData uri="http://schemas.openxmlformats.org/drawingml/2006/table">
            <a:tbl>
              <a:tblPr/>
              <a:tblGrid>
                <a:gridCol w="1584360"/>
                <a:gridCol w="3203640"/>
                <a:gridCol w="4321080"/>
              </a:tblGrid>
              <a:tr h="31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ирование целей, перспектив и образа жизнедеятельности классного сообще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формирование образа класса и жизнедеятельности в нем, привлекательный для членов классного сообщест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Определить место и роль класса в воспитательной системы школ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ыявить способы и условия использования возможностей окружающей среды в развитии личности и формирования классного коллекти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Организационно-деятельностная игр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личности младшего школьник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классный ча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рет лицеист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ролевая игр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ета друзе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коллективное творческое дел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ая тропа класс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игр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ходи к нам в будущи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конкур идей и проектов учащихся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, в котором я хотел бы учитьс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Игр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 корабль, где все капитан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вече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 моих увлече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родительское собрани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ола+семья+дети=?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творческое дело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в класс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конкурс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б класс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выпуск стенной газет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й класс сегодня и завтр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по сплочению и развитию классного коллектива, созданию развивающей среды личности ребенк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одействовать формированию  благоприятной эмоционально-психологической и нравственной атмосферы в класс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Апробировать моделируемые элементы воспитательной системы класса в жизнедеятельности классного сообщест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Праздник именинников, вылазка на природу, культпоходы и экскурсии, игр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най свой поручени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коллективное творческое дело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нашем классе день рожден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игра –путешествие по семейным острова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говор при свечах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бузни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шебный сту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другие формы коллективной деятельности , предлагаемые Н.Е.Щурковой в книге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ранье пестрых де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0:51:28Z</dcterms:created>
  <dc:creator>Полина</dc:creator>
  <dc:description/>
  <dc:language>en-US</dc:language>
  <cp:lastModifiedBy>Полина</cp:lastModifiedBy>
  <dcterms:modified xsi:type="dcterms:W3CDTF">2008-11-22T06:27:15Z</dcterms:modified>
  <cp:revision>6</cp:revision>
  <dc:subject/>
  <dc:title>Воспитательная система класса.</dc:title>
</cp:coreProperties>
</file>