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3708-3BF1-453F-8BFE-16CF03EB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A4B-2AA4-4D01-83D7-4EDE2930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630-2D5C-462E-B81D-682D2F45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34F-0C9E-4339-81B5-D7B6DC60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F72-1EBA-44D8-B893-49ABF176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80C-2E9A-4733-8288-F76971B2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F16-14FE-4C57-BA35-E0399FE8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DB0-2E8B-4CD4-8EFE-F93241E9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51F-ACCC-4A94-84D8-8F610194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BA0-31E6-48F5-B256-231CC794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CE5-776A-40FE-9C37-78067818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2C9-0D94-495B-9300-0BBFD211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85C4-F2AB-43E6-95E6-8AC86B380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питательная система кла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569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ьная система – это развивающийся во времени и пространстве комплекс взаимосвязанных компонентов: исходной концепции (совокупность идей, для реализации которых она создает);деятельности, обеспечивающей реализацию концепции; субъектов деятельности, её организующих и в ней участвующих; отношений интегрирующих субъектов в некую общность ;среды, освоенной субъектами; управления, обеспечивающего интеграцию всех компонентов системы в целостность. Так определяют это понятие создатели теории воспитательных систем-( Л.И.Новикова, В.А.Караковский ,Н.Л.Селиван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 работы по моделированию воспитательной системы 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1628640"/>
          <a:ext cx="4643280" cy="4681800"/>
        </p:xfrm>
        <a:graphic>
          <a:graphicData uri="http://schemas.openxmlformats.org/drawingml/2006/table">
            <a:tbl>
              <a:tblPr/>
              <a:tblGrid>
                <a:gridCol w="464328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работы по моделированию воспитательной сис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зучение класса, его учащихся, внутренней и внешней среды классного коллекти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роектирование целей, перспектив и образа жизнедеятельности классного сооб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Деятельность по сплочению и развитию коллектива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643280" y="1484280"/>
          <a:ext cx="4500720" cy="4824360"/>
        </p:xfrm>
        <a:graphic>
          <a:graphicData uri="http://schemas.openxmlformats.org/drawingml/2006/table">
            <a:tbl>
              <a:tblPr/>
              <a:tblGrid>
                <a:gridCol w="1125720"/>
                <a:gridCol w="1125360"/>
                <a:gridCol w="1124280"/>
                <a:gridCol w="1125360"/>
              </a:tblGrid>
              <a:tr h="647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по моделированию воспитательной системы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цепция воспитатель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ихолого-педагогическая характеристика классного коллект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Общее сведение о кла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долго существует данный коллектив, имеются ли в классе новички, второгодники, переростки, общая характеристика класса по успеваемости и дисциплине, его место среди других классов школы. Особенности классного руководства и отношение учащихся к классному руководител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а классного коллектива и внутригрупповые процес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дерство, руководство, наличие изолированных, замкнутых и необщительных учеников, пути методы вовлечение их в жизнь коллектива. Нормы, ценности группы, наличие традиций в коллективе. Критика и самокритика в коллекти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Характер общение учащихся в групп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рганизованности, спаянности и сплоченности классного коллектива. Взаимоотношения между мальчиками и девоч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Позновательный потенциал и познавательная активность уча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имание учащихся на уроке при выполнении домашних заданий, наличие учеников с неустойчивым, рассеянным внимание. Память учащихся, наличие учеников с ярко выраженным типом памяти, а так же учеников с плохой памятью, не владеющих способами запоминания учебного материала. Работоспособность коллектива, владеют ли ученики навыками самостоятельного умственного тру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Творческий потенциал и творческая активность уча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ичие учащихся с высоким уровнем общих и специальных способностей, склонных к проявлению фантазии и не стандартно мыслящих. Способность коллектива к творческому решению задач, потребность коллектива в творческой деятельности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14ч по17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 и задачи воспитательной системы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 воспитательной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воспит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равление процессом развития л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заимодействие всех участников воспит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учащих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ование коммуникативных нав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ование Я-концеп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род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учение социальным навыка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аптация к социу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енность класса в воспитательную систему школы в качестве ее компон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спективы и принципы жизнедеятельности классного сообще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ание – это жизнь рядом и в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того, чтобы наши дети выросли такими, какими мы хотим их видеть, нужно всего-навсего самим стать так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и мне - я заб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жи мне – я запом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воль мне сделать – я пой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важение детского незн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ханизм функционирования и построения воспитательной системы клас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развитие познаватель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потребностей и самообразов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 умений и навыков в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индивидуальных способ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самостоятельности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ы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импиады по предм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ческие К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ейн-рин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тор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зговые шту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: Развитие творческой акт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явление и развитие индивидуальных способ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умений и навыков в твор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творческого во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ы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це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роки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атральные постан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ч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ции и 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ещение театров, музеев, выста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оров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ь: формирования потреб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бщение детей к здоровому образу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учение конструктивным способам выхода из ситуаций, связанных  с употреблением алкоголя, наркотиков и с табакокуру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ы реализ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ции и бесе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курсы плакатов и газет по здоровому образ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ртивные сорев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пу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левые иг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: развитие умений и навыков в сфере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чувства собственного достоинства и умения уважать достоинство друг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оциальной восприимчивости, социального воображения, доверия, умение выслушивать другого человека, способность к эмпатии, сочувствию, сопережи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ю способности к самопознанию, самоанал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чение коммуникативным навы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ы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нинги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левы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чера отды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коте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речи с интересными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курсии, походы, совместный отдых на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лект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: создание благоприятной социально-психологической обстановке в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коммуникативных навыков, укрепляющих социальные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ение самооценки через получение позитивной обратной связи и поддержки от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чение конструктивным способам выхода из конфликтных ситуаций, выражению своих чувств и переживаний без конфли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ы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нинги об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левы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чера отды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курсии, походы, совместный отдых на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В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ции и 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ещение театров, музеев, выста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ми функциями воспитательной системы являются: интегрирующая ( приводит к соединению несогласованных воспитательных воздействий); регулирующая (упорядочивает воспитательный процесс, управление им); развивающая(обеспечивает динамику системы, которая выражается в оптимизации ее функционирования, в поступательном развитии, в совершенствован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95280" y="33577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оспитательной работы - системы взаимосвязанных воспитательных мероприятий, дел, акций, индивидуальных бесед со школьниками, адекватных поставленной цели. В массовой практике она, как правило, означает организацию воспитательной работы, со школьниками во внеурочное врем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14-17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терии эффективности воспитательной системы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нность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щенность и комфортность ребенка в кла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влетворенность учащихся и их родителей жизнедеятельность в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формированность классного коллек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путация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явление индивидуальности классной общ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формированность нравственного, познавательного, коммуникативного, художественного и физического потенциалов личности младшего шк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ость креативных способностей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ктура воспитатель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ненты воспитательной системы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Индивидуально-группо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Ценносно-ориентацион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Функциально-деятельност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ространственно-времен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Диагностико-результативн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17ч-18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41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видуально-групповой компонент состои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ный руковод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щиеся клас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дагоги и другие взрослые, которые участвуют в воспитательном процессе и жизнедеятельности классного коллект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и и задачи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спективы жизнедеятельности классного со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ципы построения воспитательной системы и жизнедеятельности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2000" y="0"/>
            <a:ext cx="24447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60280"/>
            <a:ext cx="410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ностно-ориентационны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онально- деятельностны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ообразующий вид деятельности, формы и методы организации совместной деятельности и 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ые функции воспитатель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дагогическое обеспечение  самоуправление, жизнедеятельности классно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27280" y="1599840"/>
            <a:ext cx="453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моционально-психологическая, духовно-нравственная и предметно-материальная ср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язи и отношения классного сообщества с другими общностями детей и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сто и роль класса в воспитательном пространстве образовательного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пы становления и развития воспитатель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3280" y="260280"/>
            <a:ext cx="42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89000"/>
            <a:ext cx="4186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транственно-временной компонен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огностико-аналитический компонен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терии эффективности воспитательной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ы и приёмы изучения результативности воспитательной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ы и способы анализа, оценки и интерпретации полученных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хнология моделирования воспитательной систем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учащихся класса, отношений, общение и деятельности в классном коллекти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ирование целей, перспектив и образа жизнедеятельности классного сообщ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лочение и развитие классного коллектива, создание развивающей среды личности ребё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ы, методы и приемы, которые классный руководитель может использовать в деятельности по созданию модели воспитательной системы класса отражены в следующей таб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907920"/>
          <a:ext cx="8785440" cy="5720040"/>
        </p:xfrm>
        <a:graphic>
          <a:graphicData uri="http://schemas.openxmlformats.org/drawingml/2006/table">
            <a:tbl>
              <a:tblPr/>
              <a:tblGrid>
                <a:gridCol w="1513080"/>
                <a:gridCol w="2303280"/>
                <a:gridCol w="4969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направления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реализации зада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учащихся класса, отношений, общение и деятельности в классном      коллекти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зучить потребности, интересы, склонности и другие личностные характеристики членов классного коллектив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ределить уровень сформированности классного коллектива, состояние в нем деловых и межличностных отношени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Выявить воспитательные возможности родителей и других категорий взрослых, вовлеченных в жизнедеятельность классной общност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Определить эффективность учебно-воспитательного процесс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нкетирование, игр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тешествие по морю любимых знаний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методик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ик-семицветик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азвивающая анкет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и увлечени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методики для исследования мотивов участия школьников в деятельности и для определения общественной активности учащихся, составление карты интересов и увлечений учащихся класс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Мастерская общени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айте познакомимся!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альбом-эстафет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 класс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лассный час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ружение в мир своего 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игр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кажи мне обо мн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методик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ское стихотворени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Изученние сформированности коллектива по методикам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у нас коллектив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.Н.Лотушин),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– коллектив? Мы – коллектив… Мы коллектив!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состояние межличностных отношений с помощью иг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де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ностуди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социометрических методов, конкурса рисунков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в моем класс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Смотр сочинений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я семь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гонек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и наши дет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бесед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я семья –чудесное место для жизн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ллективное творческое дело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 интересов моей семь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Тесты Н.Е.Щурковой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ышляем о жизненном опыт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А.А.Андреев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енность учащихся школьной жизнью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Е.Н.Стапанов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енность родителей работой образовательного учреждения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920" y="115920"/>
          <a:ext cx="9109080" cy="6200640"/>
        </p:xfrm>
        <a:graphic>
          <a:graphicData uri="http://schemas.openxmlformats.org/drawingml/2006/table">
            <a:tbl>
              <a:tblPr/>
              <a:tblGrid>
                <a:gridCol w="1584360"/>
                <a:gridCol w="3203640"/>
                <a:gridCol w="4321080"/>
              </a:tblGrid>
              <a:tr h="31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ирование целей, перспектив и образа жизнедеятельности классного сообще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формирование образа класса и жизнедеятельности в нем, привлекательный для членов классного сообще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ределить место и роль класса в воспитательной системы школ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ыявить способы и условия использования возможностей окружающей среды в развитии личности и формирования классного коллекти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Организационно-деятельностная игр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личности младшего школьник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лассный ча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рет лицеист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олевая игр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ета друзе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ллективное творческое дел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тропа класс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игр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ходи к нам в будущи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нкур идей и проектов учащихс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, в котором я хотел бы учитьс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Игр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 корабль, где все капитан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вече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 моих увлече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одительское собрани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а+семья+дети=?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творческое дело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в класс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нкурс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б класс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выпуск стенной газет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й класс сегодня и завтр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по сплочению и развитию классного коллектива, созданию развивающей среды личности ребенк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действовать формированию  благоприятной эмоционально-психологической и нравственной атмосферы в класс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пробировать моделируемые элементы воспитательной системы класса в жизнедеятельности классного сообще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раздник именинников, вылазка на природу, культпоходы и экскурсии, игр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най свой поручени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коллективное творческое дело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шем классе день рожде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игра –путешествие по семейным острова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 при свеча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бузни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шебный сту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другие формы коллективной деятельности , предлагаемые Н.Е.Щурковой в книг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ранье пестрых де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0:51:28Z</dcterms:created>
  <dc:creator>Полина</dc:creator>
  <dc:description/>
  <dc:language>en-US</dc:language>
  <cp:lastModifiedBy>Полина</cp:lastModifiedBy>
  <dcterms:modified xsi:type="dcterms:W3CDTF">2008-11-22T06:27:15Z</dcterms:modified>
  <cp:revision>6</cp:revision>
  <dc:subject/>
  <dc:title>Воспитательная система класса.</dc:title>
</cp:coreProperties>
</file>