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349-E178-4B6B-98A0-84F1439C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331-E97B-4840-8275-92EC674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AE6-48DA-4191-97CC-0E514D6B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F06-A56F-47C6-B6CC-09DCD049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5943-01C8-4F82-AF3B-240D17CA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74796-2C72-4F97-B2BD-F35D584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934F-4305-4078-B171-C4F55CF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57643-CEC7-4418-B6B0-919A864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19568-56EA-43EA-B2C1-98836BB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E900F-B7E6-447C-8BF1-F1827F7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0671F-C177-4AB4-80DC-CE1C085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5C4-25C7-45C5-A8A1-158EC50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CB41A-A64D-4A50-A11E-82281EB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8747-646C-4913-89B1-91EAF43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66C3-F9E2-4296-A542-F2B908BF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2AD2-4442-4C7A-AE3D-1CEE8CAD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1C4B9-5BE3-44BF-86DD-FEDB52D0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8BD-3575-434B-B955-C5DD5AE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218-AAFD-49E4-95B5-C9DB8A3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2AB-74DA-432D-AAAE-56005B4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E43-CBA0-4182-BAA4-5E2AAFE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09F-67BF-4901-9EB9-5D78AAB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73-504D-4B31-88CF-15BC40A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DC5-9AFC-4D1C-9C2B-E2C3ABF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44F3-E092-43D6-BB2E-2CA30D0A92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6E8-CA27-41C0-ACF6-4589AB1733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не Әлмәт районы Т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үбән Мактама 2нче урта мәктәбе укытучысы Аглиева Гөлназ Фоатовна төзе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а    чу   ч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tt-RU" sz="4800" spc="-1" strike="noStrike">
                <a:solidFill>
                  <a:srgbClr val="ffffff"/>
                </a:solidFill>
                <a:latin typeface="Tahoma"/>
              </a:rPr>
              <a:t>ә     чү   че    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t-RU" sz="8800" spc="-1" strike="noStrike">
                <a:solidFill>
                  <a:srgbClr val="ffffff"/>
                </a:solidFill>
                <a:latin typeface="Tahoma"/>
              </a:rPr>
              <a:t>сандугач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14 нче декабр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tt-RU" sz="3200" spc="-1" strike="noStrike">
                <a:solidFill>
                  <a:srgbClr val="000000"/>
                </a:solidFill>
                <a:latin typeface="Tahoma"/>
              </a:rPr>
              <a:t>ш] аваз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tt-RU" sz="3200" spc="-1" strike="noStrike">
                <a:solidFill>
                  <a:srgbClr val="000000"/>
                </a:solidFill>
                <a:latin typeface="Tahoma"/>
              </a:rPr>
              <a:t>әм Ш, ш хәрефлә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а    шу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   ш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Шә    шү   ше   ш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b9e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916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Шалк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Та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Ба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Ишә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Ишек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30:02Z</dcterms:created>
  <dc:creator>дом</dc:creator>
  <dc:description/>
  <dc:language>en-US</dc:language>
  <cp:lastModifiedBy>Admin</cp:lastModifiedBy>
  <dcterms:modified xsi:type="dcterms:W3CDTF">2011-11-21T19:07:19Z</dcterms:modified>
  <cp:revision>10</cp:revision>
  <dc:subject/>
  <dc:title>Слайд 1</dc:title>
</cp:coreProperties>
</file>