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56F-4123-4C98-9464-4B347A75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733-8DE3-4CDC-9167-8EAA52C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C15-E74B-4501-A724-D330EC5C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EE3-693B-41B0-B3E8-835737C1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21F72-0327-47F4-AAA3-7505C30B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9EFF-EDAC-479F-96AA-2491C3CB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9ADF3-AB1F-46C6-B945-A2BAE789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74426-32E3-4973-8CDB-C1BF2409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4A968-1A5E-4BD2-9277-461FE322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B4FF2-69B4-48FF-8962-E7B0FF4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0381D-10FB-4C48-8093-3AE8E6F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025-FD70-49FE-B77D-8B3B7FE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1206A-CA79-4EEA-BAB0-8EBAA69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88D68-A8E2-4688-BBBB-0372073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962D1-1A87-4466-AFB3-ABAB6B10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BBA06-20D8-409B-ACFF-6A8B6E75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64DD7-7BAB-40CE-B571-EAF182F1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33C-9E2C-4A90-A5C5-A8DC7E39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283-D9E7-4C4A-97C4-9149E48A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511-A956-4F0E-BB1E-E4D5C8E3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0EAB-27D4-4087-9E33-7A20C0D6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39B-63FC-439E-A8A5-9F3BFDE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3F1-82CD-4462-A0E9-2CCFC4D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6A9-CAF9-4D07-8577-BB63B19C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27C6-966D-420D-939C-C285E17663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E03-B000-4B91-B0EF-635BAD9AEF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не Әлмәт районы Т</a:t>
            </a:r>
            <a:r>
              <a:rPr b="0" lang="tt-RU" sz="2400" spc="-1" strike="noStrike">
                <a:solidFill>
                  <a:srgbClr val="ffffff"/>
                </a:solidFill>
                <a:latin typeface="Tahoma"/>
              </a:rPr>
              <a:t>үбән Мактама 2нче урта мәктәбе укытучысы Аглиева Гөлназ Фоатовна төзе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а    чу   ч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tt-RU" sz="4800" spc="-1" strike="noStrike">
                <a:solidFill>
                  <a:srgbClr val="ffffff"/>
                </a:solidFill>
                <a:latin typeface="Tahoma"/>
              </a:rPr>
              <a:t>ә     чү   че    ч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tt-RU" sz="8800" spc="-1" strike="noStrike">
                <a:solidFill>
                  <a:srgbClr val="ffffff"/>
                </a:solidFill>
                <a:latin typeface="Tahoma"/>
              </a:rPr>
              <a:t>сандугач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14 нче декабр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tt-RU" sz="3200" spc="-1" strike="noStrike">
                <a:solidFill>
                  <a:srgbClr val="000000"/>
                </a:solidFill>
                <a:latin typeface="Tahoma"/>
              </a:rPr>
              <a:t>ш] авазы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tt-RU" sz="3200" spc="-1" strike="noStrike">
                <a:solidFill>
                  <a:srgbClr val="000000"/>
                </a:solidFill>
                <a:latin typeface="Tahoma"/>
              </a:rPr>
              <a:t>әм Ш, ш хәрефлә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а    шу</a:t>
            </a: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   ш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Шә    шү   ше   ш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b9e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916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Шалк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Та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Ба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Ишә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Tahoma"/>
              </a:rPr>
              <a:t>Ишек</a:t>
            </a: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19:30:02Z</dcterms:created>
  <dc:creator>дом</dc:creator>
  <dc:description/>
  <dc:language>en-US</dc:language>
  <cp:lastModifiedBy>Admin</cp:lastModifiedBy>
  <dcterms:modified xsi:type="dcterms:W3CDTF">2011-11-21T19:07:19Z</dcterms:modified>
  <cp:revision>10</cp:revision>
  <dc:subject/>
  <dc:title>Слайд 1</dc:title>
</cp:coreProperties>
</file>