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7.jpeg" ContentType="image/jpeg"/>
  <Override PartName="/ppt/media/image38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2BB-4B9F-4DAF-8D1D-9EFEC7AA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0A2-9112-4414-AFA7-90CDBD9A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B06-42C0-4656-9685-C3E11E71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B1B2-D2CB-4CB9-9037-AEAAA1D2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001-C640-4521-BD32-83B79E94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192-D173-4794-ACD5-A8F87D0F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794-73C2-46BF-BEDE-B6DC419E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B68-CC4E-4F14-81B2-2C72790C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081-DE83-4D36-BFE3-CA951B82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B67-D5B6-453A-A667-1A08FFD7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96F7-E0FA-428D-B298-A8FDB377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CE27-59A7-4068-912A-9C551066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37B3-FC92-4EEA-BF5B-88C018918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" Target="slide3.xml"/><Relationship Id="rId10" Type="http://schemas.openxmlformats.org/officeDocument/2006/relationships/slide" Target="slide6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3.xml"/><Relationship Id="rId14" Type="http://schemas.openxmlformats.org/officeDocument/2006/relationships/slide" Target="slide16.xml"/><Relationship Id="rId15" Type="http://schemas.openxmlformats.org/officeDocument/2006/relationships/slide" Target="slide19.xml"/><Relationship Id="rId16" Type="http://schemas.openxmlformats.org/officeDocument/2006/relationships/slide" Target="slide22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fon_vinie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13"/>
          <p:cNvGraphicFramePr/>
          <p:nvPr/>
        </p:nvGraphicFramePr>
        <p:xfrm>
          <a:off x="2843280" y="981000"/>
          <a:ext cx="100800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981000"/>
                    <a:ext cx="1008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Picture 14" descr="koloss"/>
          <p:cNvPicPr/>
          <p:nvPr/>
        </p:nvPicPr>
        <p:blipFill>
          <a:blip r:embed="rId5"/>
          <a:stretch/>
        </p:blipFill>
        <p:spPr>
          <a:xfrm>
            <a:off x="3851280" y="981000"/>
            <a:ext cx="1006560" cy="100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mavzoley"/>
          <p:cNvPicPr/>
          <p:nvPr/>
        </p:nvPicPr>
        <p:blipFill>
          <a:blip r:embed="rId6"/>
          <a:stretch/>
        </p:blipFill>
        <p:spPr>
          <a:xfrm>
            <a:off x="4859280" y="98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mayak"/>
          <p:cNvPicPr/>
          <p:nvPr/>
        </p:nvPicPr>
        <p:blipFill>
          <a:blip r:embed="rId7"/>
          <a:stretch/>
        </p:blipFill>
        <p:spPr>
          <a:xfrm>
            <a:off x="4572000" y="1989000"/>
            <a:ext cx="993600" cy="1008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iramida"/>
          <p:cNvPicPr/>
          <p:nvPr/>
        </p:nvPicPr>
        <p:blipFill>
          <a:blip r:embed="rId8"/>
          <a:stretch/>
        </p:blipFill>
        <p:spPr>
          <a:xfrm>
            <a:off x="4211640" y="292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sady"/>
          <p:cNvPicPr/>
          <p:nvPr/>
        </p:nvPicPr>
        <p:blipFill>
          <a:blip r:embed="rId9"/>
          <a:stretch/>
        </p:blipFill>
        <p:spPr>
          <a:xfrm>
            <a:off x="3780000" y="3860640"/>
            <a:ext cx="993600" cy="10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zevs"/>
          <p:cNvPicPr/>
          <p:nvPr/>
        </p:nvPicPr>
        <p:blipFill>
          <a:blip r:embed="rId10"/>
          <a:stretch/>
        </p:blipFill>
        <p:spPr>
          <a:xfrm>
            <a:off x="3348000" y="4797360"/>
            <a:ext cx="992160" cy="100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1"/>
          <p:cNvSpPr/>
          <p:nvPr/>
        </p:nvSpPr>
        <p:spPr>
          <a:xfrm>
            <a:off x="6286680" y="4857840"/>
            <a:ext cx="2428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00360" y="1412640"/>
            <a:ext cx="4392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всол был правителем Карий. Столицей области был Галикарнас. Мавсол женился на своей сестре Артемизии. Он решил построить гробницу для себя и своей царицы. Мавсол мечтал о величественном памятнике, который бы напоминал миру о его богатстве и могуществе. Он умер до окончания работ над гробницей. Руководить строительством продолжила Артемизия. Гробница была построена в 350 году до н. э. Она была названа Мавзолеем по имени ц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468360" y="189000"/>
            <a:ext cx="79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onotype Corsiva"/>
              </a:rPr>
              <a:t>Мавзолей в Галикарнас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pic>
        <p:nvPicPr>
          <p:cNvPr id="87" name="Picture 9" descr="main"/>
          <p:cNvPicPr/>
          <p:nvPr/>
        </p:nvPicPr>
        <p:blipFill>
          <a:blip r:embed="rId4"/>
          <a:stretch/>
        </p:blipFill>
        <p:spPr>
          <a:xfrm>
            <a:off x="395280" y="1268280"/>
            <a:ext cx="3816360" cy="532944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716000" y="260280"/>
            <a:ext cx="40388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пел царственной четы хранился в золотых урнах в усыпальнице в основании здания. Ряд каменных львов сторожил это помещение. Само сооружение напоминало греческий храм, окружённый колоннами и статуями. На вершине здания находилась ступенчатая пирамида. На высоте 43 м над землёй её венчало скульптурное изображение колесницы, запряжённой лошадьми. На ней, вероятно, стояли статуи царя и цар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mausoleum_color"/>
          <p:cNvPicPr/>
          <p:nvPr/>
        </p:nvPicPr>
        <p:blipFill>
          <a:blip r:embed="rId2"/>
          <a:stretch/>
        </p:blipFill>
        <p:spPr>
          <a:xfrm>
            <a:off x="395280" y="1197000"/>
            <a:ext cx="4321080" cy="42498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6"/>
          <p:cNvPicPr/>
          <p:nvPr/>
        </p:nvPicPr>
        <p:blipFill>
          <a:blip r:embed="rId2"/>
          <a:stretch/>
        </p:blipFill>
        <p:spPr>
          <a:xfrm>
            <a:off x="468360" y="1052640"/>
            <a:ext cx="4103640" cy="44640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88000" y="98064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пустя восемнадцать столетий землетрясение разрушило Мавзолей до основания. Ещё триста лет прошло, прежде чем археологи приступили к раскопкам. В 1857 году все находки были перевезены в Британский музей в Лондоне. Теперь на месте, где когда-то был Мавзолей, осталась лишь горстка кам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sady"/>
          <p:cNvPicPr/>
          <p:nvPr/>
        </p:nvPicPr>
        <p:blipFill>
          <a:blip r:embed="rId3"/>
          <a:stretch/>
        </p:blipFill>
        <p:spPr>
          <a:xfrm>
            <a:off x="8172360" y="587700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48320" y="1268280"/>
            <a:ext cx="4316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до н. э. был построен маяк, чтобы корабли могли благополучно миновать рифы на пути в александрийскую бухту. Ночью им помогало в этом отражение языков пламени, а днём- столб дыма. Это был первый в мире маяк, и простоял он 15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як был построен на маленьком острове Фарос в Средиземном море, около берегов Александрии. На его строительство ушло 20 лет, а завершён он был около 280 года до н.э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684360" y="260280"/>
            <a:ext cx="741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Medium"/>
              </a:rPr>
              <a:t>Александрийский маяк</a:t>
            </a:r>
            <a:endParaRPr b="1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pic>
        <p:nvPicPr>
          <p:cNvPr id="95" name="Picture 10" descr="main"/>
          <p:cNvPicPr/>
          <p:nvPr/>
        </p:nvPicPr>
        <p:blipFill>
          <a:blip r:embed="rId4"/>
          <a:stretch/>
        </p:blipFill>
        <p:spPr>
          <a:xfrm>
            <a:off x="468360" y="1413000"/>
            <a:ext cx="3887640" cy="51116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43280" y="907920"/>
            <a:ext cx="4500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як состоял из трёх мраморных башен, стоявших на основании из массивных каменных блоков. На вершине башни стояла статуя Зевса Спасителя. Общая высота маяка составляла 117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онь горел в верхней башне, которая формой напоминала цилиндр. За пламенем стояли бронзовые пластины, направляющие свет в море. С кораблей можно было видеть этот маяк на расстоянии до 50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pharos_color"/>
          <p:cNvPicPr/>
          <p:nvPr/>
        </p:nvPicPr>
        <p:blipFill>
          <a:blip r:embed="rId2"/>
          <a:stretch/>
        </p:blipFill>
        <p:spPr>
          <a:xfrm>
            <a:off x="250920" y="981000"/>
            <a:ext cx="4373640" cy="48974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4149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маяк был уничтожен землетрясением. Его обломки использовали при строительстве военного форта. Форт не раз перестраивался и до сих пор стоит на месте первого в мире мая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7won2"/>
          <p:cNvPicPr/>
          <p:nvPr/>
        </p:nvPicPr>
        <p:blipFill>
          <a:blip r:embed="rId2"/>
          <a:stretch/>
        </p:blipFill>
        <p:spPr>
          <a:xfrm>
            <a:off x="1979640" y="404640"/>
            <a:ext cx="4897440" cy="32403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01" name="Picture 9" descr="sady"/>
          <p:cNvPicPr/>
          <p:nvPr/>
        </p:nvPicPr>
        <p:blipFill>
          <a:blip r:embed="rId3"/>
          <a:stretch/>
        </p:blipFill>
        <p:spPr>
          <a:xfrm>
            <a:off x="8172360" y="587700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Comic Sans MS"/>
              </a:rPr>
              <a:t>Великая пирамида в Гиз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кая пирамида была построена как гробница Хуфу или Хеопса. Он был одним из фараонов древнего Египта. Гробница была завершена в 2580 году до н.э. Позднее в Гизе было построено ещё две пирамиды, для сына и внука Хуфу, и меньшие по размерам пирамиды для их цар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main"/>
          <p:cNvPicPr/>
          <p:nvPr/>
        </p:nvPicPr>
        <p:blipFill>
          <a:blip r:embed="rId2"/>
          <a:stretch/>
        </p:blipFill>
        <p:spPr>
          <a:xfrm>
            <a:off x="1908000" y="1628640"/>
            <a:ext cx="4896000" cy="21607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68360" y="378900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932000" y="1125000"/>
            <a:ext cx="4211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строительство Великой пирамиды 100 000 человек потребовалось 20 лет. Она была создана из более чем 2 миллионов каменных блоков, каждый из которых весил не менее 2,5 тонн. Рабочие подтаскивали их к месту, используя пандусы, блоки и рычаги, а затем подгоняли друг к другу, без раствора. По завершении работ Великая пирамида поднялась на 147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7won6"/>
          <p:cNvPicPr/>
          <p:nvPr/>
        </p:nvPicPr>
        <p:blipFill>
          <a:blip r:embed="rId2"/>
          <a:stretch/>
        </p:blipFill>
        <p:spPr>
          <a:xfrm>
            <a:off x="250920" y="260280"/>
            <a:ext cx="4465440" cy="3006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108" name="Picture 11" descr="bpyramid"/>
          <p:cNvPicPr/>
          <p:nvPr/>
        </p:nvPicPr>
        <p:blipFill>
          <a:blip r:embed="rId3"/>
          <a:stretch/>
        </p:blipFill>
        <p:spPr>
          <a:xfrm>
            <a:off x="250920" y="3429000"/>
            <a:ext cx="4464000" cy="32130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sady"/>
          <p:cNvPicPr/>
          <p:nvPr/>
        </p:nvPicPr>
        <p:blipFill>
          <a:blip r:embed="rId2"/>
          <a:stretch/>
        </p:blipFill>
        <p:spPr>
          <a:xfrm>
            <a:off x="8244000" y="5877000"/>
            <a:ext cx="704880" cy="704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6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ерь её вершина обвалилась. Только одна пирамида сына Хуфу на самом своём верху сохранила известковую облиц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гипетская пирамида является древнейшим из Семи чудес древности. Это единственное из чудес, сохранившееся до наших дней. Во время своего создания Великая пирамида была самым высоким сооружением в мире. И удерживала она этот рекорд почти 40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3"/>
          <p:cNvPicPr/>
          <p:nvPr/>
        </p:nvPicPr>
        <p:blipFill>
          <a:blip r:embed="rId3"/>
          <a:stretch/>
        </p:blipFill>
        <p:spPr>
          <a:xfrm>
            <a:off x="2050920" y="476280"/>
            <a:ext cx="5257800" cy="30240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859280" y="1844280"/>
            <a:ext cx="40384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ды были построены около 600 года до н.э. по приказу Навуходоносор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овелителя Вавилона. Царь приказал построить сады ради тосковавшей по дому молодой жены Амитис, чтобы они напоминали ей родные персидские г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Monotype Corsiva"/>
              </a:rPr>
              <a:t>Висячие сады Вавило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main"/>
          <p:cNvPicPr/>
          <p:nvPr/>
        </p:nvPicPr>
        <p:blipFill>
          <a:blip r:embed="rId2"/>
          <a:stretch/>
        </p:blipFill>
        <p:spPr>
          <a:xfrm>
            <a:off x="324000" y="1773360"/>
            <a:ext cx="4464000" cy="39592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artemida"/>
          <p:cNvPicPr/>
          <p:nvPr/>
        </p:nvPicPr>
        <p:blipFill>
          <a:blip r:embed="rId2"/>
          <a:stretch/>
        </p:blipFill>
        <p:spPr>
          <a:xfrm>
            <a:off x="755640" y="112536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koloss"/>
          <p:cNvPicPr/>
          <p:nvPr/>
        </p:nvPicPr>
        <p:blipFill>
          <a:blip r:embed="rId3"/>
          <a:stretch/>
        </p:blipFill>
        <p:spPr>
          <a:xfrm>
            <a:off x="755640" y="177336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mavzoley"/>
          <p:cNvPicPr/>
          <p:nvPr/>
        </p:nvPicPr>
        <p:blipFill>
          <a:blip r:embed="rId4"/>
          <a:stretch/>
        </p:blipFill>
        <p:spPr>
          <a:xfrm>
            <a:off x="755640" y="234936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mayak"/>
          <p:cNvPicPr/>
          <p:nvPr/>
        </p:nvPicPr>
        <p:blipFill>
          <a:blip r:embed="rId5"/>
          <a:stretch/>
        </p:blipFill>
        <p:spPr>
          <a:xfrm>
            <a:off x="755640" y="29242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piramida"/>
          <p:cNvPicPr/>
          <p:nvPr/>
        </p:nvPicPr>
        <p:blipFill>
          <a:blip r:embed="rId6"/>
          <a:stretch/>
        </p:blipFill>
        <p:spPr>
          <a:xfrm>
            <a:off x="755640" y="35002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sady"/>
          <p:cNvPicPr/>
          <p:nvPr/>
        </p:nvPicPr>
        <p:blipFill>
          <a:blip r:embed="rId7"/>
          <a:stretch/>
        </p:blipFill>
        <p:spPr>
          <a:xfrm>
            <a:off x="755640" y="41497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zevs"/>
          <p:cNvPicPr/>
          <p:nvPr/>
        </p:nvPicPr>
        <p:blipFill>
          <a:blip r:embed="rId8"/>
          <a:stretch/>
        </p:blipFill>
        <p:spPr>
          <a:xfrm>
            <a:off x="755640" y="4797360"/>
            <a:ext cx="704880" cy="704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02920" y="188640"/>
            <a:ext cx="721044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Monotype Corsiva"/>
                <a:hlinkClick r:id="rId9" action="ppaction://hlinksldjump"/>
              </a:rPr>
              <a:t>Храм Артемиды в Эфе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Monotype Corsiva"/>
                <a:hlinkClick r:id="rId10" action="ppaction://hlinksldjump"/>
              </a:rPr>
              <a:t>Колосс Родос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Monotype Corsiva"/>
                <a:hlinkClick r:id="rId11" action="ppaction://hlinksldjump"/>
              </a:rPr>
              <a:t>Мавзолей в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Monotype Corsiva"/>
                <a:hlinkClick r:id="rId12" action="ppaction://hlinksldjump"/>
              </a:rPr>
              <a:t>Галикарна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Monotype Corsiva"/>
                <a:hlinkClick r:id="rId13" action="ppaction://hlinksldjump"/>
              </a:rPr>
              <a:t>Александрийский ма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Monotype Corsiva"/>
                <a:hlinkClick r:id="rId14" action="ppaction://hlinksldjump"/>
              </a:rPr>
              <a:t>Великая пирамида в Ги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Monotype Corsiva"/>
                <a:hlinkClick r:id="rId15" action="ppaction://hlinksldjump"/>
              </a:rPr>
              <a:t>Висячие сады Вавил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Monotype Corsiva"/>
                <a:hlinkClick r:id="rId16" action="ppaction://hlinksldjump"/>
              </a:rPr>
              <a:t>Статуя Зевса в Олим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4149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сячие сады были построены у реки и смотрели на городские стены Вавилона. Они были устроены в виде террас. Самая верхняя из них возвышалась над землёй на 40 метров. Навуходоносор повелел посадить в саду все мыслимые виды деревьев и цветов. Их свозили по всей империи на телегах и речных ладь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7won4"/>
          <p:cNvPicPr/>
          <p:nvPr/>
        </p:nvPicPr>
        <p:blipFill>
          <a:blip r:embed="rId2"/>
          <a:stretch/>
        </p:blipFill>
        <p:spPr>
          <a:xfrm>
            <a:off x="250920" y="404640"/>
            <a:ext cx="4392360" cy="33847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7" name="Picture 14" descr="gardens_color"/>
          <p:cNvPicPr/>
          <p:nvPr/>
        </p:nvPicPr>
        <p:blipFill>
          <a:blip r:embed="rId3"/>
          <a:stretch/>
        </p:blipFill>
        <p:spPr>
          <a:xfrm>
            <a:off x="4859280" y="404640"/>
            <a:ext cx="4114800" cy="33530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сячие сады были одной из самых знаменитых диковинок древнего города Вавилон. Однако, хотя археологи и нашли предполагаемые руины садов, доказать, что это именно они, невозможно. Мы знаем только одно: сады действительно существовали, потому что люди видели и описали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hangg"/>
          <p:cNvPicPr/>
          <p:nvPr/>
        </p:nvPicPr>
        <p:blipFill>
          <a:blip r:embed="rId2"/>
          <a:stretch/>
        </p:blipFill>
        <p:spPr>
          <a:xfrm>
            <a:off x="1619280" y="333360"/>
            <a:ext cx="5692680" cy="33116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20" name="Picture 9" descr="sady"/>
          <p:cNvPicPr/>
          <p:nvPr/>
        </p:nvPicPr>
        <p:blipFill>
          <a:blip r:embed="rId3"/>
          <a:stretch/>
        </p:blipFill>
        <p:spPr>
          <a:xfrm>
            <a:off x="8172360" y="587700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Monotype Corsiva"/>
              </a:rPr>
              <a:t>Статуя Зевса в Олимп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00360" y="1773000"/>
            <a:ext cx="432108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ти 3000 лет назад Олимпия была важным религиозным центром Юго- Запападной Греции. Древние греки поклонялись Зевсу, царю б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до н.э. граждане Олимпии решили построить храм Зевса. В течение нескольких лет после окончания строительства в храме не было достойной статуи Зев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4"/>
          <p:cNvPicPr/>
          <p:nvPr/>
        </p:nvPicPr>
        <p:blipFill>
          <a:blip r:embed="rId2"/>
          <a:stretch/>
        </p:blipFill>
        <p:spPr>
          <a:xfrm>
            <a:off x="539640" y="2205000"/>
            <a:ext cx="3745080" cy="2808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43280" y="188640"/>
            <a:ext cx="450072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качестве создателя статуи был избран знаменитый афинский скульптор Фидий. Сначала был создан деревянный каркас, костяк статуи Зевса. Затем его покрыли пластинками из слоновой кости, представлявшими кожу бога, и золотыми листами, изображавшими его одея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вс восседал на троне, инкрустированном чёрным деревом и драгоценными камнями. Законченная статуя достигала 13 м в высоту и почти касалась потолка храма. Возле стен соорудили площадки для зрителей, чтобы люди могли увидеть лицо б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main"/>
          <p:cNvPicPr/>
          <p:nvPr/>
        </p:nvPicPr>
        <p:blipFill>
          <a:blip r:embed="rId2"/>
          <a:stretch/>
        </p:blipFill>
        <p:spPr>
          <a:xfrm>
            <a:off x="395280" y="765000"/>
            <a:ext cx="4032360" cy="53280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своего завершения в 435 году до н.э. статуя на протяжении 800 лет оставалась одним из величайших чудес с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391 году н.э., после принятия христианства, римляне закрыли греческие храмы. Статую Зевса перевезли в Константиноп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zeus_color"/>
          <p:cNvPicPr/>
          <p:nvPr/>
        </p:nvPicPr>
        <p:blipFill>
          <a:blip r:embed="rId2"/>
          <a:stretch/>
        </p:blipFill>
        <p:spPr>
          <a:xfrm>
            <a:off x="324000" y="476280"/>
            <a:ext cx="4679640" cy="33526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128" name="Picture 11" descr="ztemp"/>
          <p:cNvPicPr/>
          <p:nvPr/>
        </p:nvPicPr>
        <p:blipFill>
          <a:blip r:embed="rId3"/>
          <a:stretch/>
        </p:blipFill>
        <p:spPr>
          <a:xfrm>
            <a:off x="5364000" y="476280"/>
            <a:ext cx="3429000" cy="34290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4920" y="4669920"/>
            <a:ext cx="84978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462 году н.э. дворец, в котором стояла статуя, был уничтожен пожа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лимпийской области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ке случилось землетрясение. Храм был разрушен наводнениями, а его остатки покрыты и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2"/>
          <p:cNvPicPr/>
          <p:nvPr/>
        </p:nvPicPr>
        <p:blipFill>
          <a:blip r:embed="rId2"/>
          <a:stretch/>
        </p:blipFill>
        <p:spPr>
          <a:xfrm>
            <a:off x="2556000" y="549360"/>
            <a:ext cx="4249440" cy="3744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131" name="Picture 9" descr="sady"/>
          <p:cNvPicPr/>
          <p:nvPr/>
        </p:nvPicPr>
        <p:blipFill>
          <a:blip r:embed="rId3"/>
          <a:stretch/>
        </p:blipFill>
        <p:spPr>
          <a:xfrm>
            <a:off x="8172360" y="587700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Храм Артемиды в Эфе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рам был построен в 560 году до н. э. последним царём Лидии- Крезом, который славился своим огромным богат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рам посвятили богине луны, покровительнице животных и молодых девушек. Он был построен из известняка и мрам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о был один из крупнейших храмов классики, намного превосходивший размерами Парфенон.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Храм Артемиды"/>
          <p:cNvPicPr/>
          <p:nvPr/>
        </p:nvPicPr>
        <p:blipFill>
          <a:blip r:embed="rId3"/>
          <a:stretch/>
        </p:blipFill>
        <p:spPr>
          <a:xfrm>
            <a:off x="395280" y="2133720"/>
            <a:ext cx="4025880" cy="2663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40428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859280" y="40428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378900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ести лет спустя, в 356 году до н. э., храм был сожжён дотла человеком по имени Герост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пустя годы, Александр Великий посетил Эфес и приказал восстановить храм. Храм Александра просуществовал до /// века н. 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7won1"/>
          <p:cNvPicPr/>
          <p:nvPr/>
        </p:nvPicPr>
        <p:blipFill>
          <a:blip r:embed="rId2"/>
          <a:stretch/>
        </p:blipFill>
        <p:spPr>
          <a:xfrm>
            <a:off x="179280" y="189000"/>
            <a:ext cx="4286520" cy="2952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66" name="Picture 12" descr="artemis_color"/>
          <p:cNvPicPr/>
          <p:nvPr/>
        </p:nvPicPr>
        <p:blipFill>
          <a:blip r:embed="rId3"/>
          <a:stretch/>
        </p:blipFill>
        <p:spPr>
          <a:xfrm>
            <a:off x="4572000" y="189000"/>
            <a:ext cx="4381560" cy="2952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1600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годня от храма в Эфесе сохранилось лишь несколько блоков основания и одна восстановленная колон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5"/>
          <p:cNvPicPr/>
          <p:nvPr/>
        </p:nvPicPr>
        <p:blipFill>
          <a:blip r:embed="rId2"/>
          <a:stretch/>
        </p:blipFill>
        <p:spPr>
          <a:xfrm>
            <a:off x="539640" y="620640"/>
            <a:ext cx="3888000" cy="49690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70" name="Picture 14" descr="sady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72360" y="587700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Колосс Родос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оссом называлась гигантская статуя, которая стояла в портовом городе на Родосе- острове в Эгейском море, у берегов современной Тур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ревние времена жители Родоса хотели быть независимыми торговцами. В конц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ка до н. э. народ Родоса отпраздновал победу над греками. Люди решили построить статую почитаемого ими бога солнца Гелиоса, чтобы отблагодарить его за заступ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main"/>
          <p:cNvPicPr/>
          <p:nvPr/>
        </p:nvPicPr>
        <p:blipFill>
          <a:blip r:embed="rId2"/>
          <a:stretch/>
        </p:blipFill>
        <p:spPr>
          <a:xfrm>
            <a:off x="395280" y="1413000"/>
            <a:ext cx="4032360" cy="50403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4000" y="62064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920" y="371592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859280" y="141264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не знаем точно, как выглядела статуя и где она стоя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уя была сделана из бронзы и достигала в высоту около 33 метров. Она была создана скульптором Харетом, на её строительство ушло 12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7won5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2952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79" name="Picture 15" descr="colossus_color"/>
          <p:cNvPicPr/>
          <p:nvPr/>
        </p:nvPicPr>
        <p:blipFill>
          <a:blip r:embed="rId3"/>
          <a:stretch/>
        </p:blipFill>
        <p:spPr>
          <a:xfrm>
            <a:off x="250920" y="3357720"/>
            <a:ext cx="4276800" cy="29509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2920" y="765000"/>
            <a:ext cx="4038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ёные-археологи предполагают, что статуя стояла в центре города и смотрела на море и гав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 время землетрясения, через 50 лет после окончания строительства, Колосс рухнул, переломившись на уровне кол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colstat"/>
          <p:cNvPicPr/>
          <p:nvPr/>
        </p:nvPicPr>
        <p:blipFill>
          <a:blip r:embed="rId2"/>
          <a:stretch/>
        </p:blipFill>
        <p:spPr>
          <a:xfrm>
            <a:off x="395280" y="981000"/>
            <a:ext cx="4003560" cy="4608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16000" y="692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годня по обе стороны устья родосской бухты стоят на колоннах бронзовые олени. Олень- эмблема Родоса, входящего в современную Гре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7"/>
          <p:cNvPicPr/>
          <p:nvPr/>
        </p:nvPicPr>
        <p:blipFill>
          <a:blip r:embed="rId2"/>
          <a:stretch/>
        </p:blipFill>
        <p:spPr>
          <a:xfrm>
            <a:off x="1042920" y="692280"/>
            <a:ext cx="3024360" cy="53290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84" name="Picture 9" descr="sady"/>
          <p:cNvPicPr/>
          <p:nvPr/>
        </p:nvPicPr>
        <p:blipFill>
          <a:blip r:embed="rId3"/>
          <a:stretch/>
        </p:blipFill>
        <p:spPr>
          <a:xfrm>
            <a:off x="8172360" y="587700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2:42:55Z</dcterms:created>
  <dc:creator>student</dc:creator>
  <dc:description/>
  <dc:language>en-US</dc:language>
  <cp:lastModifiedBy>Пользователь</cp:lastModifiedBy>
  <dcterms:modified xsi:type="dcterms:W3CDTF">2011-11-22T18:20:38Z</dcterms:modified>
  <cp:revision>47</cp:revision>
  <dc:subject/>
  <dc:title>Слайд 1</dc:title>
</cp:coreProperties>
</file>