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D85B3-598C-4C9D-8A08-7E1EF80EE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2762E-64BC-41D3-BCCA-820839D80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DA900-380A-4C2D-9B3D-01C8EEAD1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2B191-96C1-4F14-8305-0653EF9F6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D4133-26CC-4825-A444-4B36EF00F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F1F71-68DE-4B2C-A92B-A01397176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8242E-745D-4762-B66C-919EBEF42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ABBF6-7083-4356-9F28-D40C1245B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43252-7C6A-42D4-82B5-E88A31A22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F9EE4-F05D-4ECA-B327-F027C2967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1FDEE-CDA3-4C01-88C8-5FE7F657F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05E8E-2C70-46EC-B160-06A216E1C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CA26F-E9F1-4094-AC53-BBC45EF9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0EA33-6A7E-4A0A-8C6C-F523C710C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A64CD-118F-44C8-9A51-7B14112EE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374ED-3983-4267-A70D-CFDA1A5AA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324B6-A3A4-4D43-B108-569C3DE0A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40777-27E2-4B7B-A4A2-3058CFC63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A83A3-EF71-4CA9-B3EE-2B6C4FE24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61AD6-A1B9-438F-A817-5C01472D1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15EBE-7D6E-46B1-B593-CA6769C56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F9C67-C06B-4971-A3FD-8CC502D9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782F4-E381-4956-AB3C-CBDD47C9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D6775-63B1-45E9-81F3-8C1C9352E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A85A0-BEDD-42B2-B91B-2F5E63BC523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5c8a"/>
                  </a:gs>
                  <a:gs pos="100000">
                    <a:srgbClr val="66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5c8a"/>
                  </a:gs>
                  <a:gs pos="100000">
                    <a:srgbClr val="66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537c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959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5656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5c8a"/>
                  </a:gs>
                  <a:gs pos="100000">
                    <a:srgbClr val="66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5c8a"/>
                  </a:gs>
                  <a:gs pos="100000">
                    <a:srgbClr val="66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537c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959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5656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BA8D1-BB14-4726-B908-6CBB7CABB1B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Дом с колокольчиком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7640" y="517320"/>
            <a:ext cx="849636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Самая большая роскошь – роскошь человеческого общения.</a:t>
            </a:r>
            <a:br>
              <a:rPr sz="3200"/>
            </a:b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                                                     А.Экзюпери</a:t>
            </a:r>
            <a:endParaRPr b="1" lang="en-US" sz="32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Garamond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11280" y="2060640"/>
            <a:ext cx="806436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-3463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79acd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7772400" cy="43815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ru-RU" sz="6600" spc="-1" strike="noStrike">
                <a:solidFill>
                  <a:srgbClr val="ffcc00"/>
                </a:solidFill>
                <a:latin typeface="Garamond"/>
              </a:rPr>
              <a:t>Роль общения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cc00"/>
                </a:solidFill>
                <a:latin typeface="Garamond"/>
              </a:rPr>
              <a:t>в  жизни  человека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3600" spc="-1" strike="noStrike">
                <a:solidFill>
                  <a:srgbClr val="ffcc00"/>
                </a:solidFill>
                <a:latin typeface="Garamond"/>
              </a:rPr>
              <a:t>Общение – это особый вид человеческой деятельности, которая необходима для того, чтобы устанавливать отношения друг с другм и окружающим миром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Законы общения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Garamond"/>
              </a:rPr>
              <a:t>Умение слушать и слышать друг друг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276720" y="2565360"/>
            <a:ext cx="586728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Законы общения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Garamond"/>
              </a:rPr>
              <a:t>Умение находить компромисс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908000" y="2637000"/>
            <a:ext cx="706140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Законы общения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Garamond"/>
              </a:rPr>
              <a:t>Умение аргументировано убеждать другого человек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124000" y="2924280"/>
            <a:ext cx="852660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Garamond"/>
              </a:rPr>
              <a:t>С каким настроением ты уходишь с урока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Garamond"/>
              </a:rPr>
              <a:t>Что понравилось на уроке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Garamond"/>
              </a:rPr>
              <a:t>Что не понравилось на уроке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Garamond"/>
              </a:rPr>
              <a:t>Были ли задания, которые вызвали трудность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en-US" sz="3600" spc="-1" strike="noStrike">
                <a:solidFill>
                  <a:srgbClr val="ffcc00"/>
                </a:solidFill>
                <a:latin typeface="Garamond"/>
              </a:rPr>
              <a:t>Что нового ты для себя узнал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6T16:59:28Z</dcterms:created>
  <dc:creator>Ольга</dc:creator>
  <dc:description/>
  <dc:language>en-US</dc:language>
  <cp:lastModifiedBy>Ольга</cp:lastModifiedBy>
  <dcterms:modified xsi:type="dcterms:W3CDTF">2011-02-27T11:43:42Z</dcterms:modified>
  <cp:revision>6</cp:revision>
  <dc:subject/>
  <dc:title>Что такое общение</dc:title>
</cp:coreProperties>
</file>