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6C0E-BA53-4DD1-9987-386FF441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5979-9160-4F5B-98A4-12E12193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8618-9025-4442-B719-4D30FD24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E1C7-44B5-451C-8A66-F7C66E76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7745-B959-4659-BA83-3EA2C632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8106-A19A-49C2-992F-8D75F87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04B8-A745-4A79-A92F-9C04FAB5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DA9-6785-4407-B153-1371CC6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B1D-4FBD-4C17-A7A2-F643029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032D-A6E9-4879-B9F5-6677915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571-C638-47C0-874F-189F747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4799-4679-4623-B311-BA5004C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F43A-C6B0-43A2-ADB3-45EEFE2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A6D0-58CE-4A63-8375-7D67641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738C-F4E0-45F4-B734-103DB97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0E8E-BE2B-420E-9074-8ECF6343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495-9E82-4D3C-8F0B-FAE0D256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14DF-B352-4906-BE58-28D15D7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D0F8-22A0-4B12-B229-A88504C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3AC9-5215-4857-81CE-CC53D1A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1908-4F18-4988-A366-3A3E63A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152F-401D-4E1B-B872-90DD98D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547B3-B24C-48A8-B944-F1CFDD56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1662-F97E-4573-B14C-D8F5D9D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26B6-AAE8-48C3-8D09-D15E6AE6DA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E7D5-8B82-4ADC-B90B-5E4FDE571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Дом с колокольчиком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517320"/>
            <a:ext cx="849636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Самая большая роскошь – роскошь человеческого общения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                                                    А.Экзюпери</a:t>
            </a:r>
            <a:endParaRPr b="1" lang="en-US" sz="32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64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4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79acd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772400" cy="4381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6600" spc="-1" strike="noStrike">
                <a:solidFill>
                  <a:srgbClr val="ffcc00"/>
                </a:solidFill>
                <a:latin typeface="Garamond"/>
              </a:rPr>
              <a:t>Роль общения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Garamond"/>
              </a:rPr>
              <a:t>в  жизни  челове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cc00"/>
                </a:solidFill>
                <a:latin typeface="Garamond"/>
              </a:rPr>
              <a:t>Общение – это особый вид человеческой деятельности, которая необходима для того, чтобы устанавливать отношения друг с другм и окружающим миром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Умение слушать и слышать друг друг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Garamond"/>
              </a:rPr>
              <a:t>Умение находить компромисс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70614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Законы общения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Умение аргументировано убеждать другого челове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8526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С каким настроением ты уходишь с урока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понравилось на урок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не понравилось на урок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Были ли задания, которые вызвали трудность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Что нового ты для себя узнал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6:59:28Z</dcterms:created>
  <dc:creator>Ольга</dc:creator>
  <dc:description/>
  <dc:language>en-US</dc:language>
  <cp:lastModifiedBy>Ольга</cp:lastModifiedBy>
  <dcterms:modified xsi:type="dcterms:W3CDTF">2011-02-27T11:43:42Z</dcterms:modified>
  <cp:revision>6</cp:revision>
  <dc:subject/>
  <dc:title>Что такое общение</dc:title>
</cp:coreProperties>
</file>