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A88-F9AE-4D25-9DCD-54B981B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AEB-106B-4DD9-B430-963FE96E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06C-854F-4CD1-B6F4-04E70A97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2B0-7500-4C03-863B-50743129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0CA8-D6A2-4477-8930-A6FAC87F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2CD6-8521-4199-8A9D-61E77CB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F503-83F2-4359-ADE6-D4FD633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C2FC-3FE5-4AD0-9658-5224FB5D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96A2-6F48-485E-8C65-1166D64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682D-886B-42FD-8FF7-C9C852B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9180-91C6-4DAE-B7EE-A7167D7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F0A-3FE5-4775-A345-70D4CBC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AA6-6C0C-4E52-9D0A-F8B85FD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19B9-84CB-439E-9A56-4096E739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BEB0-A65C-4DA0-9A71-F89D16E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C37-14FB-495B-872C-ED02304C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6B4F-0252-49EB-81E3-FCF87C12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CFE-9541-4A2D-BD86-32DEFCE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1B1-7A81-4B68-950C-40CBDACE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DD6-1FB8-4DC1-B355-11CE7C92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628-A18A-4FBC-926D-7D9B8424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D9C-CFAD-4F04-9BCF-A15D361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001-D594-45FE-9DFB-EA1B523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2E8-881F-43A0-AED6-23C71B8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636-8E56-48BA-80BE-0DB76D511E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2020-99A9-4076-B97B-2A0D108688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Информационно- коммуникационные технологии на уроках физик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842920" y="3933720"/>
            <a:ext cx="4249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Новорождестве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Е.Гонч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5196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работа с электронными учебниками на урок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64200" cy="6335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90920" y="205776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работка тестов, используя готовые программы -обол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рименение компьютерных тренажеров для организации контро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13032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оиск необходимой информации в Интернете в процессе подготовки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ам   и внеклассным мероприят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оиск необходимой информации в Интернете непосредственно на урок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работа на уроке с материалами Web-сай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248000" cy="423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859280" y="2936880"/>
            <a:ext cx="40197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Преимущества использования ИКТ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ыт работы показал, что использование современных  ИКТ-технологий на уроках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ктивизирует познавательную деятельность учащихся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ает мотивацию учащихся к изучаемому предмет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кономит время на объяснение материал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зволяет выйти за рамки школьных учебников, дополнить и углубить их содержан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зволяет дифференцировать и индивидуализировать работу учащихс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ёт возможность увеличить накопляемость оце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ёт комфортность на уро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Существующие недостатки и проблемы применения ИКТ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очная компьютерная грамотность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учителей недостаточно времени для подготовки к уроку, на котором используются компьют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вероятность, что, увлекшись применением ИКТ на уроках, учитель перейдет от развивающего обучения к наглядно-иллюстративным мет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статок качественного программ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техническ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сп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изкая скорость Интернета в том числ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сутствие контакта с учителем информатик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Если учитель хочет быть интересным для своих учеников, повышать свое педагогическое мастерство и уровень интеллекта, он, по меньшей мере, должен теоретически представлять, как можно использовать компьютер на уроке, а, как максимум, использовать эту машину с ее огромными универсальными возможност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4538520"/>
            <a:ext cx="2879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435280" y="1699920"/>
            <a:ext cx="3538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спользование ИКТ на уроках физики позволяют повышать интерес к изучению предмета, расширяет возможности демонстрации опытов через использование виртуальных образов, повышает интерес к обучени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57592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7848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Хорошо известно, что курс физики средней школы включает в себя разделы, изучение и понимание которых требует развитого образного мышления, умения анализировать, сравнивать. В первую очередь речь идет о таких разделах, как "Молекулярная физика", некоторые главы "Электродинамики", "Ядерная физика", "Оптика" и д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" descr="5.JPG"/>
          <p:cNvPicPr/>
          <p:nvPr/>
        </p:nvPicPr>
        <p:blipFill>
          <a:blip r:embed="rId1"/>
          <a:stretch/>
        </p:blipFill>
        <p:spPr>
          <a:xfrm>
            <a:off x="324000" y="2852640"/>
            <a:ext cx="4114800" cy="3762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495600" cy="41054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3280" y="1413000"/>
            <a:ext cx="4500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ногие явления в условиях школьного физического кабинета не могут быть продемонстрированы. К примеру, это явления микромира, либо быстро протекающие процессы, либо опыты с приборами, отсутствующими в кабинет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2920" y="333360"/>
            <a:ext cx="4786200" cy="628812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7561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изика - наука экспериментальная. Изучение физики трудно представить без лабораторных рабо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Я применяю информационных технологии на уроках физики так же и в следующих направлениях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подготовка дидактических материалов для уроков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мультимедийные сценарии уроков или фрагментов уроков (Обычно учитель использует презентации  для объяснения новой темы) 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611280" y="692280"/>
            <a:ext cx="51847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ahoma"/>
              </a:rPr>
              <a:t>Источники све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ahoma"/>
              <a:ea typeface="Tahoma"/>
            </a:endParaRPr>
          </a:p>
        </p:txBody>
      </p:sp>
      <p:pic>
        <p:nvPicPr>
          <p:cNvPr id="164" name="Рисунок 7" descr="Рисунок1.JPG"/>
          <p:cNvPicPr/>
          <p:nvPr/>
        </p:nvPicPr>
        <p:blipFill>
          <a:blip r:embed="rId1"/>
          <a:stretch/>
        </p:blipFill>
        <p:spPr>
          <a:xfrm>
            <a:off x="539640" y="1413000"/>
            <a:ext cx="5077080" cy="3809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Рисунок1.JPG"/>
          <p:cNvPicPr/>
          <p:nvPr/>
        </p:nvPicPr>
        <p:blipFill>
          <a:blip r:embed="rId2"/>
          <a:stretch/>
        </p:blipFill>
        <p:spPr>
          <a:xfrm>
            <a:off x="7572240" y="1357200"/>
            <a:ext cx="1352520" cy="3810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Рисунок1.JPG"/>
          <p:cNvPicPr/>
          <p:nvPr/>
        </p:nvPicPr>
        <p:blipFill>
          <a:blip r:embed="rId3"/>
          <a:stretch/>
        </p:blipFill>
        <p:spPr>
          <a:xfrm>
            <a:off x="5715000" y="1357200"/>
            <a:ext cx="1790640" cy="1619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Рисунок1.JPG"/>
          <p:cNvPicPr/>
          <p:nvPr/>
        </p:nvPicPr>
        <p:blipFill>
          <a:blip r:embed="rId4"/>
          <a:stretch/>
        </p:blipFill>
        <p:spPr>
          <a:xfrm>
            <a:off x="5715000" y="3571920"/>
            <a:ext cx="1790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использование  готовых программных продуктов по своей дисциплин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1:47:58Z</dcterms:created>
  <dc:creator>Ирина</dc:creator>
  <dc:description/>
  <dc:language>en-US</dc:language>
  <cp:lastModifiedBy>Ирина</cp:lastModifiedBy>
  <dcterms:modified xsi:type="dcterms:W3CDTF">2011-11-10T17:34:58Z</dcterms:modified>
  <cp:revision>4</cp:revision>
  <dc:subject/>
  <dc:title>Информационно- коммуникационные технологии на уроках физики</dc:title>
</cp:coreProperties>
</file>