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D09-401D-4288-B3C3-426CB349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815-9214-4B25-91F4-33C2B7BA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F75-1A73-41D9-A88F-E4E56BEC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F7E-42AD-48C2-BC80-9FE92AC4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1BCE-3A34-4E47-9061-7ED3E947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53E-6210-4209-A00C-F0433650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EC0B-63C6-4117-AF8F-8F298BE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9C4D-BCD6-4300-9C10-74EC0B9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CFDE-4C09-45A5-9D82-B851C889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F5F3-342D-4DAE-986A-21AA57C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00DB-BCB8-4EFF-ADF7-94750F4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BFA-C602-402A-97EF-5DA5AE11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12F1-EAC6-4203-81A9-0EB89ED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DBE0-3F85-4A3E-A8F8-4B59528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4D11-8EB7-4B5F-8662-C4E28A3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08D3-6054-49B3-ADD0-5564C900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AF0E-205F-45C6-8BB8-DFA812ED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EA5-6580-48D9-A8F9-FDB9B1A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7D6-7CD9-41E2-9032-E7EA0D5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148-F998-438F-838F-172C5A2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42A-EC8D-43E6-BD40-0C6730B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0EE-C34F-4970-8677-B18AD14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E25-7CFF-4DFC-AA4A-D151BC8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C8F-F4AF-4314-807E-BACC75E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D79A-6154-4AB2-A550-2B00A434AA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F33-8171-4E98-839E-1501403A32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Информационно- коммуникационные технологии на уроках физик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842920" y="3933720"/>
            <a:ext cx="42498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Новорождествен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Е.Гонч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5196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работа с электронными учебниками на урок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64200" cy="6335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390920" y="205776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работка тестов, используя готовые программы -оболо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менение компьютерных тренажеров для организации контро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13032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оиск необходимой информации в Интернете в процессе подготовки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ам   и внеклассным мероприят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поиск необходимой информации в Интернете непосредственно на урок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работа на уроке с материалами Web-сай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248000" cy="423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59280" y="2936880"/>
            <a:ext cx="40197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Преимущества использования ИКТ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ыт работы показал, что использование современных  ИКТ-технологий на уроках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 учащихся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ышает мотивацию учащихся к изучаемому предмет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кономит время на объяснение материал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воляет выйти за рамки школьных учебников, дополнить и углубить их содержан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воляет дифференцировать и индивидуализировать работу учащихс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ёт возможность увеличить накопляемость оце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ёт комфортность на урок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Существующие недостатки и проблемы применения ИКТ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очная компьютерная грамотность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учителей недостаточно времени для подготовки к уроку, на котором используются компью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вероятность, что, увлекшись применением ИКТ на уроках, учитель перейдет от развивающего обучения к наглядно-иллюстративным мет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статок качественного программ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техниче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сп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изкая скорость Интернета в том числ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утствие контакта с учителем информатик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Если учитель хочет быть интересным для своих учеников, повышать свое педагогическое мастерство и уровень интеллекта, он, по меньшей мере, должен теоретически представлять, как можно использовать компьютер на уроке, а, как максимум, использовать эту машину с ее огромными универсальными возможност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796000" y="4538520"/>
            <a:ext cx="2879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435280" y="1699920"/>
            <a:ext cx="3538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спользование ИКТ на уроках физики позволяют повышать интерес к изучению предмета, расширяет возможности демонстрации опытов через использование виртуальных образов, повышает интерес к обучени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57592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7848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Хорошо известно, что курс физики средней школы включает в себя разделы, изучение и понимание которых требует развитого образного мышления, умения анализировать, сравнивать. В первую очередь речь идет о таких разделах, как "Молекулярная физика", некоторые главы "Электродинамики", "Ядерная физика", "Оптика"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" descr="5.JPG"/>
          <p:cNvPicPr/>
          <p:nvPr/>
        </p:nvPicPr>
        <p:blipFill>
          <a:blip r:embed="rId1"/>
          <a:stretch/>
        </p:blipFill>
        <p:spPr>
          <a:xfrm>
            <a:off x="324000" y="2852640"/>
            <a:ext cx="4114800" cy="3762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495600" cy="41054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3280" y="1413000"/>
            <a:ext cx="4500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ногие явления в условиях школьного физического кабинета не могут быть продемонстрированы. К примеру, это явления микромира, либо быстро протекающие процессы, либо опыты с приборами, отсутствующими в кабинет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2920" y="333360"/>
            <a:ext cx="4786200" cy="628812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7561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изика - наука экспериментальная. Изучение физики трудно представить без лабораторных рабо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 применяю информационных технологии на уроках физики так же и в следующих направлениях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подготовка дидактических материалов для уроков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мультимедийные сценарии уроков или фрагментов уроков (Обычно учитель использует презентации  для объяснения новой темы) 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611280" y="692280"/>
            <a:ext cx="518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ahoma"/>
              </a:rPr>
              <a:t>Источники све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ahoma"/>
              <a:ea typeface="Tahoma"/>
            </a:endParaRPr>
          </a:p>
        </p:txBody>
      </p:sp>
      <p:pic>
        <p:nvPicPr>
          <p:cNvPr id="164" name="Рисунок 7" descr="Рисунок1.JPG"/>
          <p:cNvPicPr/>
          <p:nvPr/>
        </p:nvPicPr>
        <p:blipFill>
          <a:blip r:embed="rId1"/>
          <a:stretch/>
        </p:blipFill>
        <p:spPr>
          <a:xfrm>
            <a:off x="539640" y="1413000"/>
            <a:ext cx="5077080" cy="3809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8" descr="Рисунок1.JPG"/>
          <p:cNvPicPr/>
          <p:nvPr/>
        </p:nvPicPr>
        <p:blipFill>
          <a:blip r:embed="rId2"/>
          <a:stretch/>
        </p:blipFill>
        <p:spPr>
          <a:xfrm>
            <a:off x="7572240" y="1357200"/>
            <a:ext cx="1352520" cy="3810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9" descr="Рисунок1.JPG"/>
          <p:cNvPicPr/>
          <p:nvPr/>
        </p:nvPicPr>
        <p:blipFill>
          <a:blip r:embed="rId3"/>
          <a:stretch/>
        </p:blipFill>
        <p:spPr>
          <a:xfrm>
            <a:off x="5715000" y="1357200"/>
            <a:ext cx="179064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0" descr="Рисунок1.JPG"/>
          <p:cNvPicPr/>
          <p:nvPr/>
        </p:nvPicPr>
        <p:blipFill>
          <a:blip r:embed="rId4"/>
          <a:stretch/>
        </p:blipFill>
        <p:spPr>
          <a:xfrm>
            <a:off x="5715000" y="3571920"/>
            <a:ext cx="1790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использование  готовых программных продуктов по своей дисциплин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1:47:58Z</dcterms:created>
  <dc:creator>Ирина</dc:creator>
  <dc:description/>
  <dc:language>en-US</dc:language>
  <cp:lastModifiedBy>Ирина</cp:lastModifiedBy>
  <dcterms:modified xsi:type="dcterms:W3CDTF">2011-11-10T17:34:58Z</dcterms:modified>
  <cp:revision>4</cp:revision>
  <dc:subject/>
  <dc:title>Информационно- коммуникационные технологии на уроках физики</dc:title>
</cp:coreProperties>
</file>