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B2F3A-44FB-4EF9-A7F1-9465E4C5C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BDF4-FEF6-466E-B983-0A83BBEB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DF870-AE73-4D98-8FE3-8CE259B6F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884E2-2EE2-4CAE-B91C-31ACD4B49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BB344-DC68-4763-AA41-DF7115D1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68A92-B130-4FF9-BC62-9909485B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093A2-6835-4699-AFBA-39CCDE24C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EB22-E1C3-48D3-95A4-BDF3556C7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DDA01-8A3A-46A8-95F1-8FE49B02B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53059-7568-4020-A969-FA61676A4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4337-AE5F-45CD-B193-CDE076ED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69DC-9E3B-496D-8413-93361017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41CBA-2730-41CD-989F-638BDC07C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70A4B-5889-419C-977A-87B208A5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9C6D2-1C84-47EE-B012-6A5A29FA6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8DDBB-5470-4E1A-AF60-44D2B7C06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445D8-7B5E-42C7-B51E-A0FDC5919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AF88-37BA-4F94-8CB5-6AD60F1F7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EED0D-5067-4124-80FF-48289DCD2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B42A-E6BE-405A-B597-D0697F088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11C91-A309-4DFE-867C-03143941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9CF7-53F1-4C2D-A1A1-FC22D741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0344-679F-4C11-9CCD-C134BD1E4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E23E-8CA0-4B93-A02E-B06483EFF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BCF4-0227-4C6B-BB61-3050069B9AD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D255-9815-43C9-99EB-23BBD74C81A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88640"/>
            <a:ext cx="8785440" cy="280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c66"/>
                </a:solidFill>
                <a:latin typeface="Arial"/>
              </a:rPr>
              <a:t>Кавказ в творчестве Александра Сергеевича Пушкина</a:t>
            </a:r>
            <a:endParaRPr b="0" lang="en-US" sz="5400" spc="-1" strike="noStrike">
              <a:solidFill>
                <a:srgbClr val="b2b2b2"/>
              </a:solidFill>
              <a:latin typeface="Arial"/>
            </a:endParaRPr>
          </a:p>
        </p:txBody>
      </p:sp>
      <p:sp>
        <p:nvSpPr>
          <p:cNvPr id="99" name="PlaceHolder 2"/>
          <p:cNvSpPr>
            <a:spLocks noGrp="1"/>
          </p:cNvSpPr>
          <p:nvPr>
            <p:ph type="subTitle"/>
          </p:nvPr>
        </p:nvSpPr>
        <p:spPr>
          <a:xfrm>
            <a:off x="179280" y="3644640"/>
            <a:ext cx="8964720" cy="309708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66"/>
                </a:solidFill>
                <a:latin typeface="Arial"/>
              </a:rPr>
              <a:t>УЧИТЕЛЬ</a:t>
            </a:r>
            <a:r>
              <a:rPr b="0" lang="ru-RU" sz="2800" spc="-1" strike="noStrike">
                <a:solidFill>
                  <a:srgbClr val="ffffff"/>
                </a:solidFill>
                <a:latin typeface="Arial"/>
              </a:rPr>
              <a:t>:</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ейко Раиса Петровна </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Сотниковское </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2.02.201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 calcmode="lin" valueType="num">
                                      <p:cBhvr additive="repl">
                                        <p:cTn id="9" dur="500" fill="hold"/>
                                        <p:tgtEl>
                                          <p:spTgt spid="98"/>
                                        </p:tgtEl>
                                        <p:attrNameLst>
                                          <p:attrName>r</p:attrName>
                                        </p:attrNameLst>
                                      </p:cBhvr>
                                      <p:tavLst>
                                        <p:tav tm="0">
                                          <p:val>
                                            <p:strVal val="360"/>
                                          </p:val>
                                        </p:tav>
                                        <p:tav tm="100000">
                                          <p:val>
                                            <p:strVal val="0"/>
                                          </p:val>
                                        </p:tav>
                                      </p:tavLst>
                                    </p:anim>
                                    <p:animEffect filter="fade" transition="in">
                                      <p:cBhvr additive="repl">
                                        <p:cTn id="10" dur="500"/>
                                        <p:tgtEl>
                                          <p:spTgt spid="98"/>
                                        </p:tgtEl>
                                      </p:cBhvr>
                                    </p:animEffect>
                                  </p:childTnLst>
                                </p:cTn>
                              </p:par>
                              <p:par>
                                <p:cTn id="11" nodeType="withEffect" fill="hold" presetClass="entr" presetID="49">
                                  <p:stCondLst>
                                    <p:cond delay="0"/>
                                  </p:stCondLst>
                                  <p:childTnLst>
                                    <p:set>
                                      <p:cBhvr>
                                        <p:cTn id="12" dur="1" fill="hold">
                                          <p:stCondLst>
                                            <p:cond delay="0"/>
                                          </p:stCondLst>
                                        </p:cTn>
                                        <p:tgtEl>
                                          <p:spTgt spid="99">
                                            <p:txEl>
                                              <p:pRg st="0" end="0"/>
                                            </p:txEl>
                                          </p:spTgt>
                                        </p:tgtEl>
                                        <p:attrNameLst>
                                          <p:attrName>style.visibility</p:attrName>
                                        </p:attrNameLst>
                                      </p:cBhvr>
                                      <p:to>
                                        <p:strVal val="visible"/>
                                      </p:to>
                                    </p:set>
                                    <p:anim calcmode="lin" valueType="num">
                                      <p:cBhvr additive="repl">
                                        <p:cTn id="13"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99">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99">
                                            <p:txEl>
                                              <p:pRg st="0" end="0"/>
                                            </p:txEl>
                                          </p:spTgt>
                                        </p:tgtEl>
                                      </p:cBhvr>
                                    </p:animEffect>
                                  </p:childTnLst>
                                </p:cTn>
                              </p:par>
                              <p:par>
                                <p:cTn id="17" nodeType="withEffect" fill="hold" presetClass="entr" presetID="49">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1" dur="500" fill="hold"/>
                                        <p:tgtEl>
                                          <p:spTgt spid="99">
                                            <p:txEl>
                                              <p:pRg st="1" end="1"/>
                                            </p:txEl>
                                          </p:spTgt>
                                        </p:tgtEl>
                                        <p:attrNameLst>
                                          <p:attrName>r</p:attrName>
                                        </p:attrNameLst>
                                      </p:cBhvr>
                                      <p:tavLst>
                                        <p:tav tm="0">
                                          <p:val>
                                            <p:strVal val="360"/>
                                          </p:val>
                                        </p:tav>
                                        <p:tav tm="100000">
                                          <p:val>
                                            <p:strVal val="0"/>
                                          </p:val>
                                        </p:tav>
                                      </p:tavLst>
                                    </p:anim>
                                    <p:animEffect filter="fade" transition="in">
                                      <p:cBhvr additive="repl">
                                        <p:cTn id="22" dur="500"/>
                                        <p:tgtEl>
                                          <p:spTgt spid="99">
                                            <p:txEl>
                                              <p:pRg st="1" end="1"/>
                                            </p:txEl>
                                          </p:spTgt>
                                        </p:tgtEl>
                                      </p:cBhvr>
                                    </p:animEffect>
                                  </p:childTnLst>
                                </p:cTn>
                              </p:par>
                              <p:par>
                                <p:cTn id="23" nodeType="withEffect" fill="hold" presetClass="entr" presetID="49">
                                  <p:stCondLst>
                                    <p:cond delay="0"/>
                                  </p:stCondLst>
                                  <p:childTnLst>
                                    <p:set>
                                      <p:cBhvr>
                                        <p:cTn id="24" dur="1" fill="hold">
                                          <p:stCondLst>
                                            <p:cond delay="0"/>
                                          </p:stCondLst>
                                        </p:cTn>
                                        <p:tgtEl>
                                          <p:spTgt spid="99">
                                            <p:txEl>
                                              <p:pRg st="2" end="2"/>
                                            </p:txEl>
                                          </p:spTgt>
                                        </p:tgtEl>
                                        <p:attrNameLst>
                                          <p:attrName>style.visibility</p:attrName>
                                        </p:attrNameLst>
                                      </p:cBhvr>
                                      <p:to>
                                        <p:strVal val="visible"/>
                                      </p:to>
                                    </p:set>
                                    <p:anim calcmode="lin" valueType="num">
                                      <p:cBhvr additive="repl">
                                        <p:cTn id="2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7" dur="500" fill="hold"/>
                                        <p:tgtEl>
                                          <p:spTgt spid="99">
                                            <p:txEl>
                                              <p:pRg st="2" end="2"/>
                                            </p:txEl>
                                          </p:spTgt>
                                        </p:tgtEl>
                                        <p:attrNameLst>
                                          <p:attrName>r</p:attrName>
                                        </p:attrNameLst>
                                      </p:cBhvr>
                                      <p:tavLst>
                                        <p:tav tm="0">
                                          <p:val>
                                            <p:strVal val="360"/>
                                          </p:val>
                                        </p:tav>
                                        <p:tav tm="100000">
                                          <p:val>
                                            <p:strVal val="0"/>
                                          </p:val>
                                        </p:tav>
                                      </p:tavLst>
                                    </p:anim>
                                    <p:animEffect filter="fade" transition="in">
                                      <p:cBhvr additive="repl">
                                        <p:cTn id="28" dur="500"/>
                                        <p:tgtEl>
                                          <p:spTgt spid="99">
                                            <p:txEl>
                                              <p:pRg st="2" end="2"/>
                                            </p:txEl>
                                          </p:spTgt>
                                        </p:tgtEl>
                                      </p:cBhvr>
                                    </p:animEffect>
                                  </p:childTnLst>
                                </p:cTn>
                              </p:par>
                              <p:par>
                                <p:cTn id="29" nodeType="withEffect" fill="hold" presetClass="entr" presetID="49">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 calcmode="lin" valueType="num">
                                      <p:cBhvr additive="repl">
                                        <p:cTn id="31"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99">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8920" y="115560"/>
            <a:ext cx="4753080" cy="6553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утешественники выехали из Екатеринослава утром 28 ма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Утром 30 мая путники достигли Таганрога, где обедали и ночевали у градоначальника на Греческой улице. Дом этот сохранился, теперь это здание № 40 по улице III Интернационала</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Пребывание Пушкина в Таганроге совпало с восстанием крестьян в Миусском округе, жестоко подавленным военными властями. «Путешественников наших везде встречали с почетом,— вспоминала позднее М. Н. Раевская (Волконская).— В городах обыватели с хлебом-солью выходили к славному защитнику Отечества. При этом старик Раевский шутя, говаривал Пушкину: «Прочтите-ка им свою оду», разумея «Вольность», из-за которой поэт был выслан из Петербург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1" name="Picture 4" descr="c21370e3e978"/>
          <p:cNvPicPr/>
          <p:nvPr/>
        </p:nvPicPr>
        <p:blipFill>
          <a:blip r:embed="rId1"/>
          <a:stretch/>
        </p:blipFill>
        <p:spPr>
          <a:xfrm>
            <a:off x="4932360" y="404640"/>
            <a:ext cx="410364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40000" y="188640"/>
            <a:ext cx="4824360" cy="65530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31 мая рано утром Пушкин и Раевские оставили Таганрог и отправились далее — на Ростов и Нахичевань. Ростов только начал застраиваться. Путешественникам открылась панорама небольшого уездного городка с глинобитными мазанками и редкими деревянными домами. Осмотрели крепость, «где 37 лет тому назад почти год» проживал Раевский-старший с супругой Софьей Алексеевной, и величественный Дон. За крепостью, примерно в версте от восточных ворот города, лежал разноязычный, преимущественно армянский городок Нахичевань, «пространный, многолюдный и торговлей весьма богатый». Вечером того же дня путники прибыли в станицу Аксай, расположенную на высоком берегу Дона в 23 верстах от Новочеркасска, и остановились здесь на ночлег.</a:t>
            </a:r>
            <a:endParaRPr b="0" lang="en-US" sz="2000" spc="-1" strike="noStrike">
              <a:solidFill>
                <a:srgbClr val="ffffff"/>
              </a:solidFill>
              <a:latin typeface="Arial"/>
            </a:endParaRPr>
          </a:p>
        </p:txBody>
      </p:sp>
      <p:pic>
        <p:nvPicPr>
          <p:cNvPr id="113" name="Picture 4" descr="3463_002"/>
          <p:cNvPicPr/>
          <p:nvPr/>
        </p:nvPicPr>
        <p:blipFill>
          <a:blip r:embed="rId1"/>
          <a:stretch/>
        </p:blipFill>
        <p:spPr>
          <a:xfrm>
            <a:off x="108000" y="189000"/>
            <a:ext cx="4248000" cy="648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3499920"/>
            <a:ext cx="8229600" cy="335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2 июня рано утром Пушкин и Раевские на шлюпке отправились по Дону в Старый Черкасск — разжалованный город в станицу» (теперь станица Черкасская). Здесь осмотрели бывшую столицу Войска Донского, «первое гнездо донских казаков... обойдя все, что там есть достойного», включая старинный войсковой собор.</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роезжая донские степи, Пушкин знакомится с бытом и культурой свободолюбивых и вольных казаков. Сам воздух здешних мест был полон легенд и преданий о казачьей вольнице и ее славных походах в защиту Руси от врагов. Поэту запомнились песни о народных героях Булавине, Болотникове, Ермаке; Степана Разина он позднее назовет «единственным поэтическим лицом русской истории», Пугачеву посвятит историческое исследование и «Капитанскую дочку».</a:t>
            </a:r>
            <a:endParaRPr b="0" lang="en-US" sz="1800" spc="-1" strike="noStrike">
              <a:solidFill>
                <a:srgbClr val="ffffff"/>
              </a:solidFill>
              <a:latin typeface="Arial"/>
            </a:endParaRPr>
          </a:p>
        </p:txBody>
      </p:sp>
      <p:pic>
        <p:nvPicPr>
          <p:cNvPr id="115" name="Picture 4" descr="21940452_1332_ilves"/>
          <p:cNvPicPr/>
          <p:nvPr/>
        </p:nvPicPr>
        <p:blipFill>
          <a:blip r:embed="rId1"/>
          <a:stretch/>
        </p:blipFill>
        <p:spPr>
          <a:xfrm>
            <a:off x="611280" y="333360"/>
            <a:ext cx="3816360" cy="3206880"/>
          </a:xfrm>
          <a:prstGeom prst="rect">
            <a:avLst/>
          </a:prstGeom>
          <a:ln w="0">
            <a:noFill/>
          </a:ln>
        </p:spPr>
      </p:pic>
      <p:pic>
        <p:nvPicPr>
          <p:cNvPr id="116" name="Picture 5" descr="plm-305-"/>
          <p:cNvPicPr/>
          <p:nvPr/>
        </p:nvPicPr>
        <p:blipFill>
          <a:blip r:embed="rId2"/>
          <a:stretch/>
        </p:blipFill>
        <p:spPr>
          <a:xfrm>
            <a:off x="4859280" y="404640"/>
            <a:ext cx="3826080" cy="30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79280" y="188640"/>
            <a:ext cx="8964720" cy="3600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Предстоял шестидневный путь по конному тракту Новочеркасск — Ставрополь и далее до города Георгиевс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4 июня приехали в Ставрополь и остановились для кратковременного отдыха и смены лошадей. Ставрополь в первое посещение Пушкина был уездным городком и лишь в 1822 году преобразован в центр Кавказской области. «Город построен на высокой горе. Все лучшие здания, казенные и частные, находятся на вершине горы, а худшие на скате оной. Улицы вообще неправильные. Дома большей частью деревянные, выбеленные; весьма немногие построены из тесаного камня, добываемого близ города. Они большей частью с крытыми галереями, обращенные на двор...»</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С высоты крепости путешественники могли наблюдать живописные окрестности города и величавый двуглавый Эльбрус. От тех лет сохранились остатки крепостной стены и отдельные строения. Впереди по пути до Георгиевска около 170 верст и до места назначения (Горячие воды) еще 40.</a:t>
            </a:r>
            <a:endParaRPr b="0" lang="en-US" sz="1800" spc="-1" strike="noStrike">
              <a:solidFill>
                <a:srgbClr val="ffffff"/>
              </a:solidFill>
              <a:latin typeface="Arial"/>
            </a:endParaRPr>
          </a:p>
        </p:txBody>
      </p:sp>
      <p:pic>
        <p:nvPicPr>
          <p:cNvPr id="118" name="Picture 6" descr="В ставрополе пуш"/>
          <p:cNvPicPr/>
          <p:nvPr/>
        </p:nvPicPr>
        <p:blipFill>
          <a:blip r:embed="rId1"/>
          <a:stretch/>
        </p:blipFill>
        <p:spPr>
          <a:xfrm>
            <a:off x="5003640" y="3573360"/>
            <a:ext cx="3600720" cy="3284640"/>
          </a:xfrm>
          <a:prstGeom prst="rect">
            <a:avLst/>
          </a:prstGeom>
          <a:ln w="0">
            <a:noFill/>
          </a:ln>
        </p:spPr>
      </p:pic>
      <p:pic>
        <p:nvPicPr>
          <p:cNvPr id="119" name="Picture 7" descr="pict_gas_02"/>
          <p:cNvPicPr/>
          <p:nvPr/>
        </p:nvPicPr>
        <p:blipFill>
          <a:blip r:embed="rId2"/>
          <a:stretch/>
        </p:blipFill>
        <p:spPr>
          <a:xfrm>
            <a:off x="539640" y="3573360"/>
            <a:ext cx="3672000" cy="319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115920"/>
            <a:ext cx="4535280" cy="6742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По словам современника, дорога от Ставрополя до Георгиевска «вообще хороша; но во время дождей делается затруднительной от чернозема, коими сии места изобилую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     </a:t>
            </a:r>
            <a:r>
              <a:rPr b="0" lang="ru-RU" sz="1600" spc="-1" strike="noStrike">
                <a:solidFill>
                  <a:srgbClr val="ffffff"/>
                </a:solidFill>
                <a:latin typeface="Arial"/>
              </a:rPr>
              <a:t>Сильная гроза и дождь заставили путников ночевать в станице Саблинской, что в сорока верстах от Георгиевска. Утром тронулись в дальнейший путь. При подъеме к заштатному городу Александрову показался, наконец, Бештау. На небосклоне были видны вершины Кавказских гор, покрытые вечными снегами. От Александрова начинались казачьи пикеты. Этот участок дороги до Георгиевска и далее был небезопасен для проезжающих.</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cc66"/>
                </a:solidFill>
                <a:latin typeface="Arial"/>
              </a:rPr>
              <a:t>И вот конвоем окружен,</a:t>
            </a:r>
            <a:br>
              <a:rPr sz="1600"/>
            </a:br>
            <a:r>
              <a:rPr b="0" lang="en-US" sz="1600" spc="-1" strike="noStrike">
                <a:solidFill>
                  <a:srgbClr val="ffcc66"/>
                </a:solidFill>
                <a:latin typeface="Arial"/>
              </a:rPr>
              <a:t>        </a:t>
            </a:r>
            <a:r>
              <a:rPr b="0" lang="ru-RU" sz="1600" spc="-1" strike="noStrike">
                <a:solidFill>
                  <a:srgbClr val="ffcc66"/>
                </a:solidFill>
                <a:latin typeface="Arial"/>
              </a:rPr>
              <a:t>Вослед за пушкою степною</a:t>
            </a:r>
            <a:br>
              <a:rPr sz="1600"/>
            </a:br>
            <a:r>
              <a:rPr b="0" lang="en-US" sz="1600" spc="-1" strike="noStrike">
                <a:solidFill>
                  <a:srgbClr val="ffcc66"/>
                </a:solidFill>
                <a:latin typeface="Arial"/>
              </a:rPr>
              <a:t>        </a:t>
            </a:r>
            <a:r>
              <a:rPr b="0" lang="ru-RU" sz="1600" spc="-1" strike="noStrike">
                <a:solidFill>
                  <a:srgbClr val="ffcc66"/>
                </a:solidFill>
                <a:latin typeface="Arial"/>
              </a:rPr>
              <a:t>В преддверье гор вступает он,—</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          </a:t>
            </a:r>
            <a:r>
              <a:rPr b="0" lang="ru-RU" sz="1600" spc="-1" strike="noStrike">
                <a:solidFill>
                  <a:srgbClr val="ffcc66"/>
                </a:solidFill>
                <a:latin typeface="Arial"/>
              </a:rPr>
              <a:t>воспоминал позднее Пушкин свое путешествие.</a:t>
            </a:r>
            <a:r>
              <a:rPr b="0" lang="ru-RU" sz="1600" spc="-1" strike="noStrike">
                <a:solidFill>
                  <a:srgbClr val="ffffff"/>
                </a:solidFill>
                <a:latin typeface="Arial"/>
              </a:rPr>
              <a:t> 5 июня к обеду добрались до Георгиевска. Построенный в 1777 году при учреждении Кавказской губернии, город в 1802 году был наименован губернским, с 1822 — уездным и с 1830 — заштатным. Из-за «нездорового климата», по словам современника, областное правление было переведено из Георгиевска в Ставрополь.</a:t>
            </a:r>
            <a:endParaRPr b="0" lang="en-US" sz="1600" spc="-1" strike="noStrike">
              <a:solidFill>
                <a:srgbClr val="ffffff"/>
              </a:solidFill>
              <a:latin typeface="Arial"/>
            </a:endParaRPr>
          </a:p>
        </p:txBody>
      </p:sp>
      <p:pic>
        <p:nvPicPr>
          <p:cNvPr id="121" name="Picture 5" descr="pic2545"/>
          <p:cNvPicPr/>
          <p:nvPr/>
        </p:nvPicPr>
        <p:blipFill>
          <a:blip r:embed="rId1"/>
          <a:stretch/>
        </p:blipFill>
        <p:spPr>
          <a:xfrm>
            <a:off x="4643280" y="765000"/>
            <a:ext cx="4500720" cy="561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427280" y="115920"/>
            <a:ext cx="4716360" cy="662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6 июня 1820 года Пушкин и Раевские прибыли на Горячие воды. Достигнут, по словам современника, «предел странствий для ищущих исцелений». </a:t>
            </a:r>
            <a:r>
              <a:rPr b="0" lang="ru-RU" sz="2000" spc="-1" strike="noStrike">
                <a:solidFill>
                  <a:srgbClr val="ffcc66"/>
                </a:solidFill>
                <a:latin typeface="Arial"/>
              </a:rPr>
              <a:t>«Другой день на водах, милая моя Катенька, — писал Н. Н. Раевский своей дочери 7 июня из Константиногорска. — Здесь дожди, а прежде по три месяца ни одного не бывало».</a:t>
            </a:r>
            <a:r>
              <a:rPr b="0" lang="ru-RU" sz="2000" spc="-1" strike="noStrike">
                <a:solidFill>
                  <a:srgbClr val="ffffff"/>
                </a:solidFill>
                <a:latin typeface="Arial"/>
              </a:rPr>
              <a:t> Начинался кавказский период жизни Пушкина, столь плодотворный в его творчеств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В Горячих водах родных и Пушкина встретил недавно прибывший сюда для лечения старший сын генерала — полковник Ряжского пехотного полка Александр                          Николаевич Раевский. Он и снял для них дом в Константиногорской крепости, что в трех верстах от Горячих вод.</a:t>
            </a:r>
            <a:endParaRPr b="0" lang="en-US" sz="2000" spc="-1" strike="noStrike">
              <a:solidFill>
                <a:srgbClr val="ffffff"/>
              </a:solidFill>
              <a:latin typeface="Arial"/>
            </a:endParaRPr>
          </a:p>
        </p:txBody>
      </p:sp>
      <p:pic>
        <p:nvPicPr>
          <p:cNvPr id="123" name="Picture 4" descr="Константин крепость"/>
          <p:cNvPicPr/>
          <p:nvPr/>
        </p:nvPicPr>
        <p:blipFill>
          <a:blip r:embed="rId1"/>
          <a:stretch/>
        </p:blipFill>
        <p:spPr>
          <a:xfrm>
            <a:off x="108000" y="765000"/>
            <a:ext cx="4608360" cy="561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3212640"/>
            <a:ext cx="8928000" cy="3645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u-RU" sz="1600" spc="-1" strike="noStrike">
                <a:solidFill>
                  <a:srgbClr val="ffffff"/>
                </a:solidFill>
                <a:latin typeface="Arial"/>
              </a:rPr>
              <a:t>Описание Горячих вод, Железных вод и Кисловодска тех лет оставили нам Пушкин, Раевский - старший и современник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66"/>
                </a:solidFill>
                <a:latin typeface="Arial"/>
              </a:rPr>
              <a:t>     </a:t>
            </a:r>
            <a:r>
              <a:rPr b="0" lang="ru-RU" sz="1600" spc="-1" strike="noStrike">
                <a:solidFill>
                  <a:srgbClr val="ffcc66"/>
                </a:solidFill>
                <a:latin typeface="Arial"/>
              </a:rPr>
              <a:t>«Все селение расположено в 2 улицы,— писал Раевский дочери о Горячих водах,— я приметил до 60 домов, домиков и лачужек, и как сего недостаточно для приезжающих, то нанимают калмыцкие кибитки, палатки и располагаются лагерями, где кому полюбится... Ванны старые, хотя стоят казне довольно дорого, ни вида, ни выгод не имеют, новые же представляют и то, и другое, возможную чистоту и опрятность. Вид из оных наиприятнейший на Бештовую гору, или Пятигорье... Смесь калмыков, черкес, татар, здешних казаков, здешних жителей и приезжих — все это под вечер движется, встречается, расходится, сходится, и все до безделицы с галерей новых ванн глазам вашим открыто».</a:t>
            </a:r>
            <a:r>
              <a:rPr b="0" lang="ru-RU" sz="1600" spc="-1" strike="noStrike">
                <a:solidFill>
                  <a:srgbClr val="ffffff"/>
                </a:solidFill>
                <a:latin typeface="Arial"/>
              </a:rPr>
              <a:t> На окраине города стояли казачьи пикеты для защиты от набега горцев.</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Отсюда совершались ежедневные переходы к горячим серным источникам, устроенным, по словам Пушкина, в «лачужках, наскоро построенных. Источники, большей частью в первобытном своем виде, били, дымились и стекали с гор по разным направлениям, оставляя по себе белые и красноватые следы. Мы черпали кипучую воду ковшиком из коры или дном разбитой бутылки».</a:t>
            </a:r>
            <a:endParaRPr b="0" lang="en-US" sz="1600" spc="-1" strike="noStrike">
              <a:solidFill>
                <a:srgbClr val="ffffff"/>
              </a:solidFill>
              <a:latin typeface="Arial"/>
            </a:endParaRPr>
          </a:p>
        </p:txBody>
      </p:sp>
      <p:pic>
        <p:nvPicPr>
          <p:cNvPr id="125" name="Picture 4" descr="Казацкая слободка"/>
          <p:cNvPicPr/>
          <p:nvPr/>
        </p:nvPicPr>
        <p:blipFill>
          <a:blip r:embed="rId1"/>
          <a:stretch/>
        </p:blipFill>
        <p:spPr>
          <a:xfrm>
            <a:off x="755640" y="115920"/>
            <a:ext cx="7340760" cy="29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640" y="18864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месте с Раевским Пушкин побывал в немецкой колонии Каррас (в восьми верстах от Пятигорска, ныне пос. Иноземцево) у подножья горы Бештау, колония в то время состояла из нескольких домов, расположенных по одной улице в полверсты длиною. Они увидели красивую аллею, обсаженную березами (колония основана в 1802 году шотландскими миссионерами с целью распространения протестантской религии среди местного населения). Позднее отзвуки этой темы найдут отражение в пушкинской поэме о Тазите.</a:t>
            </a:r>
            <a:endParaRPr b="0" lang="en-US" sz="2400" spc="-1" strike="noStrike">
              <a:solidFill>
                <a:srgbClr val="ffffff"/>
              </a:solidFill>
              <a:latin typeface="Arial"/>
            </a:endParaRPr>
          </a:p>
        </p:txBody>
      </p:sp>
      <p:pic>
        <p:nvPicPr>
          <p:cNvPr id="127" name="Picture 4" descr="Немецкая колония"/>
          <p:cNvPicPr/>
          <p:nvPr/>
        </p:nvPicPr>
        <p:blipFill>
          <a:blip r:embed="rId1"/>
          <a:stretch/>
        </p:blipFill>
        <p:spPr>
          <a:xfrm>
            <a:off x="1979640" y="3860640"/>
            <a:ext cx="4419720" cy="26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189000"/>
            <a:ext cx="4537080" cy="6480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3 июля Пушкин и семья Раевских приехали на Железные воды, расположенные у подножья и на склонах Железной горы. Дорога из Горячеводска шла между склонами Машука и Бештау через Каррас. Путники поселились в «калмыцких кибитках... в лагере, как цыгане, на половине высокой горы». Железноводска-города еще не было. «Первое основание Железноводска было положено в 1824 году построением от правительства деревянного дома для посетителей».</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4" descr="1125716"/>
          <p:cNvPicPr/>
          <p:nvPr/>
        </p:nvPicPr>
        <p:blipFill>
          <a:blip r:embed="rId1"/>
          <a:stretch/>
        </p:blipFill>
        <p:spPr>
          <a:xfrm>
            <a:off x="4716360" y="549360"/>
            <a:ext cx="4427640" cy="60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140000" y="188640"/>
            <a:ext cx="500364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коло трех недель Пушкин и Раевские провели на Железных водах и 26 июля переехали в Кисловодск. Дорога шла правым берегом Подкумка по пустынным местам разоренных горских аулов. Кисловодск тех времен — «небольшое селение, при коем находится пятиугольная крепость с пятью бастионами и двумя равелинами. Построена в 1803 году для удобства и защиты приезжающих пользоваться кислыми водами (нарзаном), столь славными своими целительными свойствами и издревле носящими название богатырской вод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исловодск расположен в 35 верстах к югу от Горячеводска на небольшой равнине, орошенной двумя небольшими речками (Ольховка и Березовка.— Л. Ч.) и замкнутой со всех сторон горами и холмами различной высоты и образования... Приятное положение равнины, возвышенность мест, ясное небо, чистый воздух придают особую прелесть пребыванию посетителей богатырской воды».</a:t>
            </a:r>
            <a:endParaRPr b="0" lang="en-US" sz="1800" spc="-1" strike="noStrike">
              <a:solidFill>
                <a:srgbClr val="ffffff"/>
              </a:solidFill>
              <a:latin typeface="Arial"/>
            </a:endParaRPr>
          </a:p>
        </p:txBody>
      </p:sp>
      <p:pic>
        <p:nvPicPr>
          <p:cNvPr id="131" name="Picture 4" descr="Альховка"/>
          <p:cNvPicPr/>
          <p:nvPr/>
        </p:nvPicPr>
        <p:blipFill>
          <a:blip r:embed="rId1"/>
          <a:stretch/>
        </p:blipFill>
        <p:spPr>
          <a:xfrm rot="391200">
            <a:off x="744120" y="495360"/>
            <a:ext cx="3378240" cy="2592360"/>
          </a:xfrm>
          <a:prstGeom prst="rect">
            <a:avLst/>
          </a:prstGeom>
          <a:ln w="0">
            <a:noFill/>
          </a:ln>
        </p:spPr>
      </p:pic>
      <p:pic>
        <p:nvPicPr>
          <p:cNvPr id="132" name="Picture 5" descr="285806"/>
          <p:cNvPicPr/>
          <p:nvPr/>
        </p:nvPicPr>
        <p:blipFill>
          <a:blip r:embed="rId2"/>
          <a:stretch/>
        </p:blipFill>
        <p:spPr>
          <a:xfrm rot="441000">
            <a:off x="468000" y="3573360"/>
            <a:ext cx="3511440" cy="26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Введение</a:t>
            </a:r>
            <a:endParaRPr b="0" lang="en-US" sz="4400" spc="-1" strike="noStrike">
              <a:solidFill>
                <a:srgbClr val="b2b2b2"/>
              </a:solidFill>
              <a:latin typeface="Arial"/>
            </a:endParaRPr>
          </a:p>
        </p:txBody>
      </p:sp>
      <p:sp>
        <p:nvSpPr>
          <p:cNvPr id="101" name="PlaceHolder 2"/>
          <p:cNvSpPr>
            <a:spLocks noGrp="1"/>
          </p:cNvSpPr>
          <p:nvPr>
            <p:ph/>
          </p:nvPr>
        </p:nvSpPr>
        <p:spPr>
          <a:xfrm>
            <a:off x="457200" y="1412640"/>
            <a:ext cx="8229600" cy="5329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Александр Сергеевич Пушкин стал родоначальником той великой русской классической литературы, которая сильна своей духовностью, гуманностью, своей верой, надеждой и любовью. Верой в добро и справедливость, надеждой на Россию и ее народ, любовью к безграничному миру и к жизни во всех ее проявлениях.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го творчество – уникальное явление. Вбирая в себя все предшествующие литературные эпохи, оно завершает процесс развития литературы своего времени и в то же время, создавая новый язык, рождая новые темы и жанры, стоит у истоков современной русской литературы, открывая дорогу в будущее. Поэтому он всегда был и будет читаем во всем мире.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С.Пушкин - мой любимый поэт. Во время изучения его творчества  в этом учебном году я узнала, что он неоднократно был на Кавказе и даже отразил впечатления о нем в некоторых произведениях. Мне захотелось узнать об этом побольше, поэтому мой реферат посвящен теме «Кавказ в творчестве А.С.Пушкин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8920" y="115920"/>
            <a:ext cx="8713800" cy="6626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ребывание Пушкина на Горячих, Железных и Кислых водах соответствовало лечебной практике того времени. Независимо от вида болезни больные начинали лечение серными ваннами на Горячих водах продолжали принимать железные ванны на Железных водах и завершали лечение нарзанными ваннами в Кисловодске. По свежим наблюдениям и впечатлениям от живописной кавказской природы Пушкин писал на Кислых водах в эпилоге к «Руслану и Людмил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Забытый светом и молвою,</a:t>
            </a:r>
            <a:br>
              <a:rPr sz="2000"/>
            </a:br>
            <a:r>
              <a:rPr b="0" lang="ru-RU" sz="2000" spc="-1" strike="noStrike">
                <a:solidFill>
                  <a:srgbClr val="ffcc66"/>
                </a:solidFill>
                <a:latin typeface="Arial"/>
              </a:rPr>
              <a:t>Далече от брегов Невы,</a:t>
            </a:r>
            <a:br>
              <a:rPr sz="2000"/>
            </a:br>
            <a:r>
              <a:rPr b="0" lang="ru-RU" sz="2000" spc="-1" strike="noStrike">
                <a:solidFill>
                  <a:srgbClr val="ffcc66"/>
                </a:solidFill>
                <a:latin typeface="Arial"/>
              </a:rPr>
              <a:t>Теперь я вижу пред собою</a:t>
            </a:r>
            <a:br>
              <a:rPr sz="2000"/>
            </a:br>
            <a:r>
              <a:rPr b="0" lang="ru-RU" sz="2000" spc="-1" strike="noStrike">
                <a:solidFill>
                  <a:srgbClr val="ffcc66"/>
                </a:solidFill>
                <a:latin typeface="Arial"/>
              </a:rPr>
              <a:t>Кавказа гордые главы.</a:t>
            </a:r>
            <a:br>
              <a:rPr sz="2000"/>
            </a:br>
            <a:r>
              <a:rPr b="0" lang="ru-RU" sz="2000" spc="-1" strike="noStrike">
                <a:solidFill>
                  <a:srgbClr val="ffcc66"/>
                </a:solidFill>
                <a:latin typeface="Arial"/>
              </a:rPr>
              <a:t>Над их вершинами крутыми,</a:t>
            </a:r>
            <a:br>
              <a:rPr sz="2000"/>
            </a:br>
            <a:r>
              <a:rPr b="0" lang="ru-RU" sz="2000" spc="-1" strike="noStrike">
                <a:solidFill>
                  <a:srgbClr val="ffcc66"/>
                </a:solidFill>
                <a:latin typeface="Arial"/>
              </a:rPr>
              <a:t>На скате каменных стремнин,</a:t>
            </a:r>
            <a:br>
              <a:rPr sz="2000"/>
            </a:br>
            <a:r>
              <a:rPr b="0" lang="ru-RU" sz="2000" spc="-1" strike="noStrike">
                <a:solidFill>
                  <a:srgbClr val="ffcc66"/>
                </a:solidFill>
                <a:latin typeface="Arial"/>
              </a:rPr>
              <a:t>Питаюсь чувствами немыми</a:t>
            </a:r>
            <a:br>
              <a:rPr sz="2000"/>
            </a:br>
            <a:r>
              <a:rPr b="0" lang="ru-RU" sz="2000" spc="-1" strike="noStrike">
                <a:solidFill>
                  <a:srgbClr val="ffcc66"/>
                </a:solidFill>
                <a:latin typeface="Arial"/>
              </a:rPr>
              <a:t>И чудной прелестью картин</a:t>
            </a:r>
            <a:br>
              <a:rPr sz="2000"/>
            </a:br>
            <a:r>
              <a:rPr b="0" lang="ru-RU" sz="2000" spc="-1" strike="noStrike">
                <a:solidFill>
                  <a:srgbClr val="ffcc66"/>
                </a:solidFill>
                <a:latin typeface="Arial"/>
              </a:rPr>
              <a:t>Природы дикой и угрюмой;</a:t>
            </a:r>
            <a:br>
              <a:rPr sz="2000"/>
            </a:br>
            <a:r>
              <a:rPr b="0" lang="ru-RU" sz="2000" spc="-1" strike="noStrike">
                <a:solidFill>
                  <a:srgbClr val="ffcc66"/>
                </a:solidFill>
                <a:latin typeface="Arial"/>
              </a:rPr>
              <a:t>Душа, как прежде, каждый час</a:t>
            </a:r>
            <a:br>
              <a:rPr sz="2000"/>
            </a:br>
            <a:r>
              <a:rPr b="0" lang="ru-RU" sz="2000" spc="-1" strike="noStrike">
                <a:solidFill>
                  <a:srgbClr val="ffcc66"/>
                </a:solidFill>
                <a:latin typeface="Arial"/>
              </a:rPr>
              <a:t>Полна томительною думой —</a:t>
            </a:r>
            <a:br>
              <a:rPr sz="2000"/>
            </a:br>
            <a:r>
              <a:rPr b="0" lang="ru-RU" sz="2000" spc="-1" strike="noStrike">
                <a:solidFill>
                  <a:srgbClr val="ffcc66"/>
                </a:solidFill>
                <a:latin typeface="Arial"/>
              </a:rPr>
              <a:t>Но огнь поэзии погас.</a:t>
            </a:r>
            <a:br>
              <a:rPr sz="2000"/>
            </a:br>
            <a:r>
              <a:rPr b="0" lang="ru-RU" sz="2000" spc="-1" strike="noStrike">
                <a:solidFill>
                  <a:srgbClr val="ffcc66"/>
                </a:solidFill>
                <a:latin typeface="Arial"/>
              </a:rPr>
              <a:t>Ищу напрасно впечатлений:</a:t>
            </a:r>
            <a:br>
              <a:rPr sz="2000"/>
            </a:br>
            <a:r>
              <a:rPr b="0" lang="ru-RU" sz="2000" spc="-1" strike="noStrike">
                <a:solidFill>
                  <a:srgbClr val="ffcc66"/>
                </a:solidFill>
                <a:latin typeface="Arial"/>
              </a:rPr>
              <a:t>Она прошла, пора стих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189000"/>
            <a:ext cx="8785440" cy="6480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о огнь поэзии» угас ненадолго. В душе поэта зрели новые замыслы, и «Кавказский пленник» — один из них.</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семье Раевских Пушкин провел на Кавказе «счастливейшие минуты жизни». Генерала он любил за «ясный ум, с простой, прекрасной душою». С его младшим сыном, Николаем, поэта связывала давняя друж6а. Н. Раевскому он посвятил поэму «Кавказский пленник».</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Прими с улыбкою, мой друг,</a:t>
            </a:r>
            <a:br>
              <a:rPr sz="2000"/>
            </a:br>
            <a:r>
              <a:rPr b="0" lang="ru-RU" sz="2000" spc="-1" strike="noStrike">
                <a:solidFill>
                  <a:srgbClr val="ffcc66"/>
                </a:solidFill>
                <a:latin typeface="Arial"/>
              </a:rPr>
              <a:t>Свободной музы приношенье:</a:t>
            </a:r>
            <a:br>
              <a:rPr sz="2000"/>
            </a:br>
            <a:r>
              <a:rPr b="0" lang="ru-RU" sz="2000" spc="-1" strike="noStrike">
                <a:solidFill>
                  <a:srgbClr val="ffcc66"/>
                </a:solidFill>
                <a:latin typeface="Arial"/>
              </a:rPr>
              <a:t>Тебе я посвятил изгнанной лиры пенье</a:t>
            </a:r>
            <a:br>
              <a:rPr sz="2000"/>
            </a:br>
            <a:r>
              <a:rPr b="0" lang="ru-RU" sz="2000" spc="-1" strike="noStrike">
                <a:solidFill>
                  <a:srgbClr val="ffcc66"/>
                </a:solidFill>
                <a:latin typeface="Arial"/>
              </a:rPr>
              <a:t>И вдохновенный свой досуг...</a:t>
            </a:r>
            <a:br>
              <a:rPr sz="2000"/>
            </a:br>
            <a:r>
              <a:rPr b="0" lang="ru-RU" sz="2000" spc="-1" strike="noStrike">
                <a:solidFill>
                  <a:srgbClr val="ffcc66"/>
                </a:solidFill>
                <a:latin typeface="Arial"/>
              </a:rPr>
              <a:t>Мы в жизни розно шли: в объятиях покоя </a:t>
            </a:r>
            <a:br>
              <a:rPr sz="2000"/>
            </a:br>
            <a:r>
              <a:rPr b="0" lang="ru-RU" sz="2000" spc="-1" strike="noStrike">
                <a:solidFill>
                  <a:srgbClr val="ffcc66"/>
                </a:solidFill>
                <a:latin typeface="Arial"/>
              </a:rPr>
              <a:t>Едва, едва расцвел и вслед отца-героя</a:t>
            </a:r>
            <a:br>
              <a:rPr sz="2000"/>
            </a:br>
            <a:r>
              <a:rPr b="0" lang="ru-RU" sz="2000" spc="-1" strike="noStrike">
                <a:solidFill>
                  <a:srgbClr val="ffcc66"/>
                </a:solidFill>
                <a:latin typeface="Arial"/>
              </a:rPr>
              <a:t>В поля кровавые, под тучи вражьих стрел,</a:t>
            </a:r>
            <a:br>
              <a:rPr sz="2000"/>
            </a:br>
            <a:r>
              <a:rPr b="0" lang="ru-RU" sz="2000" spc="-1" strike="noStrike">
                <a:solidFill>
                  <a:srgbClr val="ffcc66"/>
                </a:solidFill>
                <a:latin typeface="Arial"/>
              </a:rPr>
              <a:t>Младенец избранный, ты гордо полетел.</a:t>
            </a:r>
            <a:br>
              <a:rPr sz="2000"/>
            </a:br>
            <a:r>
              <a:rPr b="0" lang="ru-RU" sz="2000" spc="-1" strike="noStrike">
                <a:solidFill>
                  <a:srgbClr val="ffcc66"/>
                </a:solidFill>
                <a:latin typeface="Arial"/>
              </a:rPr>
              <a:t>Отечество тебя ласкало с умиленьем, </a:t>
            </a:r>
            <a:br>
              <a:rPr sz="2000"/>
            </a:br>
            <a:r>
              <a:rPr b="0" lang="ru-RU" sz="2000" spc="-1" strike="noStrike">
                <a:solidFill>
                  <a:srgbClr val="ffcc66"/>
                </a:solidFill>
                <a:latin typeface="Arial"/>
              </a:rPr>
              <a:t>Как жертву милую, как верный свет надежд.</a:t>
            </a:r>
            <a:br>
              <a:rPr sz="2000"/>
            </a:br>
            <a:r>
              <a:rPr b="0" lang="ru-RU" sz="2000" spc="-1" strike="noStrike">
                <a:solidFill>
                  <a:srgbClr val="ffcc66"/>
                </a:solidFill>
                <a:latin typeface="Arial"/>
              </a:rPr>
              <a:t>Я рано скорбь узнал, постигнут был гоненьем;</a:t>
            </a:r>
            <a:br>
              <a:rPr sz="2000"/>
            </a:br>
            <a:r>
              <a:rPr b="0" lang="ru-RU" sz="2000" spc="-1" strike="noStrike">
                <a:solidFill>
                  <a:srgbClr val="ffcc66"/>
                </a:solidFill>
                <a:latin typeface="Arial"/>
              </a:rPr>
              <a:t>Я жертва клеветы и мстительных невежд;</a:t>
            </a:r>
            <a:br>
              <a:rPr sz="2000"/>
            </a:br>
            <a:r>
              <a:rPr b="0" lang="ru-RU" sz="2000" spc="-1" strike="noStrike">
                <a:solidFill>
                  <a:srgbClr val="ffcc66"/>
                </a:solidFill>
                <a:latin typeface="Arial"/>
              </a:rPr>
              <a:t>Но сердца укрепив свободой и терпеньем,</a:t>
            </a:r>
            <a:br>
              <a:rPr sz="2000"/>
            </a:br>
            <a:r>
              <a:rPr b="0" lang="ru-RU" sz="2000" spc="-1" strike="noStrike">
                <a:solidFill>
                  <a:srgbClr val="ffcc66"/>
                </a:solidFill>
                <a:latin typeface="Arial"/>
              </a:rPr>
              <a:t>Я ждал беспечно лучших дней;</a:t>
            </a:r>
            <a:br>
              <a:rPr sz="2000"/>
            </a:br>
            <a:r>
              <a:rPr b="0" lang="ru-RU" sz="2000" spc="-1" strike="noStrike">
                <a:solidFill>
                  <a:srgbClr val="ffcc66"/>
                </a:solidFill>
                <a:latin typeface="Arial"/>
              </a:rPr>
              <a:t>И счастие моих друзей</a:t>
            </a:r>
            <a:br>
              <a:rPr sz="2000"/>
            </a:br>
            <a:r>
              <a:rPr b="0" lang="ru-RU" sz="2000" spc="-1" strike="noStrike">
                <a:solidFill>
                  <a:srgbClr val="ffcc66"/>
                </a:solidFill>
                <a:latin typeface="Arial"/>
              </a:rPr>
              <a:t>Мне было сладким утешенье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9280" y="259920"/>
            <a:ext cx="8785440" cy="6481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 водах состоялось знакомство и встречи Пушкина с литераторами Г. В. Гераковым и Г. П. Ржевским, полковником, впоследствии военным писателем А. Н. Мариным, поручиком С. И. Мещерским и другими. И все это «сердцу возвратило мир».</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 встречи воодушевляли опального поэта, хотя еще свежи были раны, нанесенные самодержавием, удалившим его от активной политической борьбы и от друзей — будущих декабристов. Неспокойно было в это время на Северном Кавказе. Царская Россия угнетала горские народы, не останавливаясь ни перед какими жестокостями. Отстаивая свое право на независимость, черкесы совершали смелые набеги на пограничные станицы и дороги... В эпилоге к «Кавказскому пленнику» Пушкин писал:</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cc66"/>
                </a:solidFill>
                <a:latin typeface="Arial"/>
              </a:rPr>
              <a:t>О Котляревский, бич Кавказа!</a:t>
            </a:r>
            <a:br>
              <a:rPr sz="2000"/>
            </a:br>
            <a:r>
              <a:rPr b="0" lang="ru-RU" sz="2000" spc="-1" strike="noStrike">
                <a:solidFill>
                  <a:srgbClr val="ffcc66"/>
                </a:solidFill>
                <a:latin typeface="Arial"/>
              </a:rPr>
              <a:t>Куда ни мчался ты грозой — </a:t>
            </a:r>
            <a:br>
              <a:rPr sz="2000"/>
            </a:br>
            <a:r>
              <a:rPr b="0" lang="ru-RU" sz="2000" spc="-1" strike="noStrike">
                <a:solidFill>
                  <a:srgbClr val="ffcc66"/>
                </a:solidFill>
                <a:latin typeface="Arial"/>
              </a:rPr>
              <a:t>Твой ход, как черная зараза,</a:t>
            </a:r>
            <a:br>
              <a:rPr sz="2000"/>
            </a:br>
            <a:r>
              <a:rPr b="0" lang="ru-RU" sz="2000" spc="-1" strike="noStrike">
                <a:solidFill>
                  <a:srgbClr val="ffcc66"/>
                </a:solidFill>
                <a:latin typeface="Arial"/>
              </a:rPr>
              <a:t>Губил, ничтожил племен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Эти слова о П. С. Котляревском (1782—1852) генерале, участнике Кавказских войн, покорителе народов Северного Кавказа и Закавказь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ушкин осуждал колонизаторскую политику царизма против горских народов и высказал это в черновой строфе стихотворения «Кавказ» (1829):</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cc66"/>
                </a:solidFill>
                <a:latin typeface="Arial"/>
              </a:rPr>
              <a:t>Так буйную вольность законы теснят,</a:t>
            </a:r>
            <a:br>
              <a:rPr sz="2800"/>
            </a:br>
            <a:r>
              <a:rPr b="0" lang="ru-RU" sz="2800" spc="-1" strike="noStrike">
                <a:solidFill>
                  <a:srgbClr val="ffcc66"/>
                </a:solidFill>
                <a:latin typeface="Arial"/>
              </a:rPr>
              <a:t>Так дикое племя под властью тоскует,</a:t>
            </a:r>
            <a:br>
              <a:rPr sz="2800"/>
            </a:br>
            <a:r>
              <a:rPr b="0" lang="ru-RU" sz="2800" spc="-1" strike="noStrike">
                <a:solidFill>
                  <a:srgbClr val="ffcc66"/>
                </a:solidFill>
                <a:latin typeface="Arial"/>
              </a:rPr>
              <a:t>Так ныне безмолвный Кавказ негодует,</a:t>
            </a:r>
            <a:br>
              <a:rPr sz="2800"/>
            </a:br>
            <a:r>
              <a:rPr b="0" lang="ru-RU" sz="2800" spc="-1" strike="noStrike">
                <a:solidFill>
                  <a:srgbClr val="ffcc66"/>
                </a:solidFill>
                <a:latin typeface="Arial"/>
              </a:rPr>
              <a:t>Так чуждые силы его тяготят...</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5 или 6 августа Пушкин и Раевские вернулись на Горячие воды и далее направились в Кры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8360" y="-360"/>
            <a:ext cx="8507520" cy="6669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15 августа Пушкин и Раевские выехали морем в Крым. Северный Кавказ был уже позади... Позднее в черновиках «Путешествия Онелина» Пушкин отправит своего героя той же дорогой, по которой ехал сам:</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cc66"/>
                </a:solidFill>
                <a:latin typeface="Arial"/>
              </a:rPr>
              <a:t>Простите, снежных гор вершины,</a:t>
            </a:r>
            <a:br>
              <a:rPr sz="2400"/>
            </a:br>
            <a:r>
              <a:rPr b="0" lang="ru-RU" sz="2400" spc="-1" strike="noStrike">
                <a:solidFill>
                  <a:srgbClr val="ffcc66"/>
                </a:solidFill>
                <a:latin typeface="Arial"/>
              </a:rPr>
              <a:t>И вы, кубанские равнины;</a:t>
            </a:r>
            <a:br>
              <a:rPr sz="2400"/>
            </a:br>
            <a:r>
              <a:rPr b="0" lang="ru-RU" sz="2400" spc="-1" strike="noStrike">
                <a:solidFill>
                  <a:srgbClr val="ffcc66"/>
                </a:solidFill>
                <a:latin typeface="Arial"/>
              </a:rPr>
              <a:t>Он едет к берегам иным, </a:t>
            </a:r>
            <a:br>
              <a:rPr sz="2400"/>
            </a:br>
            <a:r>
              <a:rPr b="0" lang="ru-RU" sz="2400" spc="-1" strike="noStrike">
                <a:solidFill>
                  <a:srgbClr val="ffcc66"/>
                </a:solidFill>
                <a:latin typeface="Arial"/>
              </a:rPr>
              <a:t>Он прибыл из Тамани в Крым...</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ошло девять лет... Отгремели залпы на Сенатской площади в Петербурге. Восстание 14 декабря 1825 года было жестоко подавлено. Вожди декабристов были казнены, и 120 человек, как писал А. И. Герцен,— «друзья этих людей, цвет всего, что было образованного, истинно благородного в России, отправились закованные на каторгу». Для великого русского поэта они были, как он сам писал, «братьями, друзьями, товарищами» и, прежде всего единомышленника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торая поездка Пушкина на Кавказ летом 1829 года соответствовала творческим замыслам поэта — завершить роман «Евгений Онегин» главой о декабристах с яркой панорамой освободительного движения первой четверти XIX века. Встреча с разжалованными декабристами — свидетелями событий того времени — входила в его планы (сосланных на Кавказ в 1822—1829 годах было около 40 человек и среди них И. Г. Бурцов, А. А. Бестужев, А. С. Гангеблов, П. П. Коновницын, М. И. Пущин, Н. Н. Семичев, В. Д. Сухорукое и д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амовольно, без разрешения властей поэт решился ехать на Северный Кавказ и далее в Закавказье. </a:t>
            </a:r>
            <a:r>
              <a:rPr b="0" lang="ru-RU" sz="2400" spc="-1" strike="noStrike">
                <a:solidFill>
                  <a:srgbClr val="ffcc66"/>
                </a:solidFill>
                <a:latin typeface="Arial"/>
              </a:rPr>
              <a:t>Николай I напоминал Бенкендорфу: «Он забыл, что обязан предупреждать меня обо всем, что делает, по крайней мере, касательно своих путешествий».</a:t>
            </a:r>
            <a:r>
              <a:rPr b="0" lang="ru-RU" sz="2400" spc="-1" strike="noStrike">
                <a:solidFill>
                  <a:srgbClr val="ffffff"/>
                </a:solidFill>
                <a:latin typeface="Arial"/>
              </a:rPr>
              <a:t> 4 марта 1829 года Пушкин взял подорожную в канцелярии петербургского военного губернатор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9 марта Пушкин покинул Петербург и через Москву выехал на Кавказ. Во время путешествия он вел путевые записки, опубликованные в 1836 году под названием «Путешествие в Арзрум во время похода 1829 года». Дополнительные сведения содержатся в письмах поэта и отражаются в его художественных произведениях, а также в воспоминаниях современнико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начале мая 1829 года, направляясь на Кавказ, Пушкин поехал на Калугу, Белев и Орел, а не на Воронеж и нарочно сделал 200 лишних верст, чтобы встретиться в Орле с А. П. Ермоловым. Первые же строки «Путешествия в Арзрум» поэт посвятил этой встрече с опальным генералом. Говорили о сомнительных заслугах Паскевича, о засилии немцев в русской армии. От Ермолова Пушкин мог многое узнать о крае и народах, его заселяющи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12600"/>
            <a:ext cx="9144000" cy="722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ъезжали к почтовой станции Кагаль - ницкая. Это было за Доном, откуда, по словам И. Т. Радожицкого, «дорога идет 116 верст до границы Кавказской губернии по калмыцкой земле». На картах того времени эти места назывались степью кочующих калмыков. Взоры поэта привлекли богатая растительность степи и птицы, «неведомые в наших лесах...</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алмыки располагаются около станционных хат. У кибиток их пасутся уродливые, косматые кони, знакомые вам по прекрасным рисункам Орловского». Посещение одной из кибиток и разговор с юной калмычкой, «степной Цирцеей», вдохновили поэта на создание прекрасного стихотвор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Прощай, любезная калмычка!</a:t>
            </a:r>
            <a:br>
              <a:rPr sz="1800"/>
            </a:br>
            <a:r>
              <a:rPr b="0" lang="ru-RU" sz="1800" spc="-1" strike="noStrike">
                <a:solidFill>
                  <a:srgbClr val="ffcc66"/>
                </a:solidFill>
                <a:latin typeface="Arial"/>
              </a:rPr>
              <a:t>Чуть-чуть, назло моих затей,</a:t>
            </a:r>
            <a:br>
              <a:rPr sz="1800"/>
            </a:br>
            <a:r>
              <a:rPr b="0" lang="ru-RU" sz="1800" spc="-1" strike="noStrike">
                <a:solidFill>
                  <a:srgbClr val="ffcc66"/>
                </a:solidFill>
                <a:latin typeface="Arial"/>
              </a:rPr>
              <a:t>Меня похвальная привычка</a:t>
            </a:r>
            <a:br>
              <a:rPr sz="1800"/>
            </a:br>
            <a:r>
              <a:rPr b="0" lang="ru-RU" sz="1800" spc="-1" strike="noStrike">
                <a:solidFill>
                  <a:srgbClr val="ffcc66"/>
                </a:solidFill>
                <a:latin typeface="Arial"/>
              </a:rPr>
              <a:t>Не увлекла среди степей</a:t>
            </a:r>
            <a:br>
              <a:rPr sz="1800"/>
            </a:br>
            <a:r>
              <a:rPr b="0" lang="ru-RU" sz="1800" spc="-1" strike="noStrike">
                <a:solidFill>
                  <a:srgbClr val="ffcc66"/>
                </a:solidFill>
                <a:latin typeface="Arial"/>
              </a:rPr>
              <a:t>Вслед за кибиткою твоей.</a:t>
            </a:r>
            <a:br>
              <a:rPr sz="1800"/>
            </a:br>
            <a:r>
              <a:rPr b="0" lang="ru-RU" sz="1800" spc="-1" strike="noStrike">
                <a:solidFill>
                  <a:srgbClr val="ffcc66"/>
                </a:solidFill>
                <a:latin typeface="Arial"/>
              </a:rPr>
              <a:t>Твои глаза, конечно, узки,</a:t>
            </a:r>
            <a:br>
              <a:rPr sz="1800"/>
            </a:br>
            <a:r>
              <a:rPr b="0" lang="ru-RU" sz="1800" spc="-1" strike="noStrike">
                <a:solidFill>
                  <a:srgbClr val="ffcc66"/>
                </a:solidFill>
                <a:latin typeface="Arial"/>
              </a:rPr>
              <a:t>И плосок нос, и лоб широк,</a:t>
            </a:r>
            <a:br>
              <a:rPr sz="1800"/>
            </a:br>
            <a:r>
              <a:rPr b="0" lang="ru-RU" sz="1800" spc="-1" strike="noStrike">
                <a:solidFill>
                  <a:srgbClr val="ffcc66"/>
                </a:solidFill>
                <a:latin typeface="Arial"/>
              </a:rPr>
              <a:t>Ты не лепечешь по-французски,</a:t>
            </a:r>
            <a:br>
              <a:rPr sz="1800"/>
            </a:br>
            <a:r>
              <a:rPr b="0" lang="ru-RU" sz="1800" spc="-1" strike="noStrike">
                <a:solidFill>
                  <a:srgbClr val="ffcc66"/>
                </a:solidFill>
                <a:latin typeface="Arial"/>
              </a:rPr>
              <a:t>Ты шелком не сжимаешь ног...</a:t>
            </a:r>
            <a:br>
              <a:rPr sz="1800"/>
            </a:br>
            <a:r>
              <a:rPr b="0" lang="ru-RU" sz="1800" spc="-1" strike="noStrike">
                <a:solidFill>
                  <a:srgbClr val="ffcc66"/>
                </a:solidFill>
                <a:latin typeface="Arial"/>
              </a:rPr>
              <a:t>Пока коней мне запрягали,</a:t>
            </a:r>
            <a:br>
              <a:rPr sz="1800"/>
            </a:br>
            <a:r>
              <a:rPr b="0" lang="ru-RU" sz="1800" spc="-1" strike="noStrike">
                <a:solidFill>
                  <a:srgbClr val="ffcc66"/>
                </a:solidFill>
                <a:latin typeface="Arial"/>
              </a:rPr>
              <a:t>Мне ум и сердце занимали</a:t>
            </a:r>
            <a:br>
              <a:rPr sz="1800"/>
            </a:br>
            <a:r>
              <a:rPr b="0" lang="ru-RU" sz="1800" spc="-1" strike="noStrike">
                <a:solidFill>
                  <a:srgbClr val="ffcc66"/>
                </a:solidFill>
                <a:latin typeface="Arial"/>
              </a:rPr>
              <a:t>Твой взор и дикая краса.</a:t>
            </a:r>
            <a:br>
              <a:rPr sz="1800"/>
            </a:br>
            <a:r>
              <a:rPr b="0" lang="ru-RU" sz="1800" spc="-1" strike="noStrike">
                <a:solidFill>
                  <a:srgbClr val="ffcc66"/>
                </a:solidFill>
                <a:latin typeface="Arial"/>
              </a:rPr>
              <a:t>Друзья! не все ль одно и то же:</a:t>
            </a:r>
            <a:br>
              <a:rPr sz="1800"/>
            </a:br>
            <a:r>
              <a:rPr b="0" lang="ru-RU" sz="1800" spc="-1" strike="noStrike">
                <a:solidFill>
                  <a:srgbClr val="ffcc66"/>
                </a:solidFill>
                <a:latin typeface="Arial"/>
              </a:rPr>
              <a:t>Забыться праздною душой</a:t>
            </a:r>
            <a:br>
              <a:rPr sz="1800"/>
            </a:br>
            <a:r>
              <a:rPr b="0" lang="ru-RU" sz="1800" spc="-1" strike="noStrike">
                <a:solidFill>
                  <a:srgbClr val="ffcc66"/>
                </a:solidFill>
                <a:latin typeface="Arial"/>
              </a:rPr>
              <a:t>В блестящей зале, в модной ложе,</a:t>
            </a:r>
            <a:br>
              <a:rPr sz="1800"/>
            </a:br>
            <a:r>
              <a:rPr b="0" lang="ru-RU" sz="1800" spc="-1" strike="noStrike">
                <a:solidFill>
                  <a:srgbClr val="ffcc66"/>
                </a:solidFill>
                <a:latin typeface="Arial"/>
              </a:rPr>
              <a:t>Или в кибитке кочево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од стихотворением помета: «22 мая 182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0" y="0"/>
            <a:ext cx="464328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период между двумя поездками Пушкина на Кавказ Горячие воды и прилегающие районы весьма изменились. Город стал застраиваться домами, были перестроены старые здания. Архитекторами братьями Бернардацци были возведены главнейшие и лучшие ванны и другие казенные здания. «Великолепные ванны» — это бывшие Николаевские (ныне Лермонтовские), выстроенные в 1826—1831 годах, казенные дома — ресторация, дом для неимущих офицеров и дом генерала Орлов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ятигорский бульвар — одно из лучших украшений современного города — был устроен в 1827—1828 годах. «Не верится глазам,— писал современник,— чтобы в такой глуши можно было найти и бульвар, липами обсаженный, гладко укатанный и чистым песком усыпанный, и на нем почти такое многолюдство, как на Невском проспект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т пушкинского времени сохранились в Пятигорске каменная лестница на вершину Горячей горы, сооруженная в 1813—1814 годах (расположена за Лермонтовскими ваннами), а в Кисловодске — остатки крепости: угловая башня, ворота, стена с бойницами (теперь здесь находится санаторий «Крепость» </a:t>
            </a:r>
            <a:endParaRPr b="0" lang="en-US" sz="1600" spc="-1" strike="noStrike">
              <a:solidFill>
                <a:srgbClr val="ffffff"/>
              </a:solidFill>
              <a:latin typeface="Arial"/>
            </a:endParaRPr>
          </a:p>
        </p:txBody>
      </p:sp>
      <p:pic>
        <p:nvPicPr>
          <p:cNvPr id="142" name="Picture 5" descr="Санатории"/>
          <p:cNvPicPr/>
          <p:nvPr/>
        </p:nvPicPr>
        <p:blipFill>
          <a:blip r:embed="rId1"/>
          <a:stretch/>
        </p:blipFill>
        <p:spPr>
          <a:xfrm>
            <a:off x="4716360" y="476280"/>
            <a:ext cx="4427640" cy="583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23640" y="3573000"/>
            <a:ext cx="8569080" cy="302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амять о посещении Пушкиным Кавказских Минеральных Вод увековечена в Пятигорске установкой ему в 1982 году памятника (бюста) работы скульптора М. К. Аникушина.</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Памятник"/>
          <p:cNvPicPr/>
          <p:nvPr/>
        </p:nvPicPr>
        <p:blipFill>
          <a:blip r:embed="rId1"/>
          <a:stretch/>
        </p:blipFill>
        <p:spPr>
          <a:xfrm>
            <a:off x="1763640" y="115920"/>
            <a:ext cx="4897440" cy="40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cc66"/>
                </a:solidFill>
                <a:latin typeface="Arial"/>
              </a:rPr>
              <a:t>Для того, чтобы раскрыть эту тему, я обралась к следующим книгам: </a:t>
            </a:r>
            <a:r>
              <a:rPr b="0" lang="en-US" sz="1800" spc="-1" strike="noStrike">
                <a:solidFill>
                  <a:srgbClr val="ffcc66"/>
                </a:solidFill>
                <a:latin typeface="Arial"/>
              </a:rPr>
              <a:t>C</a:t>
            </a:r>
            <a:r>
              <a:rPr b="0" lang="ru-RU" sz="1800" spc="-1" strike="noStrike">
                <a:solidFill>
                  <a:srgbClr val="ffcc66"/>
                </a:solidFill>
                <a:latin typeface="Arial"/>
              </a:rPr>
              <a:t>овременная школьная энциклопедия «Русская литература», «Здесь жил Пушкин»(редакторы -  А.М.Гордина и М.М.Калаушина), книга Е.И.Высочиной «Жизнь Пушкина в памяти поколений», «Литературное краеведение Ставрополья» под редакцией Г.М.Гогоберидзе и М.М.Кунижевой. В изученной мной литературе авторы  осветили такие вопросы: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1)</a:t>
            </a:r>
            <a:r>
              <a:rPr b="0" lang="ru-RU" sz="1800" spc="-1" strike="noStrike">
                <a:solidFill>
                  <a:srgbClr val="ffffff"/>
                </a:solidFill>
                <a:latin typeface="Arial"/>
              </a:rPr>
              <a:t> сколько раз А.С. Пушкин был на Кавказ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2)</a:t>
            </a:r>
            <a:r>
              <a:rPr b="0" lang="ru-RU" sz="1800" spc="-1" strike="noStrike">
                <a:solidFill>
                  <a:srgbClr val="ffffff"/>
                </a:solidFill>
                <a:latin typeface="Arial"/>
              </a:rPr>
              <a:t> какое отношение он имеет к Раевски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3)</a:t>
            </a:r>
            <a:r>
              <a:rPr b="0" lang="ru-RU" sz="1800" spc="-1" strike="noStrike">
                <a:solidFill>
                  <a:srgbClr val="ffffff"/>
                </a:solidFill>
                <a:latin typeface="Arial"/>
              </a:rPr>
              <a:t> где поэт достиг вершины художественного реализм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4)</a:t>
            </a:r>
            <a:r>
              <a:rPr b="0" lang="ru-RU" sz="1800" spc="-1" strike="noStrike">
                <a:solidFill>
                  <a:srgbClr val="ffffff"/>
                </a:solidFill>
                <a:latin typeface="Arial"/>
              </a:rPr>
              <a:t> в каких городах Ставрополья он был;</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5)</a:t>
            </a:r>
            <a:r>
              <a:rPr b="0" lang="ru-RU" sz="1800" spc="-1" strike="noStrike">
                <a:solidFill>
                  <a:srgbClr val="ffffff"/>
                </a:solidFill>
                <a:latin typeface="Arial"/>
              </a:rPr>
              <a:t> отношение А.С. Пушкина к Кавказской войн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6)</a:t>
            </a:r>
            <a:r>
              <a:rPr b="0" lang="ru-RU" sz="1800" spc="-1" strike="noStrike">
                <a:solidFill>
                  <a:srgbClr val="ffffff"/>
                </a:solidFill>
                <a:latin typeface="Arial"/>
              </a:rPr>
              <a:t> какие произведения были написаны им во время пребывания на Ставрополь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           </a:t>
            </a:r>
            <a:r>
              <a:rPr b="0" lang="ru-RU" sz="1800" spc="-1" strike="noStrike">
                <a:solidFill>
                  <a:srgbClr val="ffcc66"/>
                </a:solidFill>
                <a:latin typeface="Arial"/>
              </a:rPr>
              <a:t>7)</a:t>
            </a:r>
            <a:r>
              <a:rPr b="0" lang="ru-RU" sz="1800" spc="-1" strike="noStrike">
                <a:solidFill>
                  <a:srgbClr val="ffffff"/>
                </a:solidFill>
                <a:latin typeface="Arial"/>
              </a:rPr>
              <a:t> где лечился А.С. Пушкин.</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cc66"/>
                </a:solidFill>
                <a:latin typeface="Arial"/>
              </a:rPr>
              <a:t>На основании этих источников я узнала вот о чем:</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екрасная природа юга была для А.С. Пушкина источником вдохновения;</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на Ставрополье поэт переживал тяжёлые дни изгнания;</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в 1929 году Пушкин приехал изменившимся, перенёсшим несколько личных трагедий: две ссылки, гибель друзей-декабристов;</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поэт не только восторгался красотой гор Кавказа,  но и усердно лечился здес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24000" y="188640"/>
            <a:ext cx="5219640" cy="6669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7 мая Пушкин прибыл в Екатериноград (ныне станица Екатериноградская КБ АССР).  На следующий день, 18 мая, поэт отправился в дальнейший путь до Владикавказа и Ларса, где оканчивались границы Северного Кавказ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едалеко от поста Уруховского Пушкин посетил развалины аула Татартуба на левом берегу Терека, напротив осетинского селения Эльхотово. «Справа сиял снежный Кавказ; впереди возвышалась огромная лесистая гора; за нею находилась крепость. Кругом ее видны следы разоренного аула, называвшегося Татартубом и бывшего некогда главным в Большой Кабарде. Легкий одинокий минарет свидетельствует о бытии исчезнувшего селения. Он стройно возвышается между грудами камней, на берегу иссохшего потока. Внутренняя лестница еще не обрушилась. Я взобрался по ней на площадку, с которой уже не раздается голос муллы».</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Древнее магометанское городище Татартуб (в переводе татарский холм),  принадлежащее к выдающимся памятникам Северного Кавказа, некогда играло большую роль в экономике горских народов. Городище считалось у горцев святыней. Здесь «совершались между кабардинцами все клятвы и договоры для вящей оных прочности». Тот, кто укрывался в Татартубе, был неприкосновенен. И Пушкин, знакомый с бытом и нравами горцев, писал об этом в своей неоконченной неоконченной поэме «Тазит».</a:t>
            </a:r>
            <a:endParaRPr b="0" lang="en-US" sz="1600" spc="-1" strike="noStrike">
              <a:solidFill>
                <a:srgbClr val="ffffff"/>
              </a:solidFill>
              <a:latin typeface="Arial"/>
            </a:endParaRPr>
          </a:p>
        </p:txBody>
      </p:sp>
      <p:pic>
        <p:nvPicPr>
          <p:cNvPr id="146" name="Picture 4" descr="Тифлис развалины"/>
          <p:cNvPicPr/>
          <p:nvPr/>
        </p:nvPicPr>
        <p:blipFill>
          <a:blip r:embed="rId1"/>
          <a:stretch/>
        </p:blipFill>
        <p:spPr>
          <a:xfrm>
            <a:off x="108000" y="333360"/>
            <a:ext cx="4176720" cy="612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00360" y="188640"/>
            <a:ext cx="4392360" cy="6669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21 мая Пушкин прибыл «с оказией» во Владикавказ (ныне Орджоникидзе—столица Северо-Осетинской АССР) и оставался в нем двое суток. «Мы достигли Владикавказа, прежнего Капкая, преддверия гор»— писал он. Город основан в 1784 году на месте небольшого осетинского аула для охраны Военно-Грузинской дорог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окрестностях Владикавказа поэт посетил осетинский аул, где наблюдал национальный обряд похорон. По разысканиям местного краеведа Г. И. Кусова, «это — поселение, примыкающее к крепости с юга, так называемый Осетинский форштадт, или Владикавказский аул. Оно до сих пор осталось в тех же примерно границах на территории, которую мы в обиходе называем Осетинской слободко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зднее Пушкин описал сцену похорон в поэме «Тазит». «Около сакли толпился народ. На дворе стояла арба, запряженная двумя волами. Родственники и друзья умершего съезжались во всех сторон и с громким плачем шли в саклю, ударяя себя кулаками в лоб. Женщины стояли мирно... Один из гостей взял ружье покойного, сдул с полки порох и положил его подле тела. Волы тронулись».</a:t>
            </a:r>
            <a:endParaRPr b="0" lang="en-US" sz="1600" spc="-1" strike="noStrike">
              <a:solidFill>
                <a:srgbClr val="ffffff"/>
              </a:solidFill>
              <a:latin typeface="Arial"/>
            </a:endParaRPr>
          </a:p>
        </p:txBody>
      </p:sp>
      <p:pic>
        <p:nvPicPr>
          <p:cNvPr id="148" name="Picture 4" descr="Осетин аул"/>
          <p:cNvPicPr/>
          <p:nvPr/>
        </p:nvPicPr>
        <p:blipFill>
          <a:blip r:embed="rId1"/>
          <a:stretch/>
        </p:blipFill>
        <p:spPr>
          <a:xfrm>
            <a:off x="250920" y="333360"/>
            <a:ext cx="4176720" cy="621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260280"/>
            <a:ext cx="3970440" cy="6337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Около 15 августа путешественники достигли Горячеводска. Пушкин пробыл здесь более недели и около 20 августа посетил Кисловодс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Сохранилась выписка из «Журнала принимаемым ежедневно гг. посетителями ваннам, подогреваемым из кислой минеральной воды в продолжение курса 1829 года». За период с 21 августа по 6 сентября Пушкин принял 19 ванн, за которые уплачено 19 рублей. В начале и в конце поэт принимал по одной подогретой ванне в день, а в середине курса лечения в течение пяти дней (с одним перерывом) принимал по две.</a:t>
            </a:r>
            <a:endParaRPr b="0" lang="en-US" sz="2000" spc="-1" strike="noStrike">
              <a:solidFill>
                <a:srgbClr val="ffffff"/>
              </a:solidFill>
              <a:latin typeface="Arial"/>
            </a:endParaRPr>
          </a:p>
        </p:txBody>
      </p:sp>
      <p:pic>
        <p:nvPicPr>
          <p:cNvPr id="150" name="Picture 4" descr="Серная вана"/>
          <p:cNvPicPr/>
          <p:nvPr/>
        </p:nvPicPr>
        <p:blipFill>
          <a:blip r:embed="rId1"/>
          <a:stretch/>
        </p:blipFill>
        <p:spPr>
          <a:xfrm>
            <a:off x="4427640" y="620640"/>
            <a:ext cx="4427280" cy="5329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188640"/>
            <a:ext cx="4140360" cy="655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Кисловодске сохранился двухэтажный дом с длинными деревянными галереями (по улице Коминтерна, 5), где, по свидетельству М. И. Пущина, останавливался Пушкин. Дом этот принадлежал историку и помещику А. Ф. Реброву; впоследствии он подвергся значительным переделкам. М. Ю. Лермонтов увековечил этот дом в повести «Княжна Мер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бедал Пушкин в ресторации — деревянном здании,  украшенном колоннадой и широкой лестницей. По свидетельству современника, «ресторация вмещает в себе мужскую и женскую половины, разделенные между собою большою залою с буфетом. Комнаты ресторации снабжены приличною мебелью». Внешний вид здания изображен на акварели архитектора А. Тона, в его серии «Виды Пятигорска и Кисловодска, 1833 год» (хранится в Государственном Русском музее). За ветхостью здание было разобрано, и на его месте в 1948 году сооружена Лермонтовская площадка с бюстом поэта.</a:t>
            </a:r>
            <a:endParaRPr b="0" lang="en-US" sz="1600" spc="-1" strike="noStrike">
              <a:solidFill>
                <a:srgbClr val="ffffff"/>
              </a:solidFill>
              <a:latin typeface="Arial"/>
            </a:endParaRPr>
          </a:p>
        </p:txBody>
      </p:sp>
      <p:pic>
        <p:nvPicPr>
          <p:cNvPr id="152" name="Picture 4" descr="ler_rebrovb"/>
          <p:cNvPicPr/>
          <p:nvPr/>
        </p:nvPicPr>
        <p:blipFill>
          <a:blip r:embed="rId1"/>
          <a:stretch/>
        </p:blipFill>
        <p:spPr>
          <a:xfrm>
            <a:off x="4427640" y="476280"/>
            <a:ext cx="4716360" cy="5977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79280" y="259920"/>
            <a:ext cx="8785440" cy="6481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8 сентября 1829 года Пушкин заявил «в комендантском управлении при Горячих минеральных водах» свою подорожную и в тот же день выехал в Россию. До Георгиевска было предписано давать ему «в конвой по два конно-вооруженных казака без малейшего задержания». Пушкин возвращался по знакомой дороге через Ставрополь и Новочеркасск, где 13 сентября остановился на один-два дня. Отсюда он писал М. И. Пущину о своих дорожных впечатления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действующей армии поэт «был среди донцов» — казачьих частей, приданных Нижегородскому драгунскому полку Н. Н. Раевского. В сопровождении донцов, отслуживших свой срок и возвращавшихся на Дон, Пушкин ехал в Россию. При виде тихого Дона родились строк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Блеща средь полей широких,</a:t>
            </a:r>
            <a:br>
              <a:rPr sz="2000"/>
            </a:br>
            <a:r>
              <a:rPr b="0" lang="ru-RU" sz="2000" spc="-1" strike="noStrike">
                <a:solidFill>
                  <a:srgbClr val="ffcc66"/>
                </a:solidFill>
                <a:latin typeface="Arial"/>
              </a:rPr>
              <a:t>Вот он льется!..</a:t>
            </a:r>
            <a:br>
              <a:rPr sz="2000"/>
            </a:br>
            <a:r>
              <a:rPr b="0" lang="ru-RU" sz="2000" spc="-1" strike="noStrike">
                <a:solidFill>
                  <a:srgbClr val="ffcc66"/>
                </a:solidFill>
                <a:latin typeface="Arial"/>
              </a:rPr>
              <a:t>Здравствуй, Дон!</a:t>
            </a:r>
            <a:br>
              <a:rPr sz="2000"/>
            </a:br>
            <a:r>
              <a:rPr b="0" lang="ru-RU" sz="2000" spc="-1" strike="noStrike">
                <a:solidFill>
                  <a:srgbClr val="ffcc66"/>
                </a:solidFill>
                <a:latin typeface="Arial"/>
              </a:rPr>
              <a:t>От сынов твоих далеких</a:t>
            </a:r>
            <a:br>
              <a:rPr sz="2000"/>
            </a:br>
            <a:r>
              <a:rPr b="0" lang="ru-RU" sz="2000" spc="-1" strike="noStrike">
                <a:solidFill>
                  <a:srgbClr val="ffcc66"/>
                </a:solidFill>
                <a:latin typeface="Arial"/>
              </a:rPr>
              <a:t>Я привез тебе поклон.</a:t>
            </a:r>
            <a:br>
              <a:rPr sz="2000"/>
            </a:br>
            <a:r>
              <a:rPr b="0" lang="ru-RU" sz="2000" spc="-1" strike="noStrike">
                <a:solidFill>
                  <a:srgbClr val="ffcc66"/>
                </a:solidFill>
                <a:latin typeface="Arial"/>
              </a:rPr>
              <a:t>Как прославленного брата,</a:t>
            </a:r>
            <a:br>
              <a:rPr sz="2000"/>
            </a:br>
            <a:r>
              <a:rPr b="0" lang="ru-RU" sz="2000" spc="-1" strike="noStrike">
                <a:solidFill>
                  <a:srgbClr val="ffcc66"/>
                </a:solidFill>
                <a:latin typeface="Arial"/>
              </a:rPr>
              <a:t>Реки знают тихий Дон;</a:t>
            </a:r>
            <a:br>
              <a:rPr sz="2000"/>
            </a:br>
            <a:r>
              <a:rPr b="0" lang="ru-RU" sz="2000" spc="-1" strike="noStrike">
                <a:solidFill>
                  <a:srgbClr val="ffcc66"/>
                </a:solidFill>
                <a:latin typeface="Arial"/>
              </a:rPr>
              <a:t>От Аракса и Эвфрата</a:t>
            </a:r>
            <a:br>
              <a:rPr sz="2000"/>
            </a:br>
            <a:r>
              <a:rPr b="0" lang="ru-RU" sz="2000" spc="-1" strike="noStrike">
                <a:solidFill>
                  <a:srgbClr val="ffcc66"/>
                </a:solidFill>
                <a:latin typeface="Arial"/>
              </a:rPr>
              <a:t>Я привез тебе поклон...</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коло 20 сентября Пушкин был уже в Москве. Со времени первой поездки и до конца своих дней Пушкина влекло к Кавказ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Заключение</a:t>
            </a:r>
            <a:endParaRPr b="0" lang="en-US" sz="4400" spc="-1" strike="noStrike">
              <a:solidFill>
                <a:srgbClr val="b2b2b2"/>
              </a:solidFill>
              <a:latin typeface="Arial"/>
            </a:endParaRPr>
          </a:p>
        </p:txBody>
      </p:sp>
      <p:sp>
        <p:nvSpPr>
          <p:cNvPr id="155" name="PlaceHolder 2"/>
          <p:cNvSpPr>
            <a:spLocks noGrp="1"/>
          </p:cNvSpPr>
          <p:nvPr>
            <p:ph/>
          </p:nvPr>
        </p:nvSpPr>
        <p:spPr>
          <a:xfrm>
            <a:off x="108000" y="1341360"/>
            <a:ext cx="8928000" cy="55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Итак, весьма полезно было узнать о том, что А.С. Пушкин не единожды бывал на Кавказе, который является для меня   малой родиной. Например, то, что он не единожды побывал в Ставрополе, Пятигорске, Кисловодске, Горячеводске, обычно в учебниках не освещается. Поэтому работа над рефератом помогла мне много нового узнать о любимом поэте.  Оказывается, во   время    упомянутых мною в основной части реферата двух поездок к Пятигорью А.С. Пушкин, по его собственным словам, пережил «счастливейшие минуты жизн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Кроме того, даже суждения о Кавказе до знакомства русского общества с посвящёнными ему произведениями Пушкина были весьма скудным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сю первую четверть 19 века Кавказ в представлении российского дворянства ограничивался главным образом Горячими водами.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Поездка на Кавказ в то время означала поездку к Минеральным Водам Пятигорья.</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Грандиозный образ Кавказа с его воинственными жителями в первый раз был воспроизведен русской поэзией, - говорил Белинский в своей рецензии на «Кавказского пленника», - и только в поэме Пушкина в первый раз русское общество познакомилось с Кавказом, давно уже знакомым России по оружию».</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Если поэма «Кавказский пленник» заострила внимание русского общества к Минеральным водам, то это внимание было направлено главным образом на молодые курорты.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Можно сказать, Кавказ для русского общества заново был открыт  Пушкиным.</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овое русское лечебное место, связанное с поэзией Пушкина, превратилось в тот «новенький, чистенький городок», который застал позднее Лермонтов; естественно, что все это вместе укрепляло славу Кавказских Минеральных Вод.</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Недаром Белинский называл Кавказ колыбелью поэзии Пушкина. Ведь в поэтических описаниях Кавказа поэт достиг вершин художественного реализма. «Кавказ», «Обвал», «Дом», «Калмычке», «Делибаш», «Монастырь на Казбеке», «На холмах Грузии», «Дорожные жалобы» - вот далеко не все произведения, написанные А.С. Пушкиным под впечатлением путешествия на Кавказ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78920" y="304920"/>
            <a:ext cx="8796600" cy="6292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 несколько месяцев до смерти, в августе 1836 года, Пушкин написал стихотворение, которое стало поэтическим итогом его творчества, завещанием, обращенным к далеким потомкам – к нам:</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Я памятник себе воздвиг нерукотворный,</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К нему не зарастёт народная тропа,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Вознесся выше он главою непокорной</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Александрийского столпа.</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Нет, весь я не умру – душа в заветной лире</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Мой прах переживет и тленья убежит –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И славен буду я, доколь в подлунном мире</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Жить будет хоть один пиит.</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наши дни, как никогда раньше, сбываются великие пушкинские слова. И та «народная тропа», о которой мечтал уходящий из жизни поэт, становится все шире и шире, устремляясь в грядущее, в бессмерт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шкин – неотъемлемая часть русской культуры, духовного и нравственного мира нашего современни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 мы, жители Кавказа, должны гордиться тем, что именно наша малая родина вдохновляла величайшего российского поэта, Александра Сергеевича Пушкина, на создание таких прекрасных произведений, которые являются неотъемлемой составляющей духовного и нравственного мира каждого русского человека. </a:t>
            </a:r>
            <a:endParaRPr b="0" lang="en-US" sz="1800" spc="-1" strike="noStrike">
              <a:solidFill>
                <a:srgbClr val="ffffff"/>
              </a:solidFill>
              <a:latin typeface="Arial"/>
            </a:endParaRPr>
          </a:p>
        </p:txBody>
      </p:sp>
      <p:pic>
        <p:nvPicPr>
          <p:cNvPr id="157" name="Picture 4" descr="foto10"/>
          <p:cNvPicPr/>
          <p:nvPr/>
        </p:nvPicPr>
        <p:blipFill>
          <a:blip r:embed="rId1"/>
          <a:stretch/>
        </p:blipFill>
        <p:spPr>
          <a:xfrm>
            <a:off x="6948360" y="1052640"/>
            <a:ext cx="2195640" cy="264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Обзор литературы</a:t>
            </a:r>
            <a:endParaRPr b="0" lang="en-US" sz="4400" spc="-1" strike="noStrike">
              <a:solidFill>
                <a:srgbClr val="b2b2b2"/>
              </a:solidFill>
              <a:latin typeface="Arial"/>
            </a:endParaRPr>
          </a:p>
        </p:txBody>
      </p:sp>
      <p:sp>
        <p:nvSpPr>
          <p:cNvPr id="159" name="PlaceHolder 2"/>
          <p:cNvSpPr>
            <a:spLocks noGrp="1"/>
          </p:cNvSpPr>
          <p:nvPr>
            <p:ph/>
          </p:nvPr>
        </p:nvSpPr>
        <p:spPr>
          <a:xfrm>
            <a:off x="457200" y="1341360"/>
            <a:ext cx="8229600" cy="5516640"/>
          </a:xfrm>
          <a:prstGeom prst="rect">
            <a:avLst/>
          </a:prstGeom>
          <a:noFill/>
          <a:ln w="0">
            <a:noFill/>
          </a:ln>
        </p:spPr>
        <p:txBody>
          <a:bodyPr anchor="t">
            <a:normAutofit/>
          </a:bodyPr>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 Слонимский  Мастерство Пушкина // Гос. изд. худ. лит-ры, Москва 1963 стр. 187-216</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Степник Ю.В. О роли национальных поэтических традиций XVIII века в поэме Пушкина</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a:t>
            </a:r>
            <a:r>
              <a:rPr b="0" lang="ru-RU" sz="1000" spc="-1" strike="noStrike">
                <a:solidFill>
                  <a:srgbClr val="ffffff"/>
                </a:solidFill>
                <a:latin typeface="Arial"/>
              </a:rPr>
              <a:t>Руслан и Людмила” // Русская литература, 1968 стр.107 – 12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ушкин: суждения и споры // Московский рабочий 1997 стр. 1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Б. С. Мейлах. Сквозь магический кристалл. М., Высшая школа. 1990.</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 С. Пушкин. Материалы юбилейных торжеств. М., Л., 1951</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Лихачев Д. С. Слово о Пушкине. 198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Алексеев М. П. Пушкин и наука его времени. М., Л., 198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Лотман Ю. Пушкин в 1999. Каким он будет? Таллинн. 198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Благой Д. Пушкин и русская литература. М., Л., 1941.</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ушкин. Полное собрание сочинений.</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ихачев Д. С. Слово о Пушкине // Театральная жизнь. 1987. № 2. С. 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Тарковский А. Язык поэзии и поэзия языка // Лит. газ. 1967. 2 авг.</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Воспоминания П. А. Катенина о Пушкине // Литературное наследство. М., 1934. Т. 16-С. 64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Алексеев М. П. Пушкин и наука его времени // Алексеев М. П. Пушкин: сравнительно-исторические исследования. Л., 1984. С. 173.</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Цит. по: А. С. Пушкин. Материалы юбилейных торжеств. М.№ Л., 1051. С. 33.</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Белинский В. Г. Полн. собр. соч.: (В 13 т.) М., 1954. Т. 5. С. 1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Чайковский П. И. Переписка с Н. Ф. Мекк. М., Л., 1935. Т. 1. С. 57.</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Марков М. Мечты и были. Сиб. 1838.</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См.: Гальцева Р., Роднянская И. В подлунном мире. С. 132-152.</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отман Ю. Пушкин в 1999. Каким он будет? // Таллинн. 1987. № 1. С. 6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a:solidFill>
                  <a:srgbClr val="ffffff"/>
                </a:solidFill>
                <a:latin typeface="Arial"/>
              </a:rPr>
              <a:t>Лотман Ю. Пушкин в 1999. Каким он будет? // Таллинн. 1987. № 1. С. 64</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Высочина Е.И. Образ, бережно хранимый: Жизнь Пушкина в памяти поколений. – М., Просвещение, 1989.</a:t>
            </a:r>
            <a:endParaRPr b="0" lang="en-US" sz="1000" spc="-1" strike="noStrike">
              <a:solidFill>
                <a:srgbClr val="ffffff"/>
              </a:solidFill>
              <a:latin typeface="Arial"/>
            </a:endParaRPr>
          </a:p>
          <a:p>
            <a:pPr lvl="3" marL="1752480" indent="-380880">
              <a:lnSpc>
                <a:spcPct val="80000"/>
              </a:lnSpc>
              <a:spcBef>
                <a:spcPts val="249"/>
              </a:spcBef>
              <a:buClr>
                <a:srgbClr val="ffcc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М. Гогоберидзе, У. М. Кунижева, С.Г. Найденко, Г.П. Толпаева, О.П. Фесенко. Литературное краеведение Ставрополья. Региональный учебник для 5-8 классов общеобразовательных учреждений. – Ставрополь, 200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000" spc="-1" strike="noStrike">
                <a:solidFill>
                  <a:srgbClr val="ffcc66"/>
                </a:solidFill>
                <a:latin typeface="Arial"/>
              </a:rPr>
              <a:t>Цель моего реферата –</a:t>
            </a:r>
            <a:r>
              <a:rPr b="0" lang="ru-RU" sz="2000" spc="-1" strike="noStrike">
                <a:solidFill>
                  <a:srgbClr val="ffffff"/>
                </a:solidFill>
                <a:latin typeface="Arial"/>
              </a:rPr>
              <a:t> узнать как можно больше о визитах Пушкина на Кавказ и о произведениях, которые он посвятил моей малой родине.</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cc66"/>
                </a:solidFill>
                <a:latin typeface="Arial"/>
              </a:rPr>
              <a:t>Для достижения цели мне нужно было решить следующие задачи: </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йти в источниках информацию о том, сколько раз поэт побывал на Кавказе, где именно он был.</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ыяснить, какие художественные произведения  А.С.Пушкина был посвящены Кавказу, узнать творческую историю их создания.</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нкретизировать места, вдохновившие поэта (по возможност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cc66"/>
                </a:solidFill>
                <a:latin typeface="Arial"/>
              </a:rPr>
              <a:t>Работа над рефератом помогла мне гораздо больше узнать личность поэта, познакомиться с его духовным миром, его окружением, привычками, вкусами и ещё раз убедиться в том, что это незаурядный человек и великий поэт.</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Вот результаты моего исследовани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69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2b2b2"/>
                </a:solidFill>
                <a:latin typeface="Arial"/>
              </a:rPr>
              <a:t> </a:t>
            </a:r>
            <a:r>
              <a:rPr b="0" lang="ru-RU" sz="6000" spc="-1" strike="noStrike">
                <a:solidFill>
                  <a:srgbClr val="ffcc66"/>
                </a:solidFill>
                <a:latin typeface="Arial"/>
              </a:rPr>
              <a:t>Пушкин на Северном Кавказе</a:t>
            </a:r>
            <a:endParaRPr b="0" lang="en-US" sz="6000" spc="-1" strike="noStrike">
              <a:solidFill>
                <a:srgbClr val="b2b2b2"/>
              </a:solidFill>
              <a:latin typeface="Arial"/>
            </a:endParaRPr>
          </a:p>
        </p:txBody>
      </p:sp>
      <p:pic>
        <p:nvPicPr>
          <p:cNvPr id="105" name="Picture 6" descr="clip_image001"/>
          <p:cNvPicPr/>
          <p:nvPr/>
        </p:nvPicPr>
        <p:blipFill>
          <a:blip r:embed="rId1"/>
          <a:stretch/>
        </p:blipFill>
        <p:spPr>
          <a:xfrm>
            <a:off x="2484360" y="2276640"/>
            <a:ext cx="396072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476280"/>
            <a:ext cx="8229600" cy="446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Жизнь Пушкина и его творчество тесно связаны с Северным Кавказом. Великий русский поэт, по существу, первым в русской поэзии открыл кавказскую тему не по книгам и чужим рассказам, а по собственным впечатлениям от посещения этих мест.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 легкой руки Пушкина»,— писал Белинский,— «Кавказ сделался для русских заветною страною не только широкой раздольной воли, но и неисчерпаемой поэзии, страною кипучей жизни и смелых мечтаний! Муза Пушкина как бы освятила давно уже на деле существовавшее родство России с этим краем, купленным драгоценною кровью сынов и подвигами ее герое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324000" y="270720"/>
            <a:ext cx="867708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820 и последующие годы отмечены обострением политической       обстановки в России. Борьба с просвещением достигла своего апогея. Разгромлены Казанский и Петербургский университеты, свирепствует цензур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шкин в своей политической лирике, одах и эпиграммах на царя и его приближенных— «Вольность», «Деревня», «Ура! в Россию скачет кочующий деспот...», «На Аракчеева» и многих других заклеймил ненавистный ему крепостнический строй тогдашней Росси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66"/>
                </a:solidFill>
                <a:latin typeface="Arial"/>
              </a:rPr>
              <a:t>На лире скромной, благородной</a:t>
            </a:r>
            <a:br>
              <a:rPr sz="1800"/>
            </a:br>
            <a:r>
              <a:rPr b="0" lang="ru-RU" sz="1800" spc="-1" strike="noStrike">
                <a:solidFill>
                  <a:srgbClr val="ffcc66"/>
                </a:solidFill>
                <a:latin typeface="Arial"/>
              </a:rPr>
              <a:t>Земных богов я не хвалил</a:t>
            </a:r>
            <a:br>
              <a:rPr sz="1800"/>
            </a:br>
            <a:r>
              <a:rPr b="0" lang="ru-RU" sz="1800" spc="-1" strike="noStrike">
                <a:solidFill>
                  <a:srgbClr val="ffcc66"/>
                </a:solidFill>
                <a:latin typeface="Arial"/>
              </a:rPr>
              <a:t>И силе в гордости свободной</a:t>
            </a:r>
            <a:br>
              <a:rPr sz="1800"/>
            </a:br>
            <a:r>
              <a:rPr b="0" lang="ru-RU" sz="1800" spc="-1" strike="noStrike">
                <a:solidFill>
                  <a:srgbClr val="ffcc66"/>
                </a:solidFill>
                <a:latin typeface="Arial"/>
              </a:rPr>
              <a:t>Кадилом лести не кадил.</a:t>
            </a:r>
            <a:br>
              <a:rPr sz="1800"/>
            </a:br>
            <a:r>
              <a:rPr b="0" lang="ru-RU" sz="1800" spc="-1" strike="noStrike">
                <a:solidFill>
                  <a:srgbClr val="ffcc66"/>
                </a:solidFill>
                <a:latin typeface="Arial"/>
              </a:rPr>
              <a:t>Свободу лишь умея славить,</a:t>
            </a:r>
            <a:br>
              <a:rPr sz="1800"/>
            </a:br>
            <a:r>
              <a:rPr b="0" lang="ru-RU" sz="1800" spc="-1" strike="noStrike">
                <a:solidFill>
                  <a:srgbClr val="ffcc66"/>
                </a:solidFill>
                <a:latin typeface="Arial"/>
              </a:rPr>
              <a:t>Стихами жертвуя лишь ей,</a:t>
            </a:r>
            <a:br>
              <a:rPr sz="1800"/>
            </a:br>
            <a:r>
              <a:rPr b="0" lang="ru-RU" sz="1800" spc="-1" strike="noStrike">
                <a:solidFill>
                  <a:srgbClr val="ffcc66"/>
                </a:solidFill>
                <a:latin typeface="Arial"/>
              </a:rPr>
              <a:t>Я не рожден царей забавить</a:t>
            </a:r>
            <a:br>
              <a:rPr sz="1800"/>
            </a:br>
            <a:r>
              <a:rPr b="0" lang="ru-RU" sz="1800" spc="-1" strike="noStrike">
                <a:solidFill>
                  <a:srgbClr val="ffcc66"/>
                </a:solidFill>
                <a:latin typeface="Arial"/>
              </a:rPr>
              <a:t>Стыдливой музою моей...</a:t>
            </a:r>
            <a:br>
              <a:rPr sz="1800"/>
            </a:br>
            <a:r>
              <a:rPr b="0" lang="ru-RU" sz="1800" spc="-1" strike="noStrike">
                <a:solidFill>
                  <a:srgbClr val="ffcc66"/>
                </a:solidFill>
                <a:latin typeface="Arial"/>
              </a:rPr>
              <a:t>Любовь и тайная свобода</a:t>
            </a:r>
            <a:br>
              <a:rPr sz="1800"/>
            </a:br>
            <a:r>
              <a:rPr b="0" lang="ru-RU" sz="1800" spc="-1" strike="noStrike">
                <a:solidFill>
                  <a:srgbClr val="ffcc66"/>
                </a:solidFill>
                <a:latin typeface="Arial"/>
              </a:rPr>
              <a:t>Внушали сердцу гимн простой,</a:t>
            </a:r>
            <a:br>
              <a:rPr sz="1800"/>
            </a:br>
            <a:r>
              <a:rPr b="0" lang="ru-RU" sz="1800" spc="-1" strike="noStrike">
                <a:solidFill>
                  <a:srgbClr val="ffcc66"/>
                </a:solidFill>
                <a:latin typeface="Arial"/>
              </a:rPr>
              <a:t>И неподкупный голос мой</a:t>
            </a:r>
            <a:br>
              <a:rPr sz="1800"/>
            </a:br>
            <a:r>
              <a:rPr b="0" lang="ru-RU" sz="1800" spc="-1" strike="noStrike">
                <a:solidFill>
                  <a:srgbClr val="ffcc66"/>
                </a:solidFill>
                <a:latin typeface="Arial"/>
              </a:rPr>
              <a:t>Был эхо русского наро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280" y="189000"/>
            <a:ext cx="8302680" cy="640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апреле 1820 года Н. М. Карамзин писал поэту И. И. Дмитриеву: «Над здешним поэтом Пушкиным если не туча, то по крайней мере облако, и громоносное... Служа под знаменами либералистов, он написал и распустил стихи на Вольность, эпиграммы на властителей и проч. и проч. Это узнала полиция. Опасаются последств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cc66"/>
                </a:solidFill>
                <a:latin typeface="Arial"/>
              </a:rPr>
              <a:t>«Либералисты» —</a:t>
            </a:r>
            <a:r>
              <a:rPr b="0" lang="ru-RU" sz="2000" spc="-1" strike="noStrike">
                <a:solidFill>
                  <a:srgbClr val="ffffff"/>
                </a:solidFill>
                <a:latin typeface="Arial"/>
              </a:rPr>
              <a:t> это члены «Союза благоденствия», будущие декабристы. На их сходках Пушкин «читывал» свои запрещенные стихи, содействуя тем самым развитию революционной ситуации в России. «Пловцам я пел...» — скажет об этом позднее поэт в своем «Арион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ушкину грозила ссылка в Сибирь или заточение в Соловецкий монастырь, и лишь благодаря заступничеству влиятельных друзей высылка из Петербурга была заменена «служебным переводом» в Екатеринослав (ныне Днепропетровск), где в это время находилась канцелярия главного попечителя и председателя Комитета об иностранных поселенцах Южного края России генерал-лейтенанта И. Н. Инзов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коро простившись с друзьями, опальный поэт 6 мая 1820 года покинул северную столицу. Недавно балетмейстер Парижской оперы, коллекционер Сергей Лифарь подарил Пушкинскому дому в Ленинграде подлинный «пашпорт», выданный Пушкину на эту поездку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так, спешно собравшись в дорогу, Пушкин в сопровождении дядьки Никиты Козлова выехал из Петербурга. До Царского Села его провожали А. А. Дельвиг и П. Л. Яковле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 одной из почтовых станций между Черниговом и Могилевом смотритель рассказывал И. И. Пущину, что накануне здесь проехал поэт Александр Пушкин «на перекладной, в красной русской рубашке, в поярковой шляпе (время было ужасно жаркое)». 17 или 18 мая он прибыл в Екатериносла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9:53:33Z</dcterms:created>
  <dc:creator>Admin</dc:creator>
  <dc:description/>
  <dc:language>en-US</dc:language>
  <cp:lastModifiedBy>Школа</cp:lastModifiedBy>
  <dcterms:modified xsi:type="dcterms:W3CDTF">2011-10-06T11:38:29Z</dcterms:modified>
  <cp:revision>21</cp:revision>
  <dc:subject/>
  <dc:title>Кавказ в творчестве Александра Сергеевича Пушкина</dc:title>
</cp:coreProperties>
</file>