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E5F-BF19-49A8-90B9-CE7D9928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947-6BFE-48BF-BA47-2F556B5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431-EB82-43B8-8C4E-5421D18D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85B-0AC8-4A69-8A00-05CCEB79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A653-4B9A-4870-997C-8D27B3E1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6479-4FD9-426C-B9D0-B03FCEE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E7F3-E438-4374-8B5D-FA24702F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AAAD-8918-4F20-B621-2DCC627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88F8-717A-48BC-AF16-37A8F959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C30C-03B3-4FAF-90A6-063243B9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341-3605-4448-9616-43DDCCE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F2E-1CE4-47AD-A7D6-BEA423C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1A7D-5C22-4B8E-9A17-CED76F6C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C99-852E-4D4B-8EF0-79BAEA3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417-B6BC-4A0B-AA19-54ECEC6F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11E7-1DDF-426C-9342-076486C7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FB2-009A-4E3B-961C-75A8140C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511-D37F-4A05-A8D2-D213D21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19E-0086-4E26-89AC-9AB4A49D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79A-52EA-46D7-A5E8-F6AEFE5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27F-3548-49C7-A944-9E25F5FF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7D0-B0A0-4911-A619-2B07083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49A-B170-45D8-B2A2-6756E98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C62-77FA-4CCB-BA8C-4324933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051-A86B-4D51-83F3-916F06DBA0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32C-D40F-4551-A27C-AD022E72CD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горенко Н.В.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МОУ «Гимназия № 22 г. Белгорода»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449800" cy="1495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635280" y="3500280"/>
            <a:ext cx="4953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3640" y="57340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К «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313080" cy="2093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348000" y="18968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Урок- сказка: Сложение и выч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однозначных 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ллиграфическая 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11560" y="2082960"/>
            <a:ext cx="4647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НА РАЗВИТИЕ ВНИМАН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13880" y="3321000"/>
            <a:ext cx="5159520" cy="1260360"/>
            <a:chOff x="1613880" y="3321000"/>
            <a:chExt cx="5159520" cy="1260360"/>
          </a:xfrm>
        </p:grpSpPr>
        <p:sp>
          <p:nvSpPr>
            <p:cNvPr id="161" name=""/>
            <p:cNvSpPr/>
            <p:nvPr/>
          </p:nvSpPr>
          <p:spPr>
            <a:xfrm>
              <a:off x="1613880" y="3321000"/>
              <a:ext cx="88884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1720" y="35740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47760" y="35740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9920" y="3825720"/>
              <a:ext cx="177840" cy="180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0" y="0"/>
                  </a:moveTo>
                  <a:cubicBezTo>
                    <a:pt x="75" y="0"/>
                    <a:pt x="150" y="0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1720" y="4077000"/>
              <a:ext cx="474120" cy="2948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8040" y="3321000"/>
              <a:ext cx="88632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1588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393720" y="3825360"/>
              <a:ext cx="17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588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1200" y="3572640"/>
              <a:ext cx="1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456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1840" y="3321000"/>
              <a:ext cx="88740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7080" y="3321000"/>
              <a:ext cx="886320" cy="12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4560" y="4077000"/>
              <a:ext cx="474120" cy="293040"/>
            </a:xfrm>
            <a:custGeom>
              <a:avLst/>
              <a:gdLst/>
              <a:ahLst/>
              <a:rect l="l" t="t" r="r" b="b"/>
              <a:pathLst>
                <a:path w="480" h="210">
                  <a:moveTo>
                    <a:pt x="60" y="210"/>
                  </a:moveTo>
                  <a:cubicBezTo>
                    <a:pt x="30" y="135"/>
                    <a:pt x="0" y="60"/>
                    <a:pt x="60" y="30"/>
                  </a:cubicBezTo>
                  <a:cubicBezTo>
                    <a:pt x="120" y="0"/>
                    <a:pt x="360" y="0"/>
                    <a:pt x="420" y="30"/>
                  </a:cubicBezTo>
                  <a:cubicBezTo>
                    <a:pt x="480" y="60"/>
                    <a:pt x="420" y="180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2400" y="3825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242400" y="3825360"/>
              <a:ext cx="177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56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15200" y="347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024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0760" y="4077000"/>
              <a:ext cx="533160" cy="293040"/>
            </a:xfrm>
            <a:custGeom>
              <a:avLst/>
              <a:gdLst/>
              <a:ahLst/>
              <a:rect l="l" t="t" r="r" b="b"/>
              <a:pathLst>
                <a:path w="540" h="210">
                  <a:moveTo>
                    <a:pt x="0" y="0"/>
                  </a:moveTo>
                  <a:cubicBezTo>
                    <a:pt x="60" y="75"/>
                    <a:pt x="120" y="150"/>
                    <a:pt x="180" y="180"/>
                  </a:cubicBezTo>
                  <a:cubicBezTo>
                    <a:pt x="240" y="210"/>
                    <a:pt x="300" y="210"/>
                    <a:pt x="360" y="180"/>
                  </a:cubicBezTo>
                  <a:cubicBezTo>
                    <a:pt x="420" y="150"/>
                    <a:pt x="540" y="0"/>
                    <a:pt x="540" y="0"/>
                  </a:cubicBezTo>
                  <a:cubicBezTo>
                    <a:pt x="540" y="0"/>
                    <a:pt x="360" y="180"/>
                    <a:pt x="360" y="180"/>
                  </a:cubicBezTo>
                  <a:cubicBezTo>
                    <a:pt x="360" y="180"/>
                    <a:pt x="450" y="90"/>
                    <a:pt x="5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18960" y="38257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076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96440" y="357264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чёт в пределах деся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+4          8-4          7-2        2+6       6+3           9-6          4-3        5+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+2          5+1           7-5        8-2        5-4           9-3          2+7        6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5415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156360" y="220500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58920" y="3500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843280" y="2492280"/>
            <a:ext cx="1527120" cy="782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27480" cy="782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732720" y="3429000"/>
            <a:ext cx="15271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2565360"/>
            <a:ext cx="1440000" cy="79236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360" y="3213000"/>
            <a:ext cx="187164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292640"/>
            <a:ext cx="935280" cy="72072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4076640"/>
            <a:ext cx="914400" cy="914400"/>
          </a:xfrm>
          <a:prstGeom prst="rtTriangl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852640"/>
            <a:ext cx="863640" cy="863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300720" y="4149360"/>
            <a:ext cx="1656000" cy="1150920"/>
          </a:xfrm>
          <a:custGeom>
            <a:avLst/>
            <a:gdLst>
              <a:gd name="textAreaLeft" fmla="*/ 363960 w 1656000"/>
              <a:gd name="textAreaRight" fmla="*/ 1292040 w 1656000"/>
              <a:gd name="textAreaTop" fmla="*/ 253080 h 1150920"/>
              <a:gd name="textAreaBottom" fmla="*/ 8978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2276640"/>
            <a:ext cx="1152720" cy="10810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2060640"/>
            <a:ext cx="792000" cy="792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НЕРАВЕНСТВ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4…2+2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+3…5+3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-6…2+6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-5…4+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2735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олезные ссыл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Шарль Перро «Золуш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Задача: автор Выгоренко Н.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ник контрольных работ Н.Б.Истомин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ллиграфическая минутка: автор Выгоренко Н.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5:52:08Z</dcterms:created>
  <dc:creator>Ангелина</dc:creator>
  <dc:description/>
  <dc:language>en-US</dc:language>
  <cp:lastModifiedBy>Ангелина</cp:lastModifiedBy>
  <dcterms:modified xsi:type="dcterms:W3CDTF">2008-01-29T16:40:12Z</dcterms:modified>
  <cp:revision>2</cp:revision>
  <dc:subject/>
  <dc:title> Выгоренко Н.В., учитель начальных классов МОУ «Гимназия № 22 г. Белгорода»   </dc:title>
</cp:coreProperties>
</file>