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649-9BC7-4F85-9905-2445FB26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861-BD56-4D0D-85B5-4502B890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2FC-04DD-4F37-8046-DE07AB64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92E-B24A-41FE-A64E-06EF2369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C9E-810E-4677-941F-2B6DFBA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6BFD-BC2B-4F64-A88E-D643C05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3CE6-D82C-421C-962D-9F3DB80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161-D34F-45AF-ADB8-83E6695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DD9F-4F68-405C-ADDD-8700C41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373-6CED-41C0-B41A-21FD80AC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5AE8-33F7-4A5E-94C0-5BE73AA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F92-2AFD-4A61-A352-6E46747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A36-71F4-4E3E-A98D-712DDFD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C861-006F-4899-99EE-AE195A5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E57A-0AD2-4D5E-96A8-C375BF65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D22-95F9-46A3-BC30-45167760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8A3-07DC-499E-9E0E-C8BD391F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2FB-EFDA-4199-A53A-8D09E0A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587-FE0D-451E-8354-64A2FA6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42F-8FCA-4C41-9CBA-CF9367D4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940-B9E9-4C11-A83E-FC05D9B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906-1A5F-4705-8A94-5CBF502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857-DF5E-4034-9911-CADB2C8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944-29C7-4968-A8A8-DCFE1D2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2A0-CA90-426B-943D-8DB030A7A7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770-CBC2-4E8A-8391-122A560223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горенко Н.В.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МОУ «Гимназия № 22 г. Белгорода»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449800" cy="1495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4953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3640" y="57340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К «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313080" cy="2093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348000" y="18968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Урок- сказка: Сложение и выч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однозначных 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ллиграфическая 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11560" y="2082960"/>
            <a:ext cx="4647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НА РАЗВИТИЕ ВНИМАН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13880" y="3321000"/>
            <a:ext cx="5159520" cy="1260360"/>
            <a:chOff x="1613880" y="3321000"/>
            <a:chExt cx="5159520" cy="1260360"/>
          </a:xfrm>
        </p:grpSpPr>
        <p:sp>
          <p:nvSpPr>
            <p:cNvPr id="161" name=""/>
            <p:cNvSpPr/>
            <p:nvPr/>
          </p:nvSpPr>
          <p:spPr>
            <a:xfrm>
              <a:off x="1613880" y="3321000"/>
              <a:ext cx="88884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1720" y="35740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47760" y="35740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9920" y="3825720"/>
              <a:ext cx="177840" cy="180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0" y="0"/>
                  </a:moveTo>
                  <a:cubicBezTo>
                    <a:pt x="75" y="0"/>
                    <a:pt x="150" y="0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1720" y="4077000"/>
              <a:ext cx="474120" cy="2948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8040" y="3321000"/>
              <a:ext cx="88632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1588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393720" y="3825360"/>
              <a:ext cx="17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588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1200" y="3572640"/>
              <a:ext cx="1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456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1840" y="3321000"/>
              <a:ext cx="88740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7080" y="3321000"/>
              <a:ext cx="88632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456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2400" y="3825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242400" y="3825360"/>
              <a:ext cx="177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56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15200" y="347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024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0760" y="4077000"/>
              <a:ext cx="533160" cy="293040"/>
            </a:xfrm>
            <a:custGeom>
              <a:avLst/>
              <a:gdLst/>
              <a:ahLst/>
              <a:rect l="l" t="t" r="r" b="b"/>
              <a:pathLst>
                <a:path w="540" h="210">
                  <a:moveTo>
                    <a:pt x="0" y="0"/>
                  </a:moveTo>
                  <a:cubicBezTo>
                    <a:pt x="60" y="75"/>
                    <a:pt x="120" y="150"/>
                    <a:pt x="180" y="180"/>
                  </a:cubicBezTo>
                  <a:cubicBezTo>
                    <a:pt x="240" y="210"/>
                    <a:pt x="300" y="210"/>
                    <a:pt x="360" y="180"/>
                  </a:cubicBezTo>
                  <a:cubicBezTo>
                    <a:pt x="420" y="150"/>
                    <a:pt x="540" y="0"/>
                    <a:pt x="540" y="0"/>
                  </a:cubicBezTo>
                  <a:cubicBezTo>
                    <a:pt x="540" y="0"/>
                    <a:pt x="360" y="180"/>
                    <a:pt x="360" y="180"/>
                  </a:cubicBezTo>
                  <a:cubicBezTo>
                    <a:pt x="360" y="180"/>
                    <a:pt x="450" y="90"/>
                    <a:pt x="5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18960" y="38257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076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9644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чёт в пределах деся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+4          8-4          7-2        2+6       6+3           9-6          4-3        5+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+2          5+1           7-5        8-2        5-4           9-3          2+7        6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5415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156360" y="220500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58920" y="3500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27480" cy="782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732720" y="3429000"/>
            <a:ext cx="15271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2565360"/>
            <a:ext cx="1440000" cy="79236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3213000"/>
            <a:ext cx="187164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292640"/>
            <a:ext cx="935280" cy="72072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4076640"/>
            <a:ext cx="914400" cy="914400"/>
          </a:xfrm>
          <a:prstGeom prst="rtTriangl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852640"/>
            <a:ext cx="863640" cy="863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300720" y="4149360"/>
            <a:ext cx="1656000" cy="1150920"/>
          </a:xfrm>
          <a:custGeom>
            <a:avLst/>
            <a:gdLst>
              <a:gd name="textAreaLeft" fmla="*/ 363960 w 1656000"/>
              <a:gd name="textAreaRight" fmla="*/ 1292040 w 1656000"/>
              <a:gd name="textAreaTop" fmla="*/ 253080 h 1150920"/>
              <a:gd name="textAreaBottom" fmla="*/ 8978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2276640"/>
            <a:ext cx="1152720" cy="10810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2060640"/>
            <a:ext cx="792000" cy="792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НЕРАВЕНСТ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4…2+2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+3…5+3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-6…2+6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…4+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2735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олезные ссыл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Шарль Перро «Золуш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Задача: автор Выгоренко Н.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ник контрольных работ Н.Б.Истомин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ллиграфическая минутка: автор Выгоренко Н.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5:52:08Z</dcterms:created>
  <dc:creator>Ангелина</dc:creator>
  <dc:description/>
  <dc:language>en-US</dc:language>
  <cp:lastModifiedBy>Ангелина</cp:lastModifiedBy>
  <dcterms:modified xsi:type="dcterms:W3CDTF">2008-01-29T16:40:12Z</dcterms:modified>
  <cp:revision>2</cp:revision>
  <dc:subject/>
  <dc:title> Выгоренко Н.В., учитель начальных классов МОУ «Гимназия № 22 г. Белгорода»   </dc:title>
</cp:coreProperties>
</file>