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A8F3-9E98-4ACC-AD44-2387D367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83E-0F85-4487-AE69-11AB6BB9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FF4-A7F8-4453-B80D-54901C33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D51-DDC6-408C-A875-71AFE9A2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8469-758A-4B83-BBAA-72968709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3581-1478-4525-A1D3-C5CCD3E2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CE2A-1411-4B69-9351-A5D1E1F5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CD15-B0EF-4760-902A-BB55F82C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326F-8BAD-40E3-AE62-E1EED9AF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343E-E89F-4128-9021-C56D0597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B743-E132-42BD-96E4-23C6F3E9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DB4-00C6-4966-989A-805F651A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402C-FA34-4323-B2B1-C12021CC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EB6C-4330-4A1B-A9F8-F6ADD91E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B5A0-793D-41FB-8CFB-64D05635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256C-F82F-47A0-861A-C894D91C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5A50-9E15-4F88-A0CE-E5027A7C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647-30EC-4143-8B9F-29DBF48E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4E8-1F08-475A-855B-543E0DC9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392-8A46-47BC-9703-0257CEE7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346-376A-48E8-A821-F00F53F8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48D-E8B8-4CB0-AE5F-9E489CDB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A0E-C08E-432D-9EBF-03B6B9C6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9AA-91A1-4F9F-BAD1-94A44ACF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D8C65-0B48-40E5-A04F-5A71C8A202D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03102FB-1F46-4CCE-B968-6C420C03B2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8;&#1083;_XII" TargetMode="External"/><Relationship Id="rId2" Type="http://schemas.openxmlformats.org/officeDocument/2006/relationships/hyperlink" Target="http://ru.wikipedia.org/wiki/&#1057;&#1077;&#1074;&#1077;&#1088;&#1085;&#1072;&#1103;_&#1074;&#1086;&#1081;&#1085;&#1072;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682_&#1075;&#1086;&#1076;" TargetMode="External"/><Relationship Id="rId2" Type="http://schemas.openxmlformats.org/officeDocument/2006/relationships/hyperlink" Target="http://ru.wikipedia.org/wiki/1689_&#1075;&#1086;&#1076;" TargetMode="External"/><Relationship Id="rId3" Type="http://schemas.openxmlformats.org/officeDocument/2006/relationships/hyperlink" Target="http://ru.wikipedia.org/wiki/&#1042;&#1077;&#1083;&#1080;&#1082;&#1086;&#1077;_&#1087;&#1086;&#1089;&#1086;&#1083;&#1100;&#1089;&#1090;&#1074;&#1086;" TargetMode="External"/><Relationship Id="rId4" Type="http://schemas.openxmlformats.org/officeDocument/2006/relationships/hyperlink" Target="http://ru.wikipedia.org/wiki/1698_&#1075;&#1086;&#1076;" TargetMode="External"/><Relationship Id="rId5" Type="http://schemas.openxmlformats.org/officeDocument/2006/relationships/hyperlink" Target="http://ru.wikipedia.org/wiki/&#1056;&#1077;&#1092;&#1086;&#1088;&#1084;&#1099;_&#1055;&#1077;&#1090;&#1088;&#1072;_I" TargetMode="External"/><Relationship Id="rId6" Type="http://schemas.openxmlformats.org/officeDocument/2006/relationships/hyperlink" Target="http://ru.wikipedia.org/wiki/&#1042;&#1077;&#1083;&#1080;&#1082;&#1072;&#1103;_&#1057;&#1077;&#1074;&#1077;&#1088;&#1085;&#1072;&#1103;_&#1074;&#1086;&#1081;&#1085;&#1072;" TargetMode="External"/><Relationship Id="rId7" Type="http://schemas.openxmlformats.org/officeDocument/2006/relationships/hyperlink" Target="http://ru.wikipedia.org/wiki/1721_&#1075;&#1086;&#1076;" TargetMode="External"/><Relationship Id="rId8" Type="http://schemas.openxmlformats.org/officeDocument/2006/relationships/hyperlink" Target="http://ru.wikipedia.org/wiki/XVIII_&#1074;&#1077;&#1082;" TargetMode="Externa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105;&#1090;&#1088;_I_&#1042;&#1077;&#1083;&#1080;&#1082;&#1080;&#1081;" TargetMode="External"/><Relationship Id="rId2" Type="http://schemas.openxmlformats.org/officeDocument/2006/relationships/hyperlink" Target="http://ru.wikipedia.org/wiki/&#1057;&#1077;&#1085;&#1072;&#1090;&#1089;&#1082;&#1072;&#1103;_&#1087;&#1083;&#1086;&#1097;&#1072;&#1076;&#1100;_(&#1057;&#1072;&#1085;&#1082;&#1090;-&#1055;&#1077;&#1090;&#1077;&#1088;&#1073;&#1091;&#1088;&#1075;)" TargetMode="External"/><Relationship Id="rId3" Type="http://schemas.openxmlformats.org/officeDocument/2006/relationships/hyperlink" Target="http://ru.wikipedia.org/wiki/&#1057;&#1072;&#1085;&#1082;&#1090;-&#1055;&#1077;&#1090;&#1077;&#1088;&#1073;&#1091;&#1088;&#1075;" TargetMode="External"/><Relationship Id="rId4" Type="http://schemas.openxmlformats.org/officeDocument/2006/relationships/hyperlink" Target="http://ru.wikipedia.org/wiki/&#1052;&#1077;&#1076;&#1085;&#1099;&#1081;_&#1074;&#1089;&#1072;&#1076;&#1085;&#1080;&#1082;_(&#1087;&#1086;&#1101;&#1084;&#1072;)" TargetMode="External"/><Relationship Id="rId5" Type="http://schemas.openxmlformats.org/officeDocument/2006/relationships/hyperlink" Target="http://ru.wikipedia.org/wiki/&#1055;&#1091;&#1096;&#1082;&#1080;&#1085;,_&#1040;&#1083;&#1077;&#1082;&#1089;&#1072;&#1085;&#1076;&#1088;_&#1057;&#1077;&#1088;&#1075;&#1077;&#1077;&#1074;&#1080;&#1095;" TargetMode="External"/><Relationship Id="rId6" Type="http://schemas.openxmlformats.org/officeDocument/2006/relationships/hyperlink" Target="http://ru.wikipedia.org/wiki/&#1041;&#1088;&#1086;&#1085;&#1079;&#1072;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3;&#1100;&#1082;&#1086;&#1085;&#1077;,_&#1069;&#1090;&#1100;&#1077;&#1085;_&#1052;&#1086;&#1088;&#1080;&#1089;" TargetMode="External"/><Relationship Id="rId2" Type="http://schemas.openxmlformats.org/officeDocument/2006/relationships/hyperlink" Target="http://ru.wikipedia.org/wiki/&#1060;&#1072;&#1083;&#1100;&#1082;&#1086;&#1085;&#1077;,_&#1069;&#1090;&#1100;&#1077;&#1085;_&#1052;&#1086;&#1088;&#1080;&#1089;" TargetMode="External"/><Relationship Id="rId3" Type="http://schemas.openxmlformats.org/officeDocument/2006/relationships/hyperlink" Target="http://ru.wikipedia.org/wiki/1768" TargetMode="External"/><Relationship Id="rId4" Type="http://schemas.openxmlformats.org/officeDocument/2006/relationships/hyperlink" Target="http://ru.wikipedia.org/wiki/1770" TargetMode="External"/><Relationship Id="rId5" Type="http://schemas.openxmlformats.org/officeDocument/2006/relationships/hyperlink" Target="http://ru.wikipedia.org/wiki/&#1052;&#1072;&#1088;&#1080;-&#1040;&#1085;&#1085;&#1072;_&#1050;&#1086;&#1083;&#1083;&#1086;" TargetMode="External"/><Relationship Id="rId6" Type="http://schemas.openxmlformats.org/officeDocument/2006/relationships/hyperlink" Target="http://ru.wikipedia.org/wiki/&#1052;&#1072;&#1088;&#1080;-&#1040;&#1085;&#1085;&#1072;_&#1050;&#1086;&#1083;&#1083;&#1086;" TargetMode="External"/><Relationship Id="rId7" Type="http://schemas.openxmlformats.org/officeDocument/2006/relationships/hyperlink" Target="http://ru.wikipedia.org/wiki/&#1043;&#1086;&#1088;&#1076;&#1077;&#1077;&#1074;,_&#1060;&#1105;&#1076;&#1086;&#1088;_&#1043;&#1086;&#1088;&#1076;&#1077;&#1077;&#1074;&#1080;&#1095;" TargetMode="External"/><Relationship Id="rId8" Type="http://schemas.openxmlformats.org/officeDocument/2006/relationships/hyperlink" Target="http://ru.wikipedia.org/w/index.php?title=&#1061;&#1072;&#1081;&#1083;&#1086;&#1074;,_&#1045;&#1084;&#1077;&#1083;&#1100;&#1103;&#1085;&amp;action=edit&amp;redlink=1" TargetMode="External"/><Relationship Id="rId9" Type="http://schemas.openxmlformats.org/officeDocument/2006/relationships/hyperlink" Target="http://ru.wikipedia.org/w/index.php?title=&#1061;&#1072;&#1081;&#1083;&#1086;&#1074;,_&#1045;&#1084;&#1077;&#1083;&#1100;&#1103;&#1085;&amp;action=edit&amp;redlink=1" TargetMode="External"/><Relationship Id="rId10" Type="http://schemas.openxmlformats.org/officeDocument/2006/relationships/hyperlink" Target="http://ru.wikipedia.org/wiki/1778_&#1075;&#1086;&#1076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2;&#1080;&#1096;&#1085;&#1103;&#1082;&#1086;&#1074;_&#1057;&#1077;&#1084;&#1105;&#1085;_&#1043;&#1088;&#1080;&#1075;&#1086;&#1088;&#1100;&#1077;&#1074;&#1080;&#1095;&amp;action=edit&amp;redlink=1" TargetMode="External"/><Relationship Id="rId2" Type="http://schemas.openxmlformats.org/officeDocument/2006/relationships/hyperlink" Target="http://ru.wikipedia.org/w/index.php?title=&#1050;&#1072;&#1087;&#1080;&#1090;&#1072;&#1085;_&#1051;&#1072;&#1089;&#1082;&#1072;&#1088;&#1080;&amp;action=edit&amp;redlink=1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94;&#1082;&#1086;&#1081;,_&#1048;&#1074;&#1072;&#1085;_&#1048;&#1074;&#1072;&#1085;&#1086;&#1074;&#1080;&#1095;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85;&#1089;&#1082;&#1080;&#1081;_&#1079;&#1072;&#1083;&#1080;&#1074;" TargetMode="External"/><Relationship Id="rId2" Type="http://schemas.openxmlformats.org/officeDocument/2006/relationships/hyperlink" Target="http://ru.wikipedia.org/wiki/15_&#1085;&#1086;&#1103;&#1073;&#1088;&#1103;" TargetMode="External"/><Relationship Id="rId3" Type="http://schemas.openxmlformats.org/officeDocument/2006/relationships/hyperlink" Target="http://ru.wikipedia.org/wiki/1769_&#1075;&#1086;&#1076;" TargetMode="External"/><Relationship Id="rId4" Type="http://schemas.openxmlformats.org/officeDocument/2006/relationships/hyperlink" Target="http://ru.wikipedia.org/wiki/27_&#1084;&#1072;&#1088;&#1090;&#1072;" TargetMode="External"/><Relationship Id="rId5" Type="http://schemas.openxmlformats.org/officeDocument/2006/relationships/hyperlink" Target="http://ru.wikipedia.org/wiki/1770_&#1075;&#1086;&#1076;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0;&#1086;&#1088;&#1095;&#1077;&#1073;&#1085;&#1080;&#1082;&#1086;&#1074;,_&#1043;&#1088;&#1080;&#1075;&#1086;&#1088;&#1080;&#1081;&amp;action=edit&amp;redlink=1" TargetMode="External"/><Relationship Id="rId2" Type="http://schemas.openxmlformats.org/officeDocument/2006/relationships/hyperlink" Target="http://ru.wikipedia.org/w/index.php?title=&#1050;&#1086;&#1088;&#1095;&#1077;&#1073;&#1085;&#1080;&#1082;&#1086;&#1074;,_&#1043;&#1088;&#1080;&#1075;&#1086;&#1088;&#1080;&#1081;&amp;action=edit&amp;redlink=1" TargetMode="External"/><Relationship Id="rId3" Type="http://schemas.openxmlformats.org/officeDocument/2006/relationships/hyperlink" Target="http://ru.wikipedia.org/wiki/1770_&#1075;&#1086;&#1076;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5;&#1082;&#1072;&#1090;&#1077;&#1088;&#1080;&#1085;&#1072;_II" TargetMode="External"/><Relationship Id="rId2" Type="http://schemas.openxmlformats.org/officeDocument/2006/relationships/hyperlink" Target="http://ru.wikipedia.org/wiki/&#1044;&#1080;&#1076;&#1088;&#1086;,_&#1044;&#1077;&#1085;&#1080;" TargetMode="External"/><Relationship Id="rId3" Type="http://schemas.openxmlformats.org/officeDocument/2006/relationships/hyperlink" Target="http://ru.wikipedia.org/wiki/&#1042;&#1086;&#1083;&#1100;&#1090;&#1077;&#1088;,_&#1052;&#1072;&#1088;&#1080;-&#1060;&#1088;&#1072;&#1085;&#1089;&#1091;&#1072;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708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35280" y="604188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езентация подготовлена Казанцевой Н.Н., учителем МОУ «Русскополянская СОШ №2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60280"/>
            <a:ext cx="594036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roadway"/>
              </a:rPr>
              <a:t>«Медный всадник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rush Script MT"/>
              </a:rPr>
              <a:t>Петербургская пов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064200" y="1989000"/>
            <a:ext cx="307980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нтересный фак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тр Великий рукой указывает в сторону Швеции, а в центре Стокгольма установлен похожий памятник-всадник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Карлу X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главному противнику Петра в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Северной войн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взор которого обращён по направлению к Росс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.Стожаров. Пушкин и Медный всадник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399096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На берегу пустынных волн стоял он, дум великих полн, и вдаль глядел…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113440" cy="49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56000" y="333000"/>
            <a:ext cx="613080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ётр был провозглашён царём в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1682 год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10-летнем возрасте, стал править самостоятельно с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1689 года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</a:rPr>
              <a:t>[1]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С юных лет проявляя интерес к наукам и заграничному образу жизни, Пётр первым из русских царей совершил длительное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путешествие в страны Западной Европ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По возвращении из него в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1698 год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ётр развернул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масштабные реформ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российского государства и общественного уклада. Одним из главных достижений Петра стало значительное расширение территорий России в Прибалтийском регионе после победы в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Великой Северной войн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что позволило ему принять в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1721 год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титул первого императора Российской империи. Через 4 года император Пётр I скончался, но созданное им государство продолжало интенсивно расширяться на протяжении всего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XVIII 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92160" y="46080"/>
            <a:ext cx="2808360" cy="3670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09640" y="395280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1672-1725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тр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81960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97800" cy="60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оутру над ее брегами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Теснился кучами народ,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  Любуясь брызгами, горами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И пеной разъяренных вод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61340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480360" cy="4752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763640" y="49860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леская шумною волной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В края своей ограды стройной,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Нева металась, как больной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511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…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Нева вздувалась и ревела,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Котлом клокоча и клубясь,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      И вдруг, как зверь остервенясь,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На город кинулась…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56144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11268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, обращен к нему спиною,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В неколебимой вышине,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Над возмущенною Невою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 Стоит с простертою рукою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Кумир на бронзовом коне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19280" y="1808280"/>
            <a:ext cx="5832360" cy="50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́дный вса́дник — памятник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Петру 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Сенатской площад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Санкт-Петербург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Памятник получил своё название благодаря знаменитой одноимённой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поэм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А. С. Пушкин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хотя на самом деле изготовлен из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бронз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4340160" y="765000"/>
            <a:ext cx="4025880" cy="53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624720" cy="4763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843280" y="20952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прямо в темной выш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д огражденною скало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умир с простертою руко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дел на бронзовом ко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064040" cy="5229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00200" y="136440"/>
            <a:ext cx="505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во всю ночь безумец бедн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уда стопы не обраща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ним повсюду Всадник Мед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тяжелым топотом скакал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96000" cy="4367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195640" y="2826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, озарен луною блед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стерши руку в вышин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ним несется Всадник Мед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звонко-скачущем кон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882880" cy="38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130800" y="189000"/>
            <a:ext cx="2743200" cy="374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771640" y="1052640"/>
            <a:ext cx="3497400" cy="4824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01600" y="6041880"/>
            <a:ext cx="65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ллюстрации к поэме «Медный всадни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Во время блокады Ленинграда памятник был укрыт мешками с земле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стория памятн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ная статуя Петра выполнена скульптором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Этьеном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Фалькон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1768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177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Голову Петра лепила ученица Фальконе,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Мари-Анна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Колл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Змею по замыслу Фальконе вылепил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Фёдор Гордее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Отливка статуи под руководством мастера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Емельяна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Хайлов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была закончена в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1778 году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ом-камен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подходящие камни для монумента сразу не удалось И тогда в газете «Санкт-Петербургские ведомости» было опубликовано обращение к частным лицам, которые пожелали бы «для постановления… монумента в гору выломать и привезти сюда, в Санкт-Петербург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ходящий камень был указан казённым крестьянином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Вишняковым Семёном Григорьевиче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, поставщиком строительного камня в Санкт-Петербург, давно знавшем об этой глыбе и имевшем намерение найти ей применение для собственных нужд, расколов на куски, но не нашедшем для этого нужного инструмента. Об этом он сообщил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капитану Ласкар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руководителю поисковых работ в этом проект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3284280"/>
            <a:ext cx="8002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чалу перевозки камня соответствовала серьёзная подготовка. Были приняты во внимание рекомендации, которые разработал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И. И. Бецко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роведено исследование модели «машины», предлагаемой для перевозки камня. При этом было найдено, что наиболее соответствующей задаче является установка камня на деревянной платформе, перекатываемой по двум параллельным желобам, в которые были уложены 30 пятидюймовых шар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52196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мень весил 1600 тонн. Его транспортировка до берега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Финского зали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существлялась несколькими воротами. Для перевозки камня были выбраны зимние месяцы, когда почва подмёрзла и смогла выдерживать тяжесть. По приказу Екатерины камень должен был быть доставлен на место целым. Работавшие на камне постоянно во всё время движения каменотёсы в количестве 46 человек лишь придавали ему надлежащую фор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 уникальная операция продолжалась с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15 ноябр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1769 г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о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27 мар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1770 г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Камень был доставлен на берег Финского залива, где для его погрузки соорудили специальную пристань. При малой воде остатки этой пристани можно видеть у берега невдалеке от расколотого валуна, лежащего у самого уреза в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портировка камня по воде осуществлялась на специально построенном для этого судне по чертежу известного корабельного мастера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Григория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Корчебник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началась только осенью. Гигантский «Гром-камень» при огромном стечении народа прибыл в Петербург на Сенатскую площадь 26 сентября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1770 г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Для выгрузки камня у берега Невы был использован приём, уже применённый при погрузке: судно было притоплено и село на предусмотрительно вбитые в дно реки сваи, что дало возможность сдвинуть камень на бере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6240" indent="-336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смотря на все принятые меры за всё время пути неоднократно создавались аварийная ситуация, грозившая крахом всему предприятию, за которым следила с интересом общественность всей Европы. Тем не менее руководители работ всегда находили выход из положения. В честь перевозки камня была выбита памятная медаль с надписью «Дерзновению подобно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бсуждении концепции памятника принимали участие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Екатерина 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Дидр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Вольтер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Памятник был должен изображать победу цивилизации, разума, человеческой воли над дикой природой. Постамент памятника призван был символизировать природу, варварство, и тот факт, что Фальконе обтесал грандиозный Гром-камень, отполировал его, вызвал возмущение и критику современ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одной из складок плаща Петра I скульптор оставил надпись "Лепил и отливал Этьен Фальконе парижанин 1778 года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юблю тебя, Петра творенье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624720" cy="484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7:21:21Z</dcterms:created>
  <dc:creator>учебный</dc:creator>
  <dc:description/>
  <dc:language>en-US</dc:language>
  <cp:lastModifiedBy>учебный</cp:lastModifiedBy>
  <dcterms:modified xsi:type="dcterms:W3CDTF">2010-09-16T08:38:43Z</dcterms:modified>
  <cp:revision>29</cp:revision>
  <dc:subject/>
  <dc:title>В.Стожаров. Пушкин и Медный всадник.</dc:title>
</cp:coreProperties>
</file>