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E3A-D82C-4D1F-9600-8F04CC76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BC0-D1AC-464B-B184-FFF0978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4DE-4978-43D1-9292-7424B125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D7E-FC38-4FB0-A253-54568194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B4C8-94B7-474B-A8F8-69925197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49CA-9F8F-4302-BB09-54B6A2F8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75C7-5BC6-4527-835B-0D681ED8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7285-74F7-4494-861E-5B17E9AB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89FA-10AB-4DA7-96B0-0C5BD3F5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5D5F-FF8D-43A5-864C-3BF36A96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CC80-5DEC-471B-8B1D-025B97F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8AB-3A58-4A2D-AE7E-F665E47A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C832-2C79-4ACD-B886-E102993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00E7-1FDF-4F75-BD8C-80A65D7C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A284-3AA1-4430-ADCE-7E2FAF09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CB23-7A82-4396-BB39-2EB46C14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2A3A-B346-4EE2-B1FD-51780ABD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A52-CA96-4C8B-8401-84E3C747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D7B-AA7F-439A-B4EA-76FE8CE4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94D-59A4-41C0-B660-CF007E4E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1AF-BEBC-4C40-B570-4E25F806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617-227A-469A-A0A9-4FC20E12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5E6-0DB7-4D54-8E05-7F4BC5F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ACF-5F31-47B6-BDEC-83893A2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C9C-28BC-41BC-BDCD-5F16833F333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DE62-2077-4ECC-A6D5-6A109985F10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59920"/>
            <a:ext cx="7421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 предложениях с именами существительными встречаются ошибки, связанные с определением рода несклоняемых существительных, аббревиатур, сложных слов, с образованием форм именительного падежа множественного числа, родительного падежа единственного и множественного числа, предложного падежа единственного чис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59920"/>
            <a:ext cx="74930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 предложениях с именами прилагательными наблюдаются ошибки в образовании и употреблении степени сравнения, полного или краткого прилагательного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(Он поступил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более скромнее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, чем нужно было. Ребята были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репкие и веселы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Нередки ошибки в образовании местоименных форм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Их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(ихние)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ривычки его раздражали. Я должен за нее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(ее)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бороться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мая распространенная ошибка в употреблении имен числительных состоит в том, что их не склоняют, также неверно используют в речи собирательные числительные </a:t>
            </a: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оба, об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реди глагольных форм встречаются различные нарушения норм: (человек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етается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хочут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убить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ложит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нструмент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ригинается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 земл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буду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убираться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 класс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охотник шел,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зирая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о сторона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иболее частотные среди синтаксических ошибок – ошибки в структуре словосочетаний, в связях управления и согласования. Например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запорожцы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о чем-то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меются; жажда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к слав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ечта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к свобод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рушение грамматического управления и лексической сочетаемости, плеоназм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изнать поражение, примириться с недостатками, памятный сувенир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собую группу ошибок в управлении составляют предложения с однородными сказуемыми, при которых имеется общее дополнение: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Мальчик увлекается и хорошо знает физику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шибки в согласовании сказуемого с подлежащим: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Три дня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, проведенные Мцыри на воле,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была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та жизнь, о которой он мечта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Молодежь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и сейчас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читают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его произведен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шибки в построении предложений с однородными членам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В работе я хотел показать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значение спорта и почему я его люблю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Тема требует не только рассказать об одной книге, но и что вообще интересного можно найти в других  книга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.Изучение проблемы речевых ошибок учащихся в современной лингвистической нау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 Типология и классификация речевых ошибок; причины их появ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 Практические рекомендации по предупреждению речевых ошибок в письменной речи учащих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шибки в построении предложений с обособленными членами: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Жизнь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должна быть показана в ней такой, как есть,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не приукрашивая и не ухудшая ее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жду прочитанными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стихотворениями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в книге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разница невели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шибки в построении сложных предложений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Читая книгу, всегда узнаешь что-то новое,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торое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раньше не было известно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гда мы вошли в лес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, вокруг все было бело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Одна из его картин висит перед нами,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торая называется «Весна»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 предложениях, передающих чужую речь, выделяются следующие ошибк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) объединение прямой речи и слов автора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) употребление прямой речи без слов автора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) смешение прямой речи и косвенно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4) ошибки при введении цитат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се речевые ошибки можно разделить на ошибки в словоупотреблении, в строении текст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шибки и недочеты в словоупотреблении делятся на две группы: семантические и стилистическ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емантические ошибки – нарушения требований точности словоупотребле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иды семантических ошибок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) употребление слова в несвойственном ему значении (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Дочь Туркиных играет на пианино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муары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, сочиненные ее матерью.)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) Смешение паронимов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Одним из либеральных  мероприятий Александра 1 было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своение 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лицея.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3) Неразличение оттенков значения синонимов (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Остается удивляться его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бширной 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любви.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4) нарушение лексической сочетаемости (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Плюшкин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играет большое  значение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для понимания жизни помещиков.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5) плеоназм (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С Павлом Ивановичем Чичиковым мы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впервые знакомимся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в самом начале романа.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) тавтология (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Этот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лучай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, оставивший след в его памяти,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лучился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с ним в юности.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)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торая группа ошибок в словоупотреблении – стилистические недочеты, к которым относя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потребление слов иной стилевой окрас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уместное употребление эмоционально – экспрессивной лекси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оправданное употребление просторечных и диалектных сл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мешение лексики разных исторических эпох.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Практические рекомендации по предупреждению речевых ошибок в письменной речи учащихся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боту по предупреждению и устранению ошибок в речи детей нужно проводить, исходя из классификации ошибок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чащихся необходимо ознакомить с определенными речевыми понятиям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620280"/>
            <a:ext cx="777240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Изучение проблемы речевых ошибок учащихся в современной лингвистической науке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ботая над преодолением неправильных образований форм имен существительных, использую следующие зада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) определить род несклоняемых существительных, аббревиатур (здесь необходимо обратить внимание учащихся на то, что не всегда род сложносокращенных слов определяется по роду ведущего слова, например,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МИ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ущ. м. р. (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министерство иностранных де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ТАС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ущ. м. р. (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телеграфное агентство Советского Союз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) образовать форму родительного падежа множественного числа (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башкиры – башкир, киргизы – киргизов, валенки – валенок, носки – носков и т.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) образовать форму именительного падежа множественного числа (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шофер – шоферы, доктор –доктора, веер – веера и т.п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правильное употребление местоимени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оман Лермонтова «Герой нашего времени» - первый философский роман в истории русской литературы. Он по праву может быть назван родоначальником той (?) великой традиции напряженнейшего внимания к коренным вопросам человеческого существ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из сочинения ученика 10 класс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еред нами типичное «дворянское гнездо». Усадьба не только заложена, но и перезаложена. Вскоре, в случае неуплаты процентов,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оно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ойдет с молот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иболее частая ошибка, связанная со словоупотреблением, - использование слов не в том значении, которое они имеют в языке. Например: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Чехов в своем рассказе «Ионыч» показывает путь духовной опустошенности, до которой может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низойти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человек.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(из сочинения ученицы 10 класса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Неправомерное расширение значения слова: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Я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навесил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настольную лампу газетой, чтобы свет не мешал маме спать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мер карточ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Фиаско – э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иммигрант, ищущий работ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полная неудача, неуспе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итальянский музыкальный инструмен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ли: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Фантом – э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1) захватывающее явление, неожидан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) фантастическое явление, выдум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3) причудливое явление, призрак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едложения, в которых нарушена лексическая сочетаемость сл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Наряду с такими лирическими отступлениями, в которых автор раскрывает духовный мир героев,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оказаны также отступления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, в которых автор описывает приро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Сколько было написано стихов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с любовью к женщине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, а потом эти стихи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ереложили на романсы, песни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льзя оставлять без внимания и плеонастические словосочетания, и тавтологию: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каждая минута времени; главная суть; быстро кинуться и т. 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У него в Михайловском была целая библиотека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книг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 Мцыри хотел обрести волю и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свободу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 Гоголь в «Мертвых душах» показывает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и описывает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паразитический характер существования помещиков, владельцев крепостных душ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Работа над речевыми ошибками учащихся – трудный и важный участок работы учителя русского языка. От ее качества во многом зависит формирование умений и навыков связного изложения мыслей в устной и письменной форме, обогащение словарного запаса и грамматического строя речи учащихся, овладение нормами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 Упражнения по предупреждению и устранению различных языковых ошибок должны включаться в материал изучения основных тем, работа над речевыми ошибками – проводиться систематическ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. Учитель должен знать типичные грамматические и речевые ошибки (наиболее частотные в сочинениях учащихся), опираться на эти знания в организации рассредоточенной работы над возможными нарушениями норм грамматики, лексики и стилистики при подготовке к сочинения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Типология и классификация речевых ошибок;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причины их появления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. Необходимо изучать русский язык и русскую речь в их единстве, в функционально – стилистическом аспекте. Только при этом условии язык станет для учащихся орудием для выражения своих мыслей, представлений, чувств, убеждений, средством воздействия на слушателя или читателя и вместе с тем средством более успешного формирования мировоззрения, обогащения знаниями, формирования личности уча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Грамматическая правильность речи определяетс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авильным выбором грамматических форм слов (морфологические нормы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авильным выбором форм связи слов в словосочетании и предложении (синтаксические нормы)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се речевые ошибки                                    делятся на морфологически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интаксически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ексически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фонетически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орфоэпические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71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рамматические ошибки       делятся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ловообразовательны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орфологически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интаксическ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Словообразовательные ошибк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покорители – покорить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своители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– осваивать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раздумывать –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аздумчивый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згляд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404280"/>
            <a:ext cx="7777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орфологические ошибки можно наблюдать в образовании форм имени существительного, прилагательного, числительного, глагола, местоимен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06:07Z</dcterms:created>
  <dc:creator>дмитрий</dc:creator>
  <dc:description/>
  <dc:language>en-US</dc:language>
  <cp:lastModifiedBy>67</cp:lastModifiedBy>
  <dcterms:modified xsi:type="dcterms:W3CDTF">2007-12-07T15:54:56Z</dcterms:modified>
  <cp:revision>46</cp:revision>
  <dc:subject/>
  <dc:title>Слайд 1</dc:title>
</cp:coreProperties>
</file>