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06EA-6AAD-4DD6-81E1-A9912A7A6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5CB5-A962-4832-A855-3BB1C2DC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EE19-F9D8-4AF1-98C2-1D24F8349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FB9F-2B57-412D-9A35-982AA57CF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D137-7789-49D3-AE0E-2C1EB58EB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7DB7-586D-4D0C-86A8-7AC55863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7170-EEA2-4369-91AB-C75CB7B4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41DE5-DB6B-4536-A641-A6F18A68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B91A-0E8D-44FE-B0ED-8EB7D1EA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AD05-1FAF-4C30-8821-954E66FB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B15C-7D1F-4974-83C7-6EF8F34B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90DD-ED3C-4443-A8EB-BD810BB0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5307-0EE6-4E49-85F3-2DFE0C07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3FB0-4D54-4736-B307-5E9A1906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F379-4758-44DC-B9F7-62453896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8DD2-9BB5-4FC5-B481-F6FE4C1F9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C30B-08B1-4133-BF73-27DFA2EB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D673-3FEC-47F6-86ED-4C9933EE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AAB9-1644-4BC6-920C-E43A0A55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7870-45F2-4390-84C7-6F2A91C5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AFD8-E4BD-46CB-AE54-6C739180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F985-D099-4BB1-80DC-1AB4B932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3E47-9CE1-4DCA-866C-7F550F7D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0659-7AE8-4BB0-939B-6FDD15EE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5536-7220-4084-82D0-7DA6F1D8CB8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C5AC-BA3E-4FE4-8B30-541C67DFB914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182600" y="259920"/>
            <a:ext cx="7421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В предложениях с именами существительными встречаются ошибки, связанные с определением рода несклоняемых существительных, аббревиатур, сложных слов, с образованием форм именительного падежа множественного числа, родительного падежа единственного и множественного числа, предложного падежа единственного числ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82600" y="259920"/>
            <a:ext cx="749304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В предложениях с именами прилагательными наблюдаются ошибки в образовании и употреблении степени сравнения, полного или краткого прилагательного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(Он поступил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более скромнее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, чем нужно было. Ребята были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крепкие и веселы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.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Нередки ошибки в образовании местоименных форм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(Их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(ихние) 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привычки его раздражали. Я должен за нее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(ее) 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бороться)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амая распространенная ошибка в употреблении имен числительных состоит в том, что их не склоняют, также неверно используют в речи собирательные числительные </a:t>
            </a:r>
            <a:r>
              <a:rPr b="1" i="1" lang="en-US" sz="4000" spc="-1" strike="noStrike">
                <a:solidFill>
                  <a:srgbClr val="000000"/>
                </a:solidFill>
                <a:latin typeface="Tahoma"/>
              </a:rPr>
              <a:t>оба, обе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Среди глагольных форм встречаются различные нарушения норм: (человек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метается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хочут 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убить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ложит 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инструмент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пригинается 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к земле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буду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убираться 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в классе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охотник шел,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озирая 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по сторонам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Наиболее частотные среди синтаксических ошибок – ошибки в структуре словосочетаний, в связях управления и согласования. Например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(запорожцы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о чем-то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меются; жажда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к славе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мечта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к свободе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Нарушение грамматического управления и лексической сочетаемости, плеоназм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признать поражение, примириться с недостатками, памятный сувенир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Особую группу ошибок в управлении составляют предложения с однородными сказуемыми, при которых имеется общее дополнение: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Мальчик увлекается и хорошо знает физику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Ошибки в согласовании сказуемого с подлежащим: 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Три дня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, проведенные Мцыри на воле, 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была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 та жизнь, о которой он мечтал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Молодежь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 и сейчас 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читают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 его произведения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Ошибки в построении предложений с однородными членами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В работе я хотел показать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значение спорта и почему я его люблю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Тема требует не только рассказать об одной книге, но и что вообще интересного можно найти в других  книгах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182600" y="620280"/>
            <a:ext cx="7772400" cy="55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                   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План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1.Изучение проблемы речевых ошибок учащихся в современной лингвистической наук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2. Типология и классификация речевых ошибок; причины их появл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3. Практические рекомендации по предупреждению речевых ошибок в письменной речи учащихс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Ошибки в построении предложений с обособленными членами: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Жизнь 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должна быть показана в ней такой, как есть,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не приукрашивая и не ухудшая ее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Между прочитанными 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стихотворениями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в книге 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разница невелика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Ошибки в построении сложных предложений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Читая книгу, всегда узнаешь что-то новое,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которое 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раньше не было известно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Когда мы вошли в лес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, вокруг все было бело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Одна из его картин висит перед нами,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которая называется «Весна»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В предложениях, передающих чужую речь, выделяются следующие ошибки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1) объединение прямой речи и слов автора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2) употребление прямой речи без слов автора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3) смешение прямой речи и косвенной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4) ошибки при введении цитат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Все речевые ошибки можно разделить на ошибки в словоупотреблении, в строении текста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Ошибки и недочеты в словоупотреблении делятся на две группы: семантические и стилистические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Семантические ошибки – нарушения требований точности словоупотребления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Виды семантических ошибок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1) употребление слова в несвойственном ему значении (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Дочь Туркиных играет на пианино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мемуары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, сочиненные ее матерью.)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2) Смешение паронимов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1" lang="ru-RU" sz="4000" spc="-1" strike="noStrike">
                <a:solidFill>
                  <a:srgbClr val="3333cc"/>
                </a:solidFill>
                <a:latin typeface="Tahoma"/>
              </a:rPr>
              <a:t>Одним из либеральных  мероприятий Александра 1 было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освоение </a:t>
            </a:r>
            <a:r>
              <a:rPr b="1" lang="ru-RU" sz="4000" spc="-1" strike="noStrike">
                <a:solidFill>
                  <a:srgbClr val="3333cc"/>
                </a:solidFill>
                <a:latin typeface="Tahoma"/>
              </a:rPr>
              <a:t>лицея.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3) Неразличение оттенков значения синонимов (</a:t>
            </a:r>
            <a:r>
              <a:rPr b="1" lang="ru-RU" sz="4000" spc="-1" strike="noStrike">
                <a:solidFill>
                  <a:srgbClr val="3333cc"/>
                </a:solidFill>
                <a:latin typeface="Tahoma"/>
              </a:rPr>
              <a:t>Остается удивляться его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обширной </a:t>
            </a:r>
            <a:r>
              <a:rPr b="1" lang="ru-RU" sz="4000" spc="-1" strike="noStrike">
                <a:solidFill>
                  <a:srgbClr val="3333cc"/>
                </a:solidFill>
                <a:latin typeface="Tahoma"/>
              </a:rPr>
              <a:t>любви.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ru-RU" sz="4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4) нарушение лексической сочетаемости (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Плюшкин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играет большое  значение 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для понимания жизни помещиков.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5) плеоназм (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С Павлом Ивановичем Чичиковым мы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впервые знакомимся 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в самом начале романа.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6) тавтология (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Этот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случай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, оставивший след в его памяти,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случился 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с ним в юности.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)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Вторая группа ошибок в словоупотреблении – стилистические недочеты, к которым относятся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употребление слов иной стилевой окраск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неуместное употребление эмоционально – экспрессивной лексик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неоправданное употребление просторечных и диалектных слов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смешение лексики разных исторических эпох.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ahoma"/>
              </a:rPr>
              <a:t>Практические рекомендации по предупреждению речевых ошибок в письменной речи учащихся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Работу по предупреждению и устранению ошибок в речи детей нужно проводить, исходя из классификации ошибок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Учащихся необходимо ознакомить с определенными речевыми понятиями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371600" y="620280"/>
            <a:ext cx="7772400" cy="576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ahoma"/>
              </a:rPr>
              <a:t>Изучение проблемы речевых ошибок учащихся в современной лингвистической науке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Работая над преодолением неправильных образований форм имен существительных, использую следующие задания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) определить род несклоняемых существительных, аббревиатур (здесь необходимо обратить внимание учащихся на то, что не всегда род сложносокращенных слов определяется по роду ведущего слова, например,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МИ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сущ. м. р. (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министерство иностранных дел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;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ТАСС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сущ. м. р. (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телеграфное агентство Советского Союз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) образовать форму родительного падежа множественного числа (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башкиры – башкир, киргизы – киргизов, валенки – валенок, носки – носков и т.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) образовать форму именительного падежа множественного числа (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шофер – шоферы, доктор –доктора, веер – веера и т.п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Неправильное употребление местоимений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Роман Лермонтова «Герой нашего времени» - первый философский роман в истории русской литературы. Он по праву может быть назван родоначальником той (?) великой традиции напряженнейшего внимания к коренным вопросам человеческого существования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из сочинения ученика 10 класса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Перед нами типичное «дворянское гнездо». Усадьба не только заложена, но и перезаложена. Вскоре, в случае неуплаты процентов,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оно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пойдет с молот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Наиболее частая ошибка, связанная со словоупотреблением, - использование слов не в том значении, которое они имеют в языке. Например: </a:t>
            </a: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Чехов в своем рассказе «Ионыч» показывает путь духовной опустошенности, до которой может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снизойти </a:t>
            </a: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человек. 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(из сочинения ученицы 10 класса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Неправомерное расширение значения слова: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Я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занавесил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настольную лампу газетой, чтобы свет не мешал маме спать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ример карточк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Фиаско – это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иммигрант, ищущий работу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полная неудача, неуспех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итальянский музыкальный инструмен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Или: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Фантом – это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1) захватывающее явление, неожиданн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2) фантастическое явление, выдумк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3) причудливое явление, призрак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редложения, в которых нарушена лексическая сочетаемость слов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Наряду с такими лирическими отступлениями, в которых автор раскрывает духовный мир героев,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показаны также отступления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, в которых автор описывает природ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Сколько было написано стихов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с любовью к женщине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, а потом эти стихи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переложили на романсы, песни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Нельзя оставлять без внимания и плеонастические словосочетания, и тавтологию: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каждая минута времени; главная суть; быстро кинуться и т. п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У него в Михайловском была целая библиотека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книг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. Мцыри хотел обрести волю и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свободу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. Гоголь в «Мертвых душах» показывает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и описывает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паразитический характер существования помещиков, владельцев крепостных душ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Вывод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. Работа над речевыми ошибками учащихся – трудный и важный участок работы учителя русского языка. От ее качества во многом зависит формирование умений и навыков связного изложения мыслей в устной и письменной форме, обогащение словарного запаса и грамматического строя речи учащихся, овладение нормами русского литературного язы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2. Упражнения по предупреждению и устранению различных языковых ошибок должны включаться в материал изучения основных тем, работа над речевыми ошибками – проводиться систематически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3. Учитель должен знать типичные грамматические и речевые ошибки (наиболее частотные в сочинениях учащихся), опираться на эти знания в организации рассредоточенной работы над возможными нарушениями норм грамматики, лексики и стилистики при подготовке к сочинениям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82600" y="549000"/>
            <a:ext cx="777240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US" sz="4800" spc="-1" strike="noStrike">
                <a:solidFill>
                  <a:srgbClr val="3333cc"/>
                </a:solidFill>
                <a:latin typeface="Tahoma"/>
              </a:rPr>
              <a:t>Типология и классификация речевых ошибок;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US" sz="4800" spc="-1" strike="noStrike">
                <a:solidFill>
                  <a:srgbClr val="3333cc"/>
                </a:solidFill>
                <a:latin typeface="Tahoma"/>
              </a:rPr>
              <a:t>причины их появления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82600" y="333360"/>
            <a:ext cx="74217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. Необходимо изучать русский язык и русскую речь в их единстве, в функционально – стилистическом аспекте. Только при этом условии язык станет для учащихся орудием для выражения своих мыслей, представлений, чувств, убеждений, средством воздействия на слушателя или читателя и вместе с тем средством более успешного формирования мировоззрения, обогащения знаниями, формирования личности учащихс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182600" y="620280"/>
            <a:ext cx="7772400" cy="55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Грамматическая правильность речи определяется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правильным выбором грамматических форм слов (морфологические нормы)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правильным выбором форм связи слов в словосочетании и предложении (синтаксические нормы).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182600" y="620280"/>
            <a:ext cx="7772400" cy="55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Все речевые ошибки                                    делятся на морфологические,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интаксические,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лексические,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фонетические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(орфоэпические)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371600" y="692280"/>
            <a:ext cx="77724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Грамматические ошибки       делятся н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ловообразовательные,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морфологические,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интаксические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82600" y="620280"/>
            <a:ext cx="7772400" cy="55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Словообразовательные ошибки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(покорители – покорить;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освоители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 – осваивать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(раздумывать –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раздумчивый 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взгляд)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26920" y="404280"/>
            <a:ext cx="7777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Морфологические ошибки можно наблюдать в образовании форм имени существительного, прилагательного, числительного, глагола, местоимения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06:07Z</dcterms:created>
  <dc:creator>дмитрий</dc:creator>
  <dc:description/>
  <dc:language>en-US</dc:language>
  <cp:lastModifiedBy>67</cp:lastModifiedBy>
  <dcterms:modified xsi:type="dcterms:W3CDTF">2007-12-07T15:54:56Z</dcterms:modified>
  <cp:revision>46</cp:revision>
  <dc:subject/>
  <dc:title>Слайд 1</dc:title>
</cp:coreProperties>
</file>