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8.png" ContentType="image/png"/>
  <Override PartName="/ppt/media/image27.png" ContentType="image/png"/>
  <Override PartName="/ppt/media/image12.wmf" ContentType="image/x-wmf"/>
  <Override PartName="/ppt/media/image29.jpeg" ContentType="image/jpeg"/>
  <Override PartName="/ppt/media/image13.wmf" ContentType="image/x-wmf"/>
  <Override PartName="/ppt/media/image30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35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5.wmf" ContentType="image/x-wmf"/>
  <Override PartName="/ppt/media/image4.wmf" ContentType="image/x-wmf"/>
  <Override PartName="/ppt/media/image9.jpeg" ContentType="image/jpeg"/>
  <Override PartName="/ppt/media/image23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603-907F-4260-A104-823968DA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8D1-5D06-4020-AB1E-32459D4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B7E-93B4-4113-806C-44407D93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D69-75D7-4D74-B315-1ADE4AA6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5FC-6F4E-48D2-B9F3-6729EAC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933-880A-466C-A91D-04458D3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900-D726-4EF5-8142-BEEAF967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059-9F74-43C7-938B-558587FE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6520"/>
            <a:ext cx="776592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183-54B6-4B66-8068-C3852BE5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397-910A-4716-8087-A6EC316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9CE-13DA-4F5B-BCD3-7C8377E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746-502B-4001-85F4-EF0842D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142200" cy="4044600"/>
            <a:chOff x="0" y="2438280"/>
            <a:chExt cx="9142200" cy="4044600"/>
          </a:xfrm>
        </p:grpSpPr>
        <p:sp>
          <p:nvSpPr>
            <p:cNvPr id="1" name="Rectangle 2"/>
            <p:cNvSpPr/>
            <p:nvPr/>
          </p:nvSpPr>
          <p:spPr>
            <a:xfrm rot="20160000">
              <a:off x="3372480" y="4114800"/>
              <a:ext cx="4875480" cy="6094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5f5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4228200"/>
              <a:ext cx="4266360" cy="194184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331240" y="2438280"/>
              <a:ext cx="3810960" cy="195480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018840" y="2438280"/>
              <a:ext cx="3123360" cy="1209240"/>
            </a:xfrm>
            <a:prstGeom prst="pie">
              <a:avLst/>
            </a:pr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712480" y="3931560"/>
              <a:ext cx="294840" cy="1900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997960" y="3798000"/>
              <a:ext cx="2934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6093360" y="2914200"/>
              <a:ext cx="837720" cy="436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5834520" y="3198600"/>
              <a:ext cx="1144440" cy="485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5329800" y="2999880"/>
              <a:ext cx="3809160" cy="1397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093360" y="2943000"/>
              <a:ext cx="915480" cy="408960"/>
            </a:xfrm>
            <a:prstGeom prst="pie">
              <a:avLst/>
            </a:pr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8455320" y="2606400"/>
              <a:ext cx="7560" cy="108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6093360" y="2742840"/>
              <a:ext cx="1136160" cy="607680"/>
            </a:xfrm>
            <a:prstGeom prst="pie">
              <a:avLst/>
            </a:pr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480640" y="3604320"/>
              <a:ext cx="504360" cy="357120"/>
            </a:xfrm>
            <a:prstGeom prst="pie">
              <a:avLst/>
            </a:pr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4218480"/>
              <a:ext cx="4118760" cy="1480320"/>
            </a:xfrm>
            <a:prstGeom prst="pie">
              <a:avLst/>
            </a:pr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0" y="4752000"/>
              <a:ext cx="4322160" cy="1730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4C456C-88DC-4045-99F6-F5675FD21587}" type="slidenum">
              <a:rPr b="0" lang="en-US" sz="12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00040"/>
            <a:ext cx="77724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cfc2c"/>
                </a:solidFill>
                <a:latin typeface="Constantia"/>
              </a:rPr>
              <a:t>XXI siècle sans drogues-</a:t>
            </a:r>
            <a:endParaRPr b="1" lang="en-US" sz="6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cfc2c"/>
                </a:solidFill>
                <a:latin typeface="Constantia"/>
              </a:rPr>
              <a:t>est-ce possible?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85680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Coca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ï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ne, ec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s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tasy, tabac,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h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ro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ï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e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,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dicaments etc.,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tous les produits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qui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augmentent  la quantit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 de dopamine dans le cerveau peuvent d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clencher </a:t>
            </a:r>
            <a:r>
              <a:rPr b="0" lang="ru-RU" sz="4400" spc="-1" strike="noStrike">
                <a:solidFill>
                  <a:srgbClr val="ff3300"/>
                </a:solidFill>
                <a:latin typeface="Interstate-LightCondensed"/>
              </a:rPr>
              <a:t>une  d</a:t>
            </a:r>
            <a:r>
              <a:rPr b="0" lang="en-US" sz="4400" spc="-1" strike="noStrike">
                <a:solidFill>
                  <a:srgbClr val="ff3300"/>
                </a:solidFill>
                <a:latin typeface="Interstate-LightCondensed"/>
              </a:rPr>
              <a:t>é</a:t>
            </a:r>
            <a:r>
              <a:rPr b="0" lang="ru-RU" sz="4400" spc="-1" strike="noStrike">
                <a:solidFill>
                  <a:srgbClr val="ff3300"/>
                </a:solidFill>
                <a:latin typeface="Interstate-LightCondensed"/>
              </a:rPr>
              <a:t>pendance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Picture 5" descr="MCj02509240000[1]"/>
          <p:cNvPicPr/>
          <p:nvPr/>
        </p:nvPicPr>
        <p:blipFill>
          <a:blip r:embed="rId2"/>
          <a:stretch/>
        </p:blipFill>
        <p:spPr>
          <a:xfrm>
            <a:off x="395280" y="4573440"/>
            <a:ext cx="259236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Cj02810410000[1]"/>
          <p:cNvPicPr/>
          <p:nvPr/>
        </p:nvPicPr>
        <p:blipFill>
          <a:blip r:embed="rId3"/>
          <a:stretch/>
        </p:blipFill>
        <p:spPr>
          <a:xfrm>
            <a:off x="7277040" y="0"/>
            <a:ext cx="1866960" cy="180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72360" y="3762360"/>
            <a:ext cx="251748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5400000">
            <a:off x="4752000" y="3825000"/>
            <a:ext cx="1440000" cy="1511280"/>
          </a:xfrm>
          <a:custGeom>
            <a:avLst/>
            <a:gdLst>
              <a:gd name="textAreaLeft" fmla="*/ 479880 w 1440000"/>
              <a:gd name="textAreaRight" fmla="*/ 1233360 w 1440000"/>
              <a:gd name="textAreaTop" fmla="*/ 870480 h 1511280"/>
              <a:gd name="textAreaBottom" fmla="*/ 12945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427640" cy="376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4643280" cy="4162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404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Mode d`action des drog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nstantia"/>
              </a:rPr>
              <a:t>CONSEQUENCES DE LA CONSOMMATION DE CANNABIS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0040" y="1928880"/>
            <a:ext cx="82231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nstantia"/>
              </a:rPr>
              <a:t>problèmes respiratoir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fatigu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le cannabis ouvre l’appétit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actes de violenc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troubles de la mémoir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difficultés de concentration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perte de la volonté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échec scolair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modification de la perception du temps</a:t>
            </a:r>
            <a:r>
              <a:rPr b="0" lang="fr-FR" sz="2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8372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CONSEQUENCES DE LA CONSOMMATION D’ECSTASY</a:t>
            </a: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2960" y="200016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douleurs musculaire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fatigue et mauvaise 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humeur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manque d'appétit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grosses difficultés scolaire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onstantia"/>
              </a:rPr>
              <a:t>diminution de la sensation de fatigu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dépression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tentative de suicide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CONSEQUENCES DE LA CONSOMMATION D</a:t>
            </a: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E COCAÏNE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234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excitant du Système Nerveux Central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anorexie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paranoïa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ttaques et hémorragies cérébrales (redoutables du fait de l’hypertension artérielle)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atteintes pulmonair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perturbations hormonal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déficiences du système immunitaire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128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TOUS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les organes sont touchés, </a:t>
            </a:r>
            <a:r>
              <a:rPr b="1" lang="fr-FR" sz="3200" spc="-1" strike="noStrike">
                <a:solidFill>
                  <a:srgbClr val="cc0066"/>
                </a:solidFill>
                <a:latin typeface="Arial"/>
              </a:rPr>
              <a:t>TOUTES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les fonctions de l'organisme sont affectées. Comme avec toutes les drogues, l’héroïne mène à la dépression et au suicid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4919400" cy="293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189000"/>
            <a:ext cx="842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CONSEQUENCES DE LA CONSOMMATION D’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HÉROÏNE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spcAft>
                <a:spcPts val="24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ENQUETE SUR LES CONDUITES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DEVIANTES DES LYCEENS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0" y="1785960"/>
          <a:ext cx="9155160" cy="43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5960"/>
                    <a:ext cx="915516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b9efee"/>
                </a:solidFill>
                <a:latin typeface="Constantia"/>
              </a:rPr>
              <a:t> </a:t>
            </a:r>
            <a:r>
              <a:rPr b="1" lang="fr-FR" sz="2500" spc="-1" strike="noStrike">
                <a:solidFill>
                  <a:srgbClr val="ebf779"/>
                </a:solidFill>
                <a:latin typeface="Constantia"/>
              </a:rPr>
              <a:t>10 % des lycéens boivent régulièrement des boissons alcoolisées et 63 % occasionnellement ; 48 % se sont enivrés durant l'année (dont 17 % plus de cinq fois).</a:t>
            </a:r>
            <a:r>
              <a:rPr b="1" lang="fr-FR" sz="3600" spc="-1" strike="noStrike">
                <a:solidFill>
                  <a:srgbClr val="b9efee"/>
                </a:solidFill>
                <a:latin typeface="Constantia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33200" y="2109960"/>
          <a:ext cx="846144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2109960"/>
                    <a:ext cx="8461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116000" y="1042920"/>
          <a:ext cx="6802560" cy="581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042920"/>
                    <a:ext cx="68025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50920" y="2602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          </a:t>
            </a: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La division selon l`</a:t>
            </a: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  <a:ea typeface="Times New Roman"/>
              </a:rPr>
              <a:t>â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659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Adolescence et expériences</a:t>
            </a: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!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428760" y="1785960"/>
          <a:ext cx="8205480" cy="41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85960"/>
                    <a:ext cx="82054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4120"/>
            <a:ext cx="8224920" cy="1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Constantia"/>
              </a:rPr>
              <a:t>Pourquoi j`ai choisi ce sujet ?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8224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16080" indent="-316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J`ai chois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ce sujet 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“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La  drogue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pa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r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ce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que c`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est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un probl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me  tr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actuel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jourd`hui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.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Le probl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m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e de l` usage des drogues est tr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s aigu dans notre pays, surtou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t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dans notre ville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5218200"/>
            <a:ext cx="310212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76628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fr-FR" sz="3600" spc="-1" strike="noStrike">
                <a:solidFill>
                  <a:srgbClr val="ffff00"/>
                </a:solidFill>
                <a:latin typeface="Constantia"/>
              </a:rPr>
              <a:t>e niveau de consommation des drogues en Russie</a:t>
            </a:r>
            <a:r>
              <a:rPr b="1" lang="fr-FR" sz="3600" spc="-1" strike="noStrike">
                <a:solidFill>
                  <a:srgbClr val="b9efee"/>
                </a:solidFill>
                <a:latin typeface="Constanti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50920" y="1762200"/>
          <a:ext cx="8753400" cy="50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62200"/>
                    <a:ext cx="87534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126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Constantia"/>
              </a:rPr>
              <a:t>Des sommes des amendes  de la consomation des drogues.</a:t>
            </a: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graphicFrame>
        <p:nvGraphicFramePr>
          <p:cNvPr id="142" name="Rectangle 21"/>
          <p:cNvGraphicFramePr/>
          <p:nvPr/>
        </p:nvGraphicFramePr>
        <p:xfrm>
          <a:off x="0" y="1913040"/>
          <a:ext cx="8388360" cy="46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Rectangle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3040"/>
                    <a:ext cx="83883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Rectangle 21"/>
          <p:cNvGraphicFramePr/>
          <p:nvPr/>
        </p:nvGraphicFramePr>
        <p:xfrm>
          <a:off x="4651200" y="2523960"/>
          <a:ext cx="404820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Rectangle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1200" y="2523960"/>
                    <a:ext cx="40482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1280" y="279360"/>
            <a:ext cx="79214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Dans notre ville il y a une association contre les drogues- </a:t>
            </a: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Times New Roman"/>
              </a:rPr>
              <a:t>«  Les parents contre les  drogues »</a:t>
            </a: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1" lang="en-US" sz="29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1652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09964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Po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ceux qui ont des problèmes avec les drogues dans notre ville il y a « L` hôpital  psychiatrique № 8 de la région de Moscou »</a:t>
            </a:r>
            <a:br>
              <a:rPr sz="1300"/>
            </a:br>
            <a:endParaRPr b="1" lang="en-US" sz="28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66600" y="2286000"/>
            <a:ext cx="90774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www.ofdt.f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55736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cfc2c"/>
                </a:solidFill>
                <a:latin typeface="Times New Roman"/>
              </a:rPr>
              <a:t>www.narkotiki.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47628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Des sites contre les drog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0920" y="1197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134136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974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48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nstantia"/>
              </a:rPr>
              <a:t>Ce sont les sites, où nous avons pris l'information !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1628640"/>
            <a:ext cx="3672000" cy="2689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457200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4"/>
          <a:stretch/>
        </p:blipFill>
        <p:spPr>
          <a:xfrm>
            <a:off x="3635280" y="1628640"/>
            <a:ext cx="3097440" cy="20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395280" y="3911760"/>
            <a:ext cx="4033800" cy="2946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6264360" y="1628640"/>
            <a:ext cx="287964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67" name="Rectangle 21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223120" cy="4856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189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Nous croyons au futur et nous </a:t>
            </a:r>
            <a:r>
              <a:rPr b="1" lang="ru-RU" sz="4400" spc="-1" strike="noStrike" u="sng">
                <a:solidFill>
                  <a:srgbClr val="fcfc2c"/>
                </a:solidFill>
                <a:uFillTx/>
                <a:latin typeface="Times New Roman"/>
              </a:rPr>
              <a:t>vaincr</a:t>
            </a: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ons les drogue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nstantia"/>
              </a:rPr>
              <a:t>Merci pour votre attention!</a:t>
            </a:r>
            <a:endParaRPr b="1" lang="en-US" sz="6600" spc="-1" strike="noStrike">
              <a:solidFill>
                <a:srgbClr val="b9efe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Aujourd’ hui  en XXI  siècle le monde change,beaucoup de nouvelles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inven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ap</a:t>
            </a:r>
            <a:r>
              <a:rPr b="1" lang="en-US" sz="3200" spc="-1" strike="noStrike">
                <a:solidFill>
                  <a:srgbClr val="fcfc2c"/>
                </a:solidFill>
                <a:latin typeface="Constantia"/>
              </a:rPr>
              <a:t>p</a:t>
            </a: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araissent chaque jour ,mais il y en a  une qui ne change pas. C’est la drogue 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Le XXI siècle est-ce possible 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191280" y="3789360"/>
            <a:ext cx="2952720" cy="306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316872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01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Constantia"/>
              </a:rPr>
              <a:t>Une drogue-qu`est-ce que c`est???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4898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cfc2c"/>
                </a:solidFill>
                <a:uFillTx/>
                <a:latin typeface="Times New Roman"/>
              </a:rPr>
              <a:t>Une drogue</a:t>
            </a:r>
            <a:r>
              <a:rPr b="0" lang="ru-RU" sz="4000" spc="-1" strike="noStrike">
                <a:solidFill>
                  <a:srgbClr val="fcfc2c"/>
                </a:solidFill>
                <a:latin typeface="Constantia"/>
              </a:rPr>
              <a:t> est un composé chimique, biochimique ou naturel, capable d'altérer une ou plusieurs activités neuronales ou de perturber les communications neuronales</a:t>
            </a:r>
            <a:r>
              <a:rPr b="0" lang="ru-RU" sz="3200" spc="-1" strike="noStrike">
                <a:solidFill>
                  <a:srgbClr val="fcfc2c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24000" y="0"/>
            <a:ext cx="1454040" cy="192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32400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Les comportements d'usage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On distingue trois catégories de comportements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044720" y="3240000"/>
            <a:ext cx="576000" cy="1656000"/>
          </a:xfrm>
          <a:prstGeom prst="downArrow">
            <a:avLst>
              <a:gd name="adj1" fmla="val 50000"/>
              <a:gd name="adj2" fmla="val 71875"/>
            </a:avLst>
          </a:prstGeom>
          <a:solidFill>
            <a:srgbClr val="00ffff"/>
          </a:solidFill>
          <a:ln w="93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9280" y="2844720"/>
            <a:ext cx="576360" cy="1656000"/>
          </a:xfrm>
          <a:prstGeom prst="downArrow">
            <a:avLst>
              <a:gd name="adj1" fmla="val 50000"/>
              <a:gd name="adj2" fmla="val 71830"/>
            </a:avLst>
          </a:prstGeom>
          <a:solidFill>
            <a:srgbClr val="00ffff"/>
          </a:solidFill>
          <a:ln w="936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20000" y="3384720"/>
            <a:ext cx="576360" cy="1655640"/>
          </a:xfrm>
          <a:prstGeom prst="downArrow">
            <a:avLst>
              <a:gd name="adj1" fmla="val 50000"/>
              <a:gd name="adj2" fmla="val 71814"/>
            </a:avLst>
          </a:prstGeom>
          <a:solidFill>
            <a:srgbClr val="00ffff"/>
          </a:solidFill>
          <a:ln w="936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96720" y="5040360"/>
            <a:ext cx="176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19280" y="4680000"/>
            <a:ext cx="32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l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'usage noci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477040" y="5219640"/>
            <a:ext cx="3666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l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a dép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60360" y="5219640"/>
            <a:ext cx="186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cfc2c"/>
                </a:solidFill>
                <a:latin typeface="Arial"/>
              </a:rPr>
              <a:t>l</a:t>
            </a:r>
            <a:r>
              <a:rPr b="1" lang="ru-RU" sz="3600" spc="-1" strike="noStrike">
                <a:solidFill>
                  <a:srgbClr val="fcfc2c"/>
                </a:solidFill>
                <a:latin typeface="Garamond"/>
              </a:rPr>
              <a:t>'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280" y="47628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L'usage </a:t>
            </a:r>
            <a:r>
              <a:rPr b="0" lang="ru-RU" sz="3200" spc="-1" strike="noStrike">
                <a:solidFill>
                  <a:srgbClr val="e6ff00"/>
                </a:solidFill>
                <a:latin typeface="Constantia"/>
              </a:rPr>
              <a:t>est entendu comme une consommation qui n'entraîne pas de dommages.</a:t>
            </a: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L'usage nocif</a:t>
            </a:r>
            <a:r>
              <a:rPr b="0" lang="ru-RU" sz="3200" spc="-1" strike="noStrike">
                <a:solidFill>
                  <a:srgbClr val="e6ff00"/>
                </a:solidFill>
                <a:latin typeface="Constantia"/>
              </a:rPr>
              <a:t> (ou abus) est entendu comme une consommation qui implique, ou peut impliquer, des dommag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La dépendance</a:t>
            </a:r>
            <a:r>
              <a:rPr b="0" lang="ru-RU" sz="3200" spc="-1" strike="noStrike">
                <a:solidFill>
                  <a:srgbClr val="e6ff00"/>
                </a:solidFill>
                <a:latin typeface="Constantia"/>
              </a:rPr>
              <a:t> est entendue comme un comportement psychopathologique présentant des caractéristiques biologiques, psychologiques et social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5" name="Rectangle 17" descr=""/>
          <p:cNvPicPr/>
          <p:nvPr/>
        </p:nvPicPr>
        <p:blipFill>
          <a:blip r:embed="rId2"/>
          <a:stretch/>
        </p:blipFill>
        <p:spPr>
          <a:xfrm>
            <a:off x="4140360" y="4518000"/>
            <a:ext cx="4565520" cy="23400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250920" y="638172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31391" y="10800"/>
                </a:lnTo>
                <a:lnTo>
                  <a:pt x="173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765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Pourquoi se drogue-t-on ?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280" y="692280"/>
            <a:ext cx="7969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fr-FR" sz="3600" spc="-1" strike="noStrike">
                <a:solidFill>
                  <a:srgbClr val="ffff00"/>
                </a:solidFill>
                <a:latin typeface="Constantia"/>
              </a:rPr>
              <a:t>On goûte des drogues parce qu'on se sent mal, pour s'évader de la réalité, pour oublier son mal-être. A force de s'évader, hélas, on retrouve souvent le réel avec très peu d'intérêt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3238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7120" y="28584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Tout le monde est dépendant : le bébé à sa mère, l'adulte à son travail</a:t>
            </a: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..</a:t>
            </a: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364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Cj03983870000[1]"/>
          <p:cNvPicPr/>
          <p:nvPr/>
        </p:nvPicPr>
        <p:blipFill>
          <a:blip r:embed="rId3"/>
          <a:stretch/>
        </p:blipFill>
        <p:spPr>
          <a:xfrm>
            <a:off x="5715000" y="2714760"/>
            <a:ext cx="298944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Il existe beaucoup de types de drogues 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Cannab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Ecstas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C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ocaï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CRACK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Héroïne</a:t>
            </a: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  etc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048360" y="2205000"/>
            <a:ext cx="3095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0" y="4705200"/>
            <a:ext cx="3564000" cy="215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Константиновна</dc:creator>
  <dc:description/>
  <dc:language>en-US</dc:language>
  <cp:lastModifiedBy>Дарья</cp:lastModifiedBy>
  <dcterms:modified xsi:type="dcterms:W3CDTF">2011-11-22T15:22:21Z</dcterms:modified>
  <cp:revision>56</cp:revision>
  <dc:subject/>
  <dc:title>Слайд 1</dc:title>
</cp:coreProperties>
</file>