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3EF-4BD4-402B-BECD-67F120AE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5C6-349C-43CA-83BD-A1759B52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E23-AFEF-4797-89F1-4E908AEE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8A8-BE64-4E89-B491-8C25FBF9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B27C-ED83-4683-8FD5-50817C38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727E-4133-4336-8B3B-C05397F2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15C0-C994-49B9-88D4-3EE56C2C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250E-D9F4-4F12-BB6A-2ABC328D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669F-8E30-4848-B018-FFACD0D1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7ABE-099B-47CC-8618-7F7FE266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E482-9036-4570-809D-B46E5ABD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CFC-0358-42F8-A3F4-BBCCDB8F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289D-8EF4-4555-8975-4B993792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2F6A-7112-4445-97CF-B0B61AAB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6DE5-F82B-4E42-B32B-D1C733B3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BBFC-422B-408B-813C-7081A1E8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1CFC-A9C0-402C-87AE-910C812A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89EE-5BEA-42AD-9D49-AD3E645E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DE4-E4AE-4458-8420-27050BF2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0C2-287F-4216-B22A-69FD48F3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C66-21F4-4BA4-885F-82127FFC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E86E-E018-4D60-A3E0-CB32ED61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67F-9191-48B3-B988-CD064629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BF9B-51EE-439F-8753-401FECA3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5B8F-AA5D-4A02-A0B6-6304F9219EE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3084-1E2A-4A02-A4BA-1FE1E428B75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ЛА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Как называется ваша любимая игрушка? Как она у вас появилась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 Описание игруш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. Чем вам дорога игрушка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765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Цели: 1) определить главную идею сочинения; стиль, тип речи, используемые при написании сочинения; композицию сочинения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) заглянуть в историю игруш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оспитательная цель: воспитывать у детей интерес к народному искусств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следняя лавка, стоявшая как раз против дверей трактира Тенардье, была полна великолепными игрушка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переди, на самом видном месте, стояла огромная кукла в розовом платье, с золотыми колосьями в настоящих волосах и со стеклянными глазами 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 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В. Гюго «Козетта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Отрывок из романа «Отверженные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765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н всегда глядел на подзеркальный столик, где стояла прелестная фарфоровая пастушка. Башмачки на ней были вызолоченные, платьице слегка приподнято и подколото алой розой, на голове красовалась золотая шляпа, а в руках пастуший посох. Ну, просто прелесть! Рядом с нею стоял маленький трубочист, черный как уголь, но, впрочем, тоже из фарфора и сам по себе такой же чистенький и маленький, как всякая фарфоровая статуэтка; он ведь только изображал трубочиста, и мастер точно так же мог бы сделать вместо него принца, - все равно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н премило держал в руках свою лестницу; личико у него было белое, а щеки розовые, как у барышни, и это было немножко неправильно, следовало бы ему быть почернее. Он стоял рядом с пастушкой – так их поставили, так они и стояли; стояли, стояли, да и обручились: они были отличною парочкой, оба молоды, оба из фарфора и оба одинаково хрупки.          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         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Х.К. Андерсен «Пастушка и трубочист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следняя лавка, стоявшая как раз против дверей трактира Тенардье, была полна великолепными игрушка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переди, на самом видном месте, стояла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огромная кукла в розовом платье, с золотыми колосьями в настоящих волосах и со стеклянными глазами 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всегда глядел на подзеркальный столик, где стояла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прелестная фарфоровая пастушка. Башмачки на ней были вызолоченные, платьице слегка приподнято и подколото алой розой, на голове красовалась золотая шляпа, а в руках пастуший посо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у, просто прелесть! Рядом с нею стоял маленький трубочист, черный как уголь, но, впрочем, тоже из фарфора и сам по себе такой же чистенький и маленький, как всякая фарфоровая статуэтка; он ведь только изображал трубочиста, и мастер точно так же мог бы сделать вместо него принца, - все равно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премило держал в руках свою лестницу; личико у него было белое, а щеки розовые, как у барышни, и это было немножко неправильно, следовало бы ему быть почернее. Он стоял рядом с пастушкой – так их поставили, так они и стояли; стояли, стояли, да и обручились: они были отличною парочкой, оба молоды, оба из фарфора и оба одинаково хруп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н всегда глядел на подзеркальный столик, где стояла прелестная фарфоровая пастушка. Башмачки на ней были вызолоченные, платьице слегка приподнято и подколото алой розой, на голове красовалась золотая шляпа, а в руках пастуший посох. Ну, просто прелесть!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Рядом с нею стоял маленький трубочист, черный как уголь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, но, впрочем,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тоже из фарфора и сам по себе такой же чистенький и маленький, как всякая фарфоровая статуэтка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; он ведь только изображал трубочиста, и мастер точно так же мог бы сделать вместо него принца, - все равно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н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премило держал в руках свою лестницу; личико у него было белое, а щеки розовые, как у барышни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, и это было немножко неправильно,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следовало бы ему быть почернее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. Он стоял рядом с пастушкой – так их поставили, так они и стояли; стояли, стояли, да и обручились: они были отличною парочкой,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оба молоды, оба из фарфора и оба одинаково хруп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.Пл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с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вая       1.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ханическ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.Мет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л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ческая      2.Ув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тельн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.П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расная             3.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бавн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4.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е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ая                 4.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патичн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5.За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ательная       5.Ин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есн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6.У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ительная         6.За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н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 прошлом году мне исполнилось 9 лет. На мой день рождения папа подарил мне игрушку – блестящий зелененький «Джип». Он и сейчас есть у мен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Это была пластмассовая машина на батарейках. Стоило только нажать на кнопку и «Джип» двигался с места, а если я переключал рукоятку, он перемещался в другую сторону. Но не только этим нравился мне мой подарок. Когда машина приходила в движение, загорались лампочки – фары и начинала вращаться мигалка. Особенно интересно играть с «Джипом» было вечером, когда можно было выключить электричество и, затаив дыхание, наблюдать за тем, как в темноте, словно фонарики в руках у заблудившихся путников, светятся мигалка и фар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Я очень берегу мою любимую игрушку, ведь ее подарил мне пап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трий</cp:lastModifiedBy>
  <dcterms:modified xsi:type="dcterms:W3CDTF">2007-10-13T15:42:5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