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F31-EFAD-42ED-B493-6D540E63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209-D437-4864-814D-075E275B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A17-437B-4B02-B83C-8EC5A9C3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EB5-AF0D-4A9B-87C1-16D614BC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9EED-03B2-43A0-BEDC-974BB95F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E2A2-2D64-4ABC-8626-72633A64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D7EE-80BE-46D8-B009-393250EF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3D57-3FB3-417C-B056-9A19B1B4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B593-61E4-4E77-A7FD-5AB74FB1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DA73-88CA-4C54-AB01-4973242D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9B2B-1E72-4EBB-9806-67F8250C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5EAD-DAF2-4B18-A4E5-E28D8EF0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263D-8E5F-4E61-A85B-7798E601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BD5B-C56F-4035-A08F-223788F1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0012-BA04-4D76-BF9D-57DFAAA5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A701-2C80-4A38-9ACE-5261A875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44A1-67BE-4B6E-A876-BA65D537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A92-7FC4-4988-94B7-7F49575D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CDE-7772-4843-AD85-1A350B38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A89-6710-48DC-808D-FE1BB2EB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278-5830-49EB-9DCC-410F3099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775-DED4-4E93-B329-9E3BFB82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2B1E-8DBF-4CCB-B333-AD17F944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DF0-2FDC-4C7C-814B-393E7D7F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7A8B-1122-4EF6-8276-99A263A67BD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17BA-48FD-4A88-8673-1A6E9150BE0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ЛА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Как называется ваша любимая игрушка? Как она у вас появилась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Описание игруш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. Чем вам дорога игрушка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765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Цели: 1) определить главную идею сочинения; стиль, тип речи, используемые при написании сочинения; композицию сочинени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) заглянуть в историю игруш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оспитательная цель: воспитывать у детей интерес к народному искусств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следняя лавка, стоявшая как раз против дверей трактира Тенардье, была полна великолепными игрушк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переди, на самом видном месте, стояла огромная кукла в розовом платье, с золотыми колосьями в настоящих волосах и со стеклянными глазами 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В. Гюго «Козетта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Отрывок из романа «Отверженные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765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н всегда глядел на подзеркальный столик, где стояла прелестная фарфоровая пастушка. Башмачки на ней были вызолоченные, платьице слегка приподнято и подколото алой розой, на голове красовалась золотая шляпа, а в руках пастуший посох. Ну, просто прелесть! Рядом с нею стоял маленький трубочист, черный как уголь, но, впрочем, тоже из фарфора и сам по себе такой же чистенький и маленький, как всякая фарфоровая статуэтка; он ведь только изображал трубочиста, и мастер точно так же мог бы сделать вместо него принца, - все равно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н премило держал в руках свою лестницу; личико у него было белое, а щеки розовые, как у барышни, и это было немножко неправильно, следовало бы ему быть почернее. Он стоял рядом с пастушкой – так их поставили, так они и стояли; стояли, стояли, да и обручились: они были отличною парочкой, оба молоды, оба из фарфора и оба одинаково хрупки.          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        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Х.К. Андерсен «Пастушка и трубочист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следняя лавка, стоявшая как раз против дверей трактира Тенардье, была полна великолепными игрушк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переди, на самом видном месте, стояла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огромная кукла в розовом платье, с золотыми колосьями в настоящих волосах и со стеклянными глазами 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всегда глядел на подзеркальный столик, где стояла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прелестная фарфоровая пастушка. Башмачки на ней были вызолоченные, платьице слегка приподнято и подколото алой розой, на голове красовалась золотая шляпа, а в руках пастуший посо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у, просто прелесть! Рядом с нею стоял маленький трубочист, черный как уголь, но, впрочем, тоже из фарфора и сам по себе такой же чистенький и маленький, как всякая фарфоровая статуэтка; он ведь только изображал трубочиста, и мастер точно так же мог бы сделать вместо него принца, - все равно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премило держал в руках свою лестницу; личико у него было белое, а щеки розовые, как у барышни, и это было немножко неправильно, следовало бы ему быть почернее. Он стоял рядом с пастушкой – так их поставили, так они и стояли; стояли, стояли, да и обручились: они были отличною парочкой, оба молоды, оба из фарфора и оба одинаково хруп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н всегда глядел на подзеркальный столик, где стояла прелестная фарфоровая пастушка. Башмачки на ней были вызолоченные, платьице слегка приподнято и подколото алой розой, на голове красовалась золотая шляпа, а в руках пастуший посох. Ну, просто прелесть!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Рядом с нею стоял маленький трубочист, черный как уголь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, но, впрочем,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тоже из фарфора и сам по себе такой же чистенький и маленький, как всякая фарфоровая статуэтка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; он ведь только изображал трубочиста, и мастер точно так же мог бы сделать вместо него принца, - все равно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н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премило держал в руках свою лестницу; личико у него было белое, а щеки розовые, как у барышни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, и это было немножко неправильно,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следовало бы ему быть почернее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. Он стоял рядом с пастушкой – так их поставили, так они и стояли; стояли, стояли, да и обручились: они были отличною парочкой,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оба молоды, оба из фарфора и оба одинаково хруп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Пл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с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вая       1.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ханическ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Мет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л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ческая      2.Ув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тельн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.П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расная             3.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бавн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4.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е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ая                 4.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патичн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5.За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ательная       5.Ин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есн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6.У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ительная         6.За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н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 прошлом году мне исполнилось 9 лет. На мой день рождения папа подарил мне игрушку – блестящий зелененький «Джип». Он и сейчас есть у мен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Это была пластмассовая машина на батарейках. Стоило только нажать на кнопку и «Джип» двигался с места, а если я переключал рукоятку, он перемещался в другую сторону. Но не только этим нравился мне мой подарок. Когда машина приходила в движение, загорались лампочки – фары и начинала вращаться мигалка. Особенно интересно играть с «Джипом» было вечером, когда можно было выключить электричество и, затаив дыхание, наблюдать за тем, как в темноте, словно фонарики в руках у заблудившихся путников, светятся мигалка и фар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Я очень берегу мою любимую игрушку, ведь ее подарил мне пап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трий</cp:lastModifiedBy>
  <dcterms:modified xsi:type="dcterms:W3CDTF">2007-10-13T15:42:5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