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726-C4B2-44B0-AA45-87AA5DA0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DB2-26BE-496B-B63A-0B220B84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2DD-5B85-44C5-91DB-21671D83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622-D0F9-4278-8762-DBA62435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68A-9471-482C-8E5C-F370F14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F61-12A5-4E75-AB2F-B6D62260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D7A-C583-49F1-89A8-6439DE3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158-1395-4A9A-AD36-E694CB8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3B8-A360-4D20-B813-FD82311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2FC-67F1-4FE3-B6BE-3B129D1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5E0-F0BB-4BDF-8894-702B6BE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BB9-4809-4517-B247-FA4B613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A67-F6F7-4CAF-89AA-455359D52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о изготовления игрушек с глубокой древности передавалось от отца к сыну, от деда к внуку . Даже в самой бедной крестьянской семье всегда были нарядные игрушки. Взрослые наблюдали за тем, как дети играют. Считалось, что если ребенок небрежно обращается с игрушками-     значит, не будет в доме богатства и удачи. Верили, что игрушки охраняют и защищают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533520"/>
            <a:ext cx="55627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ая деревянн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464832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в 19 веке многие путешественники с восторгом описывали забавный  вятский праздник «свистунью». Во время этого праздника жители Вятки гуляли , плясали, пели и                                                                         свистели в расписные свистульки из глины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ить даже простую маленькую свистульку – большое искусство, а дымковские игрушки –большие, сложные, с множеством деталей. Глину специально готовят, замешивают «тесто», из которого лепят фигурки, потом обжигают их в специальной печи, чтобы были прочнее, деревянной палочкой – «пичужкой» прокалывают отверстие для свистка. Коричневую глину покрывают белой краской из молока и мела, расписывают яркими цветами и украшают тоненькими квадратиками настоящего зо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19126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3886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менита своими игрушками и деревня Филимоново под Тулой. Глина здесь не коричневая, а белая, она легко тянется, как пластилин. Поэтому филимоновские игрушки такие вытянутые – это коровы, олени, козы с длинными полосатыми шеями и большими цветными рогами. Они больше похожи на сказочных зверей, чем на настоящих домашни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колько разных узоров из точек, звездочек, полос и кружочков придумывают филимоновские маст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371600" y="304920"/>
            <a:ext cx="63244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монов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1722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России, недалеко от Архангельска, в городе Каргополе, делают совсем другие  игрушки. Каргольские мастера любят лепить крестьянок в платках и барынь в шляпках, идущих с базара с покупками, мужичков – гармонистов в лаптях и кафтанах. У них широкие лица и коренасты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1523880" y="304920"/>
            <a:ext cx="62485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гополь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236232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интересен каргопольский Полкан, или Китоврас, - получеловек – полуконь, древний персонаж славянских миф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89548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решка – наиболее известный и любимый русский сувенир. К 20 веку она стала символом русского наро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295280" y="380880"/>
            <a:ext cx="64771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ре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1752480" y="5105520"/>
            <a:ext cx="3262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ешку придумал художник Сергей Васильевич Малютин. У японских детей он увидел игрушку, которая изображала старика – мудреца Фукуруму. Это была игрушка – неваляшка. Внутрь ее вкладывалась еще одна такая же кукла Фукурума, только по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423252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художник выдумал для русских детей куклу, похожую на японца Фукуруму. А кукла была необычная, с чудесным сюрпризом: внутри первой куклы сидела кукла поменьше, а в той еще меньше, и еще, и ещ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В. Малютин нарядил каждую красавицу в расписной сарафанчик, в яркий платочек и пестрый передничек. Ни у одной из сестричек не было похожего на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назвать красавицу? И назвали Матрешей, старинным русским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родилась матрешка – разъемная деревянная ку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59092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лько для русских, но и для  жителей многих стран планеты матрешка стала поистине русской девочкой, символом всего русского и самой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1924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м городе, в каждой деревне мастера придумывают свои игрушки, не похожие на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народной игрушки продолжает развиваться и в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259092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8769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мым материалом в народных ремёслах было дерево, обычно липа, осина или сосна. Полено расщепляли топором на аккуратные заготовки и делали из них посуду, ложки, игрушки. Такие заготовки назывались баклуши. Колоть сухое дерево было легко, и работой это не считалось. Отсюда пошло выражение «бить баклуши», то есть бездельничать. Из заготовок мастер умел вырезать любую фигурку- барыню, солдата, мужика, крестьянку, монаха; затем игрушки раскраши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MG_0011"/>
          <p:cNvPicPr/>
          <p:nvPr/>
        </p:nvPicPr>
        <p:blipFill>
          <a:blip r:embed="rId1"/>
          <a:stretch/>
        </p:blipFill>
        <p:spPr>
          <a:xfrm>
            <a:off x="5791320" y="1600200"/>
            <a:ext cx="190476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любимыми были игрушечные кони- «запряжки»-одиночки, пары, тройки. Топором вырубали чёткие по силуэту фигурки и острым ножом делали мелкие детали. Сколачивали возок и запрягали лошадок. В древности конь считался «слугой Солнца»,он приносил людям солнечное тепло и радость. Вот почему расписные колёса  игрушечных повозок напоминают маленькие солнышки. Особенно славились своими игрушечными конями деревни вокруг городов Владимира и Архангель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G_0012"/>
          <p:cNvPicPr/>
          <p:nvPr/>
        </p:nvPicPr>
        <p:blipFill>
          <a:blip r:embed="rId1"/>
          <a:stretch/>
        </p:blipFill>
        <p:spPr>
          <a:xfrm>
            <a:off x="5715000" y="2514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алеко от Москвы есть старинное село Богородское. В нем издавна жили плотники да столяры. Они строили дома с резными наличниками, мастерили шкафы и стулья. А в свободное время топором да ножом из чурбачков да щепочек вырезали для детских забав деревянны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447920" y="304920"/>
            <a:ext cx="59436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ород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51460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021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ки из села Богородского не простые, а «живые». Богородские цыплята стучат клювиками и клюют зёрнышки, бабочки хлопают крылышками, кони скачут, а зайцы играют в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ки в богородском делают на раздвижных планках или с гирьками- противовесами, к которым подвязаны верёвочки. Качается гирька, дергается веревочка, и двигаются фигу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уле, Вятке, Курске лепили и красили нарядно разодетых барынь и кавалеров. На русском же Севере, в частности в Каргополье, где в основном жили земледельцы, делали фигурки крестьян и крестьянок, коров, лесных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295280" y="228600"/>
            <a:ext cx="63248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инян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5" descr="IMG_0007"/>
          <p:cNvPicPr/>
          <p:nvPr/>
        </p:nvPicPr>
        <p:blipFill>
          <a:blip r:embed="rId1"/>
          <a:stretch/>
        </p:blipFill>
        <p:spPr>
          <a:xfrm>
            <a:off x="5486400" y="2971800"/>
            <a:ext cx="19810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й из самых замечательных мастериц русской глиняной игрушки была У.И.Бабкина. Своими игрушками рассказывала Ульяна Ильинична о трудовых буднях села, весёлых народных праздниках. Лепила задорных танцоров, лихих гармонистов, добродушных крестьянок с полными блюдами кренделей, хозяек с корзинами в руках, кормилиц с младенцами, охотников и кузнецов, возчиков и вса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области России славятся глиняными игрушками. Самые знаменитые игрушки- конечно, дымковские. Их изготавливают в слободе Дымково под Вят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1752480" y="380880"/>
            <a:ext cx="579132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ымков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486400" y="2809800"/>
            <a:ext cx="22096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1-21T20:34:0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