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B1A1-C29B-4604-BA70-F9E8AB240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79A8-5B2B-425E-BD9C-487F3F75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D742-6FEF-4702-AC7A-647E47900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F055-3C32-4B63-A138-567B77605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A972-DC1C-4DF1-8E06-8C5EC315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D0F9-63D2-41A8-BE26-C5EB2A03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A851-0CEF-42C7-BDAE-E0529F4D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DD99-414C-406D-85DA-C05B7CCE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6E3F-5899-47BD-A376-8AB64EAE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0037-E373-4598-87BC-7CE3B7E8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F1C4-44B3-4B27-B3BB-31CCBD6B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04A9-21C9-4517-9E08-34AE2B16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8774-236C-4F9D-B429-F38C1000C3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51920" y="1904760"/>
            <a:ext cx="89917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усство изготовления игрушек с глубокой древности передавалось от отца к сыну, от деда к внуку . Даже в самой бедной крестьянской семье всегда были нарядные игрушки. Взрослые наблюдали за тем, как дети играют. Считалось, что если ребенок небрежно обращается с игрушками-     значит, не будет в доме богатства и удачи. Верили, что игрушки охраняют и защищают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752480" y="533520"/>
            <a:ext cx="5562720" cy="8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усская деревянная игруш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1"/>
          <a:stretch/>
        </p:blipFill>
        <p:spPr>
          <a:xfrm>
            <a:off x="3733920" y="4572000"/>
            <a:ext cx="18288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0"/>
            <a:ext cx="4648320" cy="72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щё в 19 веке многие путешественники с восторгом описывали забавный  вятский праздник «свистунью». Во время этого праздника жители Вятки гуляли , плясали, пели и                                                                         свистели в расписные свистульки из глины.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51814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готовить даже простую маленькую свистульку – большое искусство, а дымковские игрушки –большие, сложные, с множеством деталей. Глину специально готовят, замешивают «тесто», из которого лепят фигурки, потом обжигают их в специальной печи, чтобы были прочнее, деревянной палочкой – «пичужкой» прокалывают отверстие для свистка. Коричневую глину покрывают белой краской из молока и мела, расписывают яркими цветами и украшают тоненькими квадратиками настоящего зол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6019920" y="1981080"/>
            <a:ext cx="1912680" cy="31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-360" y="1294920"/>
            <a:ext cx="3886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менита своими игрушками и деревня Филимоново под Тулой. Глина здесь не коричневая, а белая, она легко тянется, как пластилин. Поэтому филимоновские игрушки такие вытянутые – это коровы, олени, козы с длинными полосатыми шеями и большими цветными рогами. Они больше похожи на сказочных зверей, чем на настоящих домашних живот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сколько разных узоров из точек, звездочек, полос и кружочков придумывают филимоновские мастер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5"/>
          <p:cNvSpPr txBox="1"/>
          <p:nvPr/>
        </p:nvSpPr>
        <p:spPr>
          <a:xfrm>
            <a:off x="1371600" y="304920"/>
            <a:ext cx="6324480" cy="96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лимоновская игруш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6" name="Picture 8" descr=""/>
          <p:cNvPicPr/>
          <p:nvPr/>
        </p:nvPicPr>
        <p:blipFill>
          <a:blip r:embed="rId1"/>
          <a:stretch/>
        </p:blipFill>
        <p:spPr>
          <a:xfrm>
            <a:off x="5181480" y="2286000"/>
            <a:ext cx="1722600" cy="28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33160" y="1676160"/>
            <a:ext cx="3886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евере России, недалеко от Архангельска, в городе Каргополе, делают совсем другие  игрушки. Каргольские мастера любят лепить крестьянок в платках и барынь в шляпках, идущих с базара с покупками, мужичков – гармонистов в лаптях и кафтанах. У них широкие лица и коренастые фиг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1523880" y="304920"/>
            <a:ext cx="6248520" cy="96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ргопольская игруш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5486400" y="2895480"/>
            <a:ext cx="2362320" cy="232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33520" y="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обенно интересен каргопольский Полкан, или Китоврас, - получеловек – полуконь, древний персонаж славянских миф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3200400" y="3352680"/>
            <a:ext cx="2895480" cy="273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решка – наиболее известный и любимый русский сувенир. К 20 веку она стала символом русского народного искус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5"/>
          <p:cNvSpPr txBox="1"/>
          <p:nvPr/>
        </p:nvSpPr>
        <p:spPr>
          <a:xfrm>
            <a:off x="1295280" y="380880"/>
            <a:ext cx="6477120" cy="96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треш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4" name="Picture 8" descr=""/>
          <p:cNvPicPr/>
          <p:nvPr/>
        </p:nvPicPr>
        <p:blipFill>
          <a:blip r:embed="rId1"/>
          <a:stretch/>
        </p:blipFill>
        <p:spPr>
          <a:xfrm>
            <a:off x="1752480" y="5105520"/>
            <a:ext cx="326232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0"/>
            <a:ext cx="60199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решку придумал художник Сергей Васильевич Малютин. У японских детей он увидел игрушку, которая изображала старика – мудреца Фукуруму. Это была игрушка – неваляшка. Внутрь ее вкладывалась еще одна такая же кукла Фукурума, только поменьш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2666880" y="3809880"/>
            <a:ext cx="4232520" cy="26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0" y="0"/>
            <a:ext cx="50292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художник выдумал для русских детей куклу, похожую на японца Фукуруму. А кукла была необычная, с чудесным сюрпризом: внутри первой куклы сидела кукла поменьше, а в той еще меньше, и еще, и ещ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.В. Малютин нарядил каждую красавицу в расписной сарафанчик, в яркий платочек и пестрый передничек. Ни у одной из сестричек не было похожего наря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же назвать красавицу? И назвали Матрешей, старинным русским имен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родилась матрешка – разъемная деревянная кук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2590920" cy="287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0"/>
            <a:ext cx="41911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только для русских, но и для  жителей многих стран планеты матрешка стала поистине русской девочкой, символом всего русского и самой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5181480" y="1905120"/>
            <a:ext cx="2192400" cy="28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-360" y="0"/>
            <a:ext cx="35053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ждом городе, в каждой деревне мастера придумывают свои игрушки, не похожие на друг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зводство народной игрушки продолжает развиваться и в наши д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4038480" y="2362320"/>
            <a:ext cx="2590920" cy="213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4876920" cy="75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юбимым материалом в народных ремёслах было дерево, обычно липа, осина или сосна. Полено расщепляли топором на аккуратные заготовки и делали из них посуду, ложки, игрушки. Такие заготовки назывались баклуши. Колоть сухое дерево было легко, и работой это не считалось. Отсюда пошло выражение «бить баклуши», то есть бездельничать. Из заготовок мастер умел вырезать любую фигурку- барыню, солдата, мужика, крестьянку, монаха; затем игрушки раскрашивал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IMG_0011"/>
          <p:cNvPicPr/>
          <p:nvPr/>
        </p:nvPicPr>
        <p:blipFill>
          <a:blip r:embed="rId1"/>
          <a:stretch/>
        </p:blipFill>
        <p:spPr>
          <a:xfrm>
            <a:off x="5791320" y="1600200"/>
            <a:ext cx="1904760" cy="323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0"/>
            <a:ext cx="5105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обенно любимыми были игрушечные кони- «запряжки»-одиночки, пары, тройки. Топором вырубали чёткие по силуэту фигурки и острым ножом делали мелкие детали. Сколачивали возок и запрягали лошадок. В древности конь считался «слугой Солнца»,он приносил людям солнечное тепло и радость. Вот почему расписные колёса  игрушечных повозок напоминают маленькие солнышки. Особенно славились своими игрушечными конями деревни вокруг городов Владимира и Архангель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IMG_0012"/>
          <p:cNvPicPr/>
          <p:nvPr/>
        </p:nvPicPr>
        <p:blipFill>
          <a:blip r:embed="rId1"/>
          <a:stretch/>
        </p:blipFill>
        <p:spPr>
          <a:xfrm>
            <a:off x="5715000" y="2514600"/>
            <a:ext cx="266688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далеко от Москвы есть старинное село Богородское. В нем издавна жили плотники да столяры. Они строили дома с резными наличниками, мастерили шкафы и стулья. А в свободное время топором да ножом из чурбачков да щепочек вырезали для детских забав деревянные игруш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447920" y="304920"/>
            <a:ext cx="5943600" cy="8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огородская игруш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Picture 8" descr=""/>
          <p:cNvPicPr/>
          <p:nvPr/>
        </p:nvPicPr>
        <p:blipFill>
          <a:blip r:embed="rId1"/>
          <a:stretch/>
        </p:blipFill>
        <p:spPr>
          <a:xfrm>
            <a:off x="5410080" y="2209680"/>
            <a:ext cx="2514600" cy="31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1021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грушки из села Богородского не простые, а «живые». Богородские цыплята стучат клювиками и клюют зёрнышки, бабочки хлопают крылышками, кони скачут, а зайцы играют в мяч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48769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грушки в богородском делают на раздвижных планках или с гирьками- противовесами, к которым подвязаны верёвочки. Качается гирька, дергается веревочка, и двигаются фигур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170496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Туле, Вятке, Курске лепили и красили нарядно разодетых барынь и кавалеров. На русском же Севере, в частности в Каргополье, где в основном жили земледельцы, делали фигурки крестьян и крестьянок, коров, лесных звер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1295280" y="228600"/>
            <a:ext cx="632484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линяная игруш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" name="Picture 5" descr="IMG_0007"/>
          <p:cNvPicPr/>
          <p:nvPr/>
        </p:nvPicPr>
        <p:blipFill>
          <a:blip r:embed="rId1"/>
          <a:stretch/>
        </p:blipFill>
        <p:spPr>
          <a:xfrm>
            <a:off x="5486400" y="2971800"/>
            <a:ext cx="1981080" cy="21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-360" y="0"/>
            <a:ext cx="48769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ой из самых замечательных мастериц русской глиняной игрушки была У.И.Бабкина. Своими игрушками рассказывала Ульяна Ильинична о трудовых буднях села, весёлых народных праздниках. Лепила задорных танцоров, лихих гармонистов, добродушных крестьянок с полными блюдами кренделей, хозяек с корзинами в руках, кормилиц с младенцами, охотников и кузнецов, возчиков и всадн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-360" y="1980720"/>
            <a:ext cx="4724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гие области России славятся глиняными игрушками. Самые знаменитые игрушки- конечно, дымковские. Их изготавливают в слободе Дымково под Вятк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7"/>
          <p:cNvSpPr txBox="1"/>
          <p:nvPr/>
        </p:nvSpPr>
        <p:spPr>
          <a:xfrm>
            <a:off x="1752480" y="380880"/>
            <a:ext cx="5791320" cy="88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ымковская игруш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0" name="Picture 8" descr=""/>
          <p:cNvPicPr/>
          <p:nvPr/>
        </p:nvPicPr>
        <p:blipFill>
          <a:blip r:embed="rId1"/>
          <a:stretch/>
        </p:blipFill>
        <p:spPr>
          <a:xfrm>
            <a:off x="5486400" y="2809800"/>
            <a:ext cx="2209680" cy="2697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ьга</cp:lastModifiedBy>
  <dcterms:modified xsi:type="dcterms:W3CDTF">2010-01-21T20:34:07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