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D45-E250-49F8-BD80-E5351B7A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E6B-87D8-45A5-A347-D151078D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8DD-4051-4EAA-9CFF-B2D2ED41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1433-907D-4322-879D-1407E7E5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5FF7-2C94-4809-AE57-D086857B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53AE-2D46-4333-91EB-C207AF7C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97A2-BF83-4764-802C-723425B0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C7EA-A261-442E-ACE0-EBCF2671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5B95-5E58-41CD-ABF5-DF7159DB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B308-E05F-4326-80BC-7758B2AF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F043-40FE-4DBC-A794-F79462B7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54D-71B0-4B70-A376-398C2800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CF10-1121-4FE0-8A6A-2944CA9B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ECA3-EDE0-40B9-A851-0DBCCA3C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39EF-E93A-428B-9F9C-C9A28108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E038-5131-461D-8A70-977C3522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7760-91C0-4731-9B85-4CF6AA2A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ADC41-911E-4E26-9E21-1ABD51A0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0F9BF-8539-49AA-85E0-FA63FE31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2B893-F344-4392-95D8-292D3356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9506D-19CA-4A0A-8902-E44A4363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FBAD5-1869-42AE-B899-9BC2568B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7303-04D1-4C84-943F-A4055188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FEAFD-71B9-4D59-846C-9E5CA335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02D2E-125E-47B5-ACB7-6ECA60B8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40E6A-718C-4AF0-B889-22AB90FD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D4EEC-F02B-4BD4-8455-923D63DD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6C6E0-F5FC-4E9E-8DEC-49C8EB7C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8F156-0789-4C51-AFD5-707072C5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872A1-6266-48A0-B1DC-E54D3EB5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6CFBC-8567-4943-828F-ABA3FF49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2D6A6-83EC-4CB6-88EA-2F28496E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B3F97-C5DD-4568-A5BA-8D0A72C2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FC6-4A2A-4325-9BE1-C051E7CB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44E75-A0FF-498D-94C5-1FA9DDBA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95305-B6C0-4124-8533-0BDE72B7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55A26-40FD-49C8-8F13-48CC6458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6E14A-CCD2-4EB0-BB9C-CA513B74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FC47F-B40F-4EA6-84B7-CCADF92F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778B1-FC92-47AD-A6D3-6B1B9824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361D1-7D28-4809-A4AF-39DFC66E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12556-1741-41B2-8762-109A8721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4568B-35E5-4B4E-B00D-723E2F04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003F-8CB9-4DEF-84AF-EFB88129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836-99A0-4034-9648-0C928991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0382-C2E9-47FD-BDD3-3D6854B4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062-BF51-4D52-8FB0-368DC26D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895-17ED-4D50-BCB7-904CC2F8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9BEF-FB99-4F4B-B4E8-0487FBBF1B2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F1E8-5D9B-4011-9108-3C7C4FB71A7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939D-2934-491B-84EF-60DA26A7641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5DE5-80E9-4849-AAC6-32F477D661C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695160"/>
            <a:ext cx="8096040" cy="2578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495c"/>
                </a:solidFill>
                <a:latin typeface="Constantia"/>
              </a:rPr>
              <a:t>Урок окружающего мира в 1 класс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495c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03495c"/>
                </a:solidFill>
                <a:latin typeface="Constantia"/>
              </a:rPr>
              <a:t>читель начальных классов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5c"/>
                </a:solidFill>
                <a:latin typeface="Constantia"/>
              </a:rPr>
              <a:t>II</a:t>
            </a:r>
            <a:r>
              <a:rPr b="0" lang="ru-RU" sz="2000" spc="-1" strike="noStrike">
                <a:solidFill>
                  <a:srgbClr val="03495c"/>
                </a:solidFill>
                <a:latin typeface="Constantia"/>
              </a:rPr>
              <a:t> квалификационной категории Мурзакаева Н.Н. средняя </a:t>
            </a:r>
            <a:r>
              <a:rPr b="0" lang="ru-RU" sz="2000" spc="-1" strike="noStrike">
                <a:solidFill>
                  <a:srgbClr val="03495c"/>
                </a:solidFill>
                <a:latin typeface="Times New Roman"/>
              </a:rPr>
              <a:t>общеобразовательная школа</a:t>
            </a:r>
            <a:r>
              <a:rPr b="0" lang="ru-RU" sz="2000" spc="-1" strike="noStrike">
                <a:solidFill>
                  <a:srgbClr val="03495c"/>
                </a:solidFill>
                <a:latin typeface="Constantia"/>
              </a:rPr>
              <a:t> № 3</a:t>
            </a:r>
            <a:r>
              <a:rPr b="0" lang="en-US" sz="2000" spc="-1" strike="noStrike">
                <a:solidFill>
                  <a:srgbClr val="03495c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3495c"/>
                </a:solidFill>
                <a:latin typeface="Times New Roman"/>
              </a:rPr>
              <a:t>с углубленным изучением отдельных предметов г.Бугульма</a:t>
            </a:r>
            <a:r>
              <a:rPr b="0" lang="ru-RU" sz="2000" spc="-1" strike="noStrike">
                <a:solidFill>
                  <a:srgbClr val="03495c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522520" cy="66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снегирь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6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Стынут лапы на мороз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У сосны и ел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Что за чудо ? –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На березе яблоки поспел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2" descr="C:\Users\999\Pictures\Новая папка (10)\2328046[1].jpg"/>
          <p:cNvPicPr/>
          <p:nvPr/>
        </p:nvPicPr>
        <p:blipFill>
          <a:blip r:embed="rId2"/>
          <a:srcRect l="10727" t="0" r="10727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500"/>
                            </p:stCondLst>
                            <p:childTnLst>
                              <p:par>
                                <p:cTn id="3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http://www.dobrota.perm.ru/upload/childrens/CHILDREN_1204779632.jpg"/>
          <p:cNvPicPr/>
          <p:nvPr/>
        </p:nvPicPr>
        <p:blipFill>
          <a:blip r:embed="rId2"/>
          <a:stretch/>
        </p:blipFill>
        <p:spPr>
          <a:xfrm>
            <a:off x="285840" y="928800"/>
            <a:ext cx="864396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:\Users\999\Pictures\Новая папка (10)\8ppp[1].jpg"/>
          <p:cNvPicPr/>
          <p:nvPr/>
        </p:nvPicPr>
        <p:blipFill>
          <a:blip r:embed="rId2"/>
          <a:stretch/>
        </p:blipFill>
        <p:spPr>
          <a:xfrm>
            <a:off x="214200" y="357120"/>
            <a:ext cx="3571920" cy="3022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C:\Users\999\Pictures\Новая папка (10)\10[2].jpg"/>
          <p:cNvPicPr/>
          <p:nvPr/>
        </p:nvPicPr>
        <p:blipFill>
          <a:blip r:embed="rId3"/>
          <a:stretch/>
        </p:blipFill>
        <p:spPr>
          <a:xfrm>
            <a:off x="6072120" y="428760"/>
            <a:ext cx="2540160" cy="1768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C:\Users\999\Pictures\Новая папка (10)\74[1].jpg"/>
          <p:cNvPicPr/>
          <p:nvPr/>
        </p:nvPicPr>
        <p:blipFill>
          <a:blip r:embed="rId4"/>
          <a:stretch/>
        </p:blipFill>
        <p:spPr>
          <a:xfrm>
            <a:off x="3000240" y="3643200"/>
            <a:ext cx="2928960" cy="2698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C:\Users\999\Pictures\Новая папка (10)\1970282[1].jpg"/>
          <p:cNvPicPr/>
          <p:nvPr/>
        </p:nvPicPr>
        <p:blipFill>
          <a:blip r:embed="rId5"/>
          <a:stretch/>
        </p:blipFill>
        <p:spPr>
          <a:xfrm>
            <a:off x="214200" y="3000240"/>
            <a:ext cx="2994120" cy="3329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C:\Users\999\Pictures\Новая папка (10)\20070107_174156_%F1%E8%ED%E8%F6%FB[1].jpg"/>
          <p:cNvPicPr/>
          <p:nvPr/>
        </p:nvPicPr>
        <p:blipFill>
          <a:blip r:embed="rId6"/>
          <a:stretch/>
        </p:blipFill>
        <p:spPr>
          <a:xfrm>
            <a:off x="3857760" y="1714680"/>
            <a:ext cx="2282760" cy="1828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C:\Users\999\Pictures\Новая папка (10)\ffeae10b8ae8[1].jpg"/>
          <p:cNvPicPr/>
          <p:nvPr/>
        </p:nvPicPr>
        <p:blipFill>
          <a:blip r:embed="rId7"/>
          <a:stretch/>
        </p:blipFill>
        <p:spPr>
          <a:xfrm>
            <a:off x="5786280" y="32148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Users\999\Pictures\Новая папка (10)\Зимний лес.jpg"/>
          <p:cNvPicPr/>
          <p:nvPr/>
        </p:nvPicPr>
        <p:blipFill>
          <a:blip r:embed="rId2"/>
          <a:stretch/>
        </p:blipFill>
        <p:spPr>
          <a:xfrm>
            <a:off x="571680" y="285840"/>
            <a:ext cx="8358120" cy="63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:\Users\999\Pictures\Новая папка (10)\Clear Winter.JPG"/>
          <p:cNvPicPr/>
          <p:nvPr/>
        </p:nvPicPr>
        <p:blipFill>
          <a:blip r:embed="rId2"/>
          <a:stretch/>
        </p:blipFill>
        <p:spPr>
          <a:xfrm>
            <a:off x="357120" y="428760"/>
            <a:ext cx="8501040" cy="600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500040" y="714240"/>
          <a:ext cx="8001000" cy="5500800"/>
        </p:xfrm>
        <a:graphic>
          <a:graphicData uri="http://schemas.openxmlformats.org/drawingml/2006/table">
            <a:tbl>
              <a:tblPr/>
              <a:tblGrid>
                <a:gridCol w="1000080"/>
                <a:gridCol w="1000080"/>
                <a:gridCol w="998640"/>
                <a:gridCol w="1000080"/>
                <a:gridCol w="1000080"/>
                <a:gridCol w="1000080"/>
                <a:gridCol w="1001880"/>
                <a:gridCol w="1000080"/>
              </a:tblGrid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785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Box 4"/>
          <p:cNvSpPr/>
          <p:nvPr/>
        </p:nvSpPr>
        <p:spPr>
          <a:xfrm>
            <a:off x="785880" y="314316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785880" y="39290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785880" y="46432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785880" y="557208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1785960" y="314316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2714760" y="31431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3786120" y="31431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1"/>
          <p:cNvSpPr/>
          <p:nvPr/>
        </p:nvSpPr>
        <p:spPr>
          <a:xfrm>
            <a:off x="4714920" y="31431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5715000" y="31431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6715080" y="314316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7715160" y="314316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2714760" y="25002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2714760" y="38577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4714920" y="24289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8"/>
          <p:cNvSpPr/>
          <p:nvPr/>
        </p:nvSpPr>
        <p:spPr>
          <a:xfrm>
            <a:off x="4786200" y="3929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9"/>
          <p:cNvSpPr/>
          <p:nvPr/>
        </p:nvSpPr>
        <p:spPr>
          <a:xfrm>
            <a:off x="4786200" y="471492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4786200" y="550080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1"/>
          <p:cNvSpPr/>
          <p:nvPr/>
        </p:nvSpPr>
        <p:spPr>
          <a:xfrm>
            <a:off x="6715080" y="7858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2"/>
          <p:cNvSpPr/>
          <p:nvPr/>
        </p:nvSpPr>
        <p:spPr>
          <a:xfrm>
            <a:off x="6786720" y="157176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3"/>
          <p:cNvSpPr/>
          <p:nvPr/>
        </p:nvSpPr>
        <p:spPr>
          <a:xfrm>
            <a:off x="6715080" y="25002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450720" y="353880"/>
            <a:ext cx="8321760" cy="871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C:\Users\999\Pictures\Новая папка (10)\0_88d2_da341952_XL[1].jpg"/>
          <p:cNvPicPr/>
          <p:nvPr/>
        </p:nvPicPr>
        <p:blipFill>
          <a:blip r:embed="rId3"/>
          <a:stretch/>
        </p:blipFill>
        <p:spPr>
          <a:xfrm>
            <a:off x="214200" y="1285920"/>
            <a:ext cx="3071880" cy="2190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999\Pictures\Новая папка (10)\2328046[1].jpg"/>
          <p:cNvPicPr/>
          <p:nvPr/>
        </p:nvPicPr>
        <p:blipFill>
          <a:blip r:embed="rId4"/>
          <a:stretch/>
        </p:blipFill>
        <p:spPr>
          <a:xfrm>
            <a:off x="127080" y="4289400"/>
            <a:ext cx="3159000" cy="211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C:\Users\999\Pictures\Новая папка (10)\2633562[1].jpg"/>
          <p:cNvPicPr/>
          <p:nvPr/>
        </p:nvPicPr>
        <p:blipFill>
          <a:blip r:embed="rId5"/>
          <a:stretch/>
        </p:blipFill>
        <p:spPr>
          <a:xfrm>
            <a:off x="3071880" y="242892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C:\Users\999\Pictures\Новая папка (10)\DSCF1_filtered[1].jpg"/>
          <p:cNvPicPr/>
          <p:nvPr/>
        </p:nvPicPr>
        <p:blipFill>
          <a:blip r:embed="rId6"/>
          <a:stretch/>
        </p:blipFill>
        <p:spPr>
          <a:xfrm>
            <a:off x="6429240" y="1214280"/>
            <a:ext cx="2286000" cy="2500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C:\Users\999\Pictures\Новая папка (10)\ptiz[1].jpg"/>
          <p:cNvPicPr/>
          <p:nvPr/>
        </p:nvPicPr>
        <p:blipFill>
          <a:blip r:embed="rId7"/>
          <a:stretch/>
        </p:blipFill>
        <p:spPr>
          <a:xfrm>
            <a:off x="5743440" y="4000680"/>
            <a:ext cx="307656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928440"/>
            <a:ext cx="2571480" cy="57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воробей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642680"/>
            <a:ext cx="2210040" cy="33656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Маленький мальчиш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В сером армячишк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о дворам шныряет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Крохи собирае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C:\Users\999\Pictures\Новая папка (10)\DSCF1_filtered[1].jpg"/>
          <p:cNvPicPr/>
          <p:nvPr/>
        </p:nvPicPr>
        <p:blipFill>
          <a:blip r:embed="rId2"/>
          <a:srcRect l="0" t="17603" r="0" b="17603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76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44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12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720"/>
                            </p:stCondLst>
                            <p:childTnLst>
                              <p:par>
                                <p:cTn id="2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синиц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Все тропинки занесло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Снег блестит, искрится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Клювиком в моё стекл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Стукнула синиц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2" descr="C:\Users\999\Pictures\Новая папка (10)\0_88d2_da341952_XL[1].jpg"/>
          <p:cNvPicPr/>
          <p:nvPr/>
        </p:nvPicPr>
        <p:blipFill>
          <a:blip r:embed="rId2"/>
          <a:srcRect l="5941" t="0" r="5941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30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18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94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80"/>
                            </p:stCondLst>
                            <p:childTnLst>
                              <p:par>
                                <p:cTn id="2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560" y="1176120"/>
            <a:ext cx="2571480" cy="1028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свиристель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2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летели свиристели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играли на свирелях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свистели: «Свири-свир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ы в лесу устроим пир!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C:\Users\999\Pictures\Новая папка (10)\2633562[1].jpg"/>
          <p:cNvPicPr/>
          <p:nvPr/>
        </p:nvPicPr>
        <p:blipFill>
          <a:blip r:embed="rId2"/>
          <a:srcRect l="5943" t="0" r="5943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1176120"/>
            <a:ext cx="2735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поползен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1280" y="2852280"/>
            <a:ext cx="2209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3" descr="C:\Users\999\Pictures\Новая папка (10)\ptiz[1].jpg"/>
          <p:cNvPicPr/>
          <p:nvPr/>
        </p:nvPicPr>
        <p:blipFill>
          <a:blip r:embed="rId2"/>
          <a:srcRect l="902" t="0" r="902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1:08:02Z</dcterms:created>
  <dc:creator>999</dc:creator>
  <dc:description/>
  <dc:language>en-US</dc:language>
  <cp:lastModifiedBy>Admin</cp:lastModifiedBy>
  <dcterms:modified xsi:type="dcterms:W3CDTF">2009-11-02T15:40:58Z</dcterms:modified>
  <cp:revision>21</cp:revision>
  <dc:subject/>
  <dc:title>«Как помочь птицам»</dc:title>
</cp:coreProperties>
</file>