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9A1-C370-4472-9DD9-5E0DFE87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9A4-DB5F-4AED-B9D8-3AFB2091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855-997E-4332-9802-D7033C2F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159-7AAD-447D-91A3-2AB7D75A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37E7-D8AC-469D-9976-0B4FE6FD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5AF2-6EC0-441E-9C61-B74CE663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A71B-6AF7-4120-B252-85C659AA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CE55-3365-4C78-A4A9-EF30FDF4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3AB8-E6F4-4A16-A95A-26DEC316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BFE8-22FC-4233-BC11-EA8242DD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D916-AF33-4BD6-A1E8-A69432ED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5D8-8A70-4C5F-9FDB-5917C937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3502-E195-442E-A00C-5365E77C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AC46-57B8-4D6B-B625-58FD71AD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A661-0D24-417C-8054-F749059D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6FED-FA78-49B9-9CB3-C20307CD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A052-8C65-4FAF-9081-99843937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93D9-A3A1-43A7-81C1-B2DF2C77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7698-F492-476A-AA39-82A6E4DD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5300-149C-483B-B674-8745864A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64D1-83BB-4F31-8FCA-5A87084B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7164-2E84-4FBC-97EC-C8680FE7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449-F473-409B-8B8C-629C3A2D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83A73-DAD9-4F4A-8338-1AD8D8DD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55B37-2BA4-484A-A6C9-DD0D30F8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1B66-1B53-477F-8892-33C2185D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63C1-BC63-4EF4-98CB-F6DA61AE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5B1B-C75B-43BD-A830-C651732A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289E-32D7-458D-9C17-AE5F71B1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4D8F-8889-4F47-929B-DCD170B8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C65F3-4F33-43CA-98B8-ED8B6662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2EE97-99D2-4EAE-87E0-EBDD8A10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EC066-B690-4E5B-8FBC-84DDFE3F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258-6655-4AE0-9230-BFE462B0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11AB2-3800-443E-8D6A-A361B54A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8D94-914E-4F48-AE30-C3A1BE8F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E16E7-53F7-4BC0-9FA5-5EF116D4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F496-004D-4378-B776-62FEBD7D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974E0-6BE4-4894-8EEC-69D48223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364D-94D6-4B00-B899-23DE578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2933-DC4A-4F9E-99F5-5698D440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C285E-2284-45E2-B763-C5B8AE10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030D5-AF6B-4A50-AD5A-DF375939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CEC-3A70-46BA-BEA3-95246979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85F-517A-447C-9B56-AE1DE419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A3A-6543-4617-8855-83B92A9E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3B8-9CD2-4DD1-8DBB-0F42B54B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80E-AABB-4FB2-8A02-09CDEE5F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A0E9-0B25-4E6D-ADFF-F3EEFBAB56C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01DE-8CD8-4443-84A4-CE1FFEFD59D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C7AF-F54E-46A0-BFC3-D09B7DF7C72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2322-7CEB-41DB-9C94-333B5FD8F61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695160"/>
            <a:ext cx="8096040" cy="2578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495c"/>
                </a:solidFill>
                <a:latin typeface="Constantia"/>
              </a:rPr>
              <a:t>Урок окружающего мира в 1 класс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495c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3495c"/>
                </a:solidFill>
                <a:latin typeface="Constantia"/>
              </a:rPr>
              <a:t>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5c"/>
                </a:solidFill>
                <a:latin typeface="Constantia"/>
              </a:rPr>
              <a:t>II</a:t>
            </a:r>
            <a:r>
              <a:rPr b="0" lang="ru-RU" sz="2000" spc="-1" strike="noStrike">
                <a:solidFill>
                  <a:srgbClr val="03495c"/>
                </a:solidFill>
                <a:latin typeface="Constantia"/>
              </a:rPr>
              <a:t> квалификационной категории Мурзакаева Н.Н. средняя </a:t>
            </a:r>
            <a:r>
              <a:rPr b="0" lang="ru-RU" sz="2000" spc="-1" strike="noStrike">
                <a:solidFill>
                  <a:srgbClr val="03495c"/>
                </a:solidFill>
                <a:latin typeface="Times New Roman"/>
              </a:rPr>
              <a:t>общеобразовательная школа</a:t>
            </a:r>
            <a:r>
              <a:rPr b="0" lang="ru-RU" sz="2000" spc="-1" strike="noStrike">
                <a:solidFill>
                  <a:srgbClr val="03495c"/>
                </a:solidFill>
                <a:latin typeface="Constantia"/>
              </a:rPr>
              <a:t> № 3</a:t>
            </a:r>
            <a:r>
              <a:rPr b="0" lang="en-US" sz="2000" spc="-1" strike="noStrike">
                <a:solidFill>
                  <a:srgbClr val="03495c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3495c"/>
                </a:solidFill>
                <a:latin typeface="Times New Roman"/>
              </a:rPr>
              <a:t>с углубленным изучением отдельных предметов г.Бугульма</a:t>
            </a:r>
            <a:r>
              <a:rPr b="0" lang="ru-RU" sz="2000" spc="-1" strike="noStrike">
                <a:solidFill>
                  <a:srgbClr val="03495c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522520" cy="66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снегирь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6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тынут лапы на мороз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У сосны и ел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Что за чудо ? –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На березе яблоки поспел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2" descr="C:\Users\999\Pictures\Новая папка (10)\2328046[1].jpg"/>
          <p:cNvPicPr/>
          <p:nvPr/>
        </p:nvPicPr>
        <p:blipFill>
          <a:blip r:embed="rId2"/>
          <a:srcRect l="10727" t="0" r="10727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www.dobrota.perm.ru/upload/childrens/CHILDREN_1204779632.jpg"/>
          <p:cNvPicPr/>
          <p:nvPr/>
        </p:nvPicPr>
        <p:blipFill>
          <a:blip r:embed="rId2"/>
          <a:stretch/>
        </p:blipFill>
        <p:spPr>
          <a:xfrm>
            <a:off x="285840" y="928800"/>
            <a:ext cx="86439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999\Pictures\Новая папка (10)\8ppp[1].jpg"/>
          <p:cNvPicPr/>
          <p:nvPr/>
        </p:nvPicPr>
        <p:blipFill>
          <a:blip r:embed="rId2"/>
          <a:stretch/>
        </p:blipFill>
        <p:spPr>
          <a:xfrm>
            <a:off x="214200" y="357120"/>
            <a:ext cx="3571920" cy="3022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C:\Users\999\Pictures\Новая папка (10)\10[2].jpg"/>
          <p:cNvPicPr/>
          <p:nvPr/>
        </p:nvPicPr>
        <p:blipFill>
          <a:blip r:embed="rId3"/>
          <a:stretch/>
        </p:blipFill>
        <p:spPr>
          <a:xfrm>
            <a:off x="6072120" y="428760"/>
            <a:ext cx="2540160" cy="1768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C:\Users\999\Pictures\Новая папка (10)\74[1].jpg"/>
          <p:cNvPicPr/>
          <p:nvPr/>
        </p:nvPicPr>
        <p:blipFill>
          <a:blip r:embed="rId4"/>
          <a:stretch/>
        </p:blipFill>
        <p:spPr>
          <a:xfrm>
            <a:off x="3000240" y="3643200"/>
            <a:ext cx="2928960" cy="2698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Users\999\Pictures\Новая папка (10)\1970282[1].jpg"/>
          <p:cNvPicPr/>
          <p:nvPr/>
        </p:nvPicPr>
        <p:blipFill>
          <a:blip r:embed="rId5"/>
          <a:stretch/>
        </p:blipFill>
        <p:spPr>
          <a:xfrm>
            <a:off x="214200" y="3000240"/>
            <a:ext cx="2994120" cy="3329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Users\999\Pictures\Новая папка (10)\20070107_174156_%F1%E8%ED%E8%F6%FB[1].jpg"/>
          <p:cNvPicPr/>
          <p:nvPr/>
        </p:nvPicPr>
        <p:blipFill>
          <a:blip r:embed="rId6"/>
          <a:stretch/>
        </p:blipFill>
        <p:spPr>
          <a:xfrm>
            <a:off x="3857760" y="1714680"/>
            <a:ext cx="228276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C:\Users\999\Pictures\Новая папка (10)\ffeae10b8ae8[1].jpg"/>
          <p:cNvPicPr/>
          <p:nvPr/>
        </p:nvPicPr>
        <p:blipFill>
          <a:blip r:embed="rId7"/>
          <a:stretch/>
        </p:blipFill>
        <p:spPr>
          <a:xfrm>
            <a:off x="5786280" y="32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999\Pictures\Новая папка (10)\Зимний лес.jpg"/>
          <p:cNvPicPr/>
          <p:nvPr/>
        </p:nvPicPr>
        <p:blipFill>
          <a:blip r:embed="rId2"/>
          <a:stretch/>
        </p:blipFill>
        <p:spPr>
          <a:xfrm>
            <a:off x="571680" y="285840"/>
            <a:ext cx="8358120" cy="63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999\Pictures\Новая папка (10)\Clear Winter.JPG"/>
          <p:cNvPicPr/>
          <p:nvPr/>
        </p:nvPicPr>
        <p:blipFill>
          <a:blip r:embed="rId2"/>
          <a:stretch/>
        </p:blipFill>
        <p:spPr>
          <a:xfrm>
            <a:off x="357120" y="428760"/>
            <a:ext cx="8501040" cy="600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00040" y="714240"/>
          <a:ext cx="8001000" cy="550080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998640"/>
                <a:gridCol w="1000080"/>
                <a:gridCol w="1000080"/>
                <a:gridCol w="1000080"/>
                <a:gridCol w="1001880"/>
                <a:gridCol w="100008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78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Box 4"/>
          <p:cNvSpPr/>
          <p:nvPr/>
        </p:nvSpPr>
        <p:spPr>
          <a:xfrm>
            <a:off x="785880" y="314316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785880" y="3929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785880" y="4643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785880" y="557208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785960" y="31431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2714760" y="3143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3786120" y="3143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4714920" y="3143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5715000" y="3143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6715080" y="31431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7715160" y="31431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2714760" y="25002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2714760" y="3857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4714920" y="24289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4786200" y="3929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4786200" y="47149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4786200" y="550080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6715080" y="7858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6786720" y="15717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6715080" y="25002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50720" y="353880"/>
            <a:ext cx="8321760" cy="871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999\Pictures\Новая папка (10)\0_88d2_da341952_XL[1].jpg"/>
          <p:cNvPicPr/>
          <p:nvPr/>
        </p:nvPicPr>
        <p:blipFill>
          <a:blip r:embed="rId3"/>
          <a:stretch/>
        </p:blipFill>
        <p:spPr>
          <a:xfrm>
            <a:off x="214200" y="1285920"/>
            <a:ext cx="3071880" cy="2190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999\Pictures\Новая папка (10)\2328046[1].jpg"/>
          <p:cNvPicPr/>
          <p:nvPr/>
        </p:nvPicPr>
        <p:blipFill>
          <a:blip r:embed="rId4"/>
          <a:stretch/>
        </p:blipFill>
        <p:spPr>
          <a:xfrm>
            <a:off x="127080" y="4289400"/>
            <a:ext cx="3159000" cy="211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Users\999\Pictures\Новая папка (10)\2633562[1].jpg"/>
          <p:cNvPicPr/>
          <p:nvPr/>
        </p:nvPicPr>
        <p:blipFill>
          <a:blip r:embed="rId5"/>
          <a:stretch/>
        </p:blipFill>
        <p:spPr>
          <a:xfrm>
            <a:off x="3071880" y="24289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999\Pictures\Новая папка (10)\DSCF1_filtered[1].jpg"/>
          <p:cNvPicPr/>
          <p:nvPr/>
        </p:nvPicPr>
        <p:blipFill>
          <a:blip r:embed="rId6"/>
          <a:stretch/>
        </p:blipFill>
        <p:spPr>
          <a:xfrm>
            <a:off x="6429240" y="1214280"/>
            <a:ext cx="2286000" cy="250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:\Users\999\Pictures\Новая папка (10)\ptiz[1].jpg"/>
          <p:cNvPicPr/>
          <p:nvPr/>
        </p:nvPicPr>
        <p:blipFill>
          <a:blip r:embed="rId7"/>
          <a:stretch/>
        </p:blipFill>
        <p:spPr>
          <a:xfrm>
            <a:off x="5743440" y="4000680"/>
            <a:ext cx="30765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928440"/>
            <a:ext cx="25714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воробей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642680"/>
            <a:ext cx="2210040" cy="3365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Маленький мальчиш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В сером армячишк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о дворам шныряет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хи собирает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Users\999\Pictures\Новая папка (10)\DSCF1_filtered[1].jpg"/>
          <p:cNvPicPr/>
          <p:nvPr/>
        </p:nvPicPr>
        <p:blipFill>
          <a:blip r:embed="rId2"/>
          <a:srcRect l="0" t="17603" r="0" b="17603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76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44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12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72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синиц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Все тропинки занесло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нег блестит, искрится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лювиком в моё стекл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тукнула синиц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C:\Users\999\Pictures\Новая папка (10)\0_88d2_da341952_XL[1].jpg"/>
          <p:cNvPicPr/>
          <p:nvPr/>
        </p:nvPicPr>
        <p:blipFill>
          <a:blip r:embed="rId2"/>
          <a:srcRect l="5941" t="0" r="5941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18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94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8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560" y="1176120"/>
            <a:ext cx="2571480" cy="1028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свиристе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2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летели свиристел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играли на свирелях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свистели: «Свири-свир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ы в лесу устроим пир!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C:\Users\999\Pictures\Новая папка (10)\2633562[1].jpg"/>
          <p:cNvPicPr/>
          <p:nvPr/>
        </p:nvPicPr>
        <p:blipFill>
          <a:blip r:embed="rId2"/>
          <a:srcRect l="5943" t="0" r="5943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1176120"/>
            <a:ext cx="273528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поползен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2852280"/>
            <a:ext cx="2209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C:\Users\999\Pictures\Новая папка (10)\ptiz[1].jpg"/>
          <p:cNvPicPr/>
          <p:nvPr/>
        </p:nvPicPr>
        <p:blipFill>
          <a:blip r:embed="rId2"/>
          <a:srcRect l="902" t="0" r="902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1:08:02Z</dcterms:created>
  <dc:creator>999</dc:creator>
  <dc:description/>
  <dc:language>en-US</dc:language>
  <cp:lastModifiedBy>Admin</cp:lastModifiedBy>
  <dcterms:modified xsi:type="dcterms:W3CDTF">2009-11-02T15:40:58Z</dcterms:modified>
  <cp:revision>21</cp:revision>
  <dc:subject/>
  <dc:title>«Как помочь птицам»</dc:title>
</cp:coreProperties>
</file>