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275840" y="885960"/>
            <a:ext cx="47926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move the slide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67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276200" y="1092240"/>
            <a:ext cx="4799160" cy="39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138320" y="5406840"/>
            <a:ext cx="5078160" cy="43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6400"/>
            <a:ext cx="27694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-46080"/>
            <a:ext cx="8601120" cy="120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720" y="458640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720" y="2101680"/>
            <a:ext cx="41972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6400"/>
            <a:ext cx="86011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-46080"/>
            <a:ext cx="860112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6011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896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907092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280099"/>
                </a:solidFill>
                <a:latin typeface="Times New Roman"/>
              </a:rPr>
              <a:t>Организация школы будущего первоклассника</a:t>
            </a:r>
            <a:endParaRPr b="1" i="1" lang="en-US" sz="5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800360"/>
            <a:ext cx="420048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«От того, как будет чувствовать себя ребёнок, поднимаясь на первую ступеньку лестницы познания, что он будет переживать, зависит весь дальнейший путь к знаниям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219640" y="1979640"/>
            <a:ext cx="43196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Направления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Психологическая адаптация или привык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Освоение организационных навыков и умений для успешной учеб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51600" y="2101680"/>
            <a:ext cx="4200480" cy="476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5400720" y="2160720"/>
            <a:ext cx="360036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-44280"/>
            <a:ext cx="860760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Задачи:</a:t>
            </a:r>
            <a:br>
              <a:rPr sz="6000"/>
            </a:br>
            <a:r>
              <a:rPr b="1" lang="en-GB" sz="4000" spc="-1" strike="noStrike">
                <a:solidFill>
                  <a:srgbClr val="280099"/>
                </a:solidFill>
                <a:latin typeface="Times New Roman"/>
              </a:rPr>
              <a:t>В игровой форме познакомить детей с правилами и нормами школьной жизни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1680" y="2879280"/>
            <a:ext cx="8607240" cy="39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Дать возможность получить новые впечатления, приобрести опыт общения друг с другом, формировать навык учебного сотрудничеств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Развить психологические процессы: внимание, мышление, память, воображение,развитие мелкой моторики пальце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Знакомство с особенностями детей данного класса. Определение стартовых возможностей дет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Принципы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Принцип учета возрастных и индивидуальных возмож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Принцип всестороннего гармоничного развития личнос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Принцип активного обуч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Принцип непрерывности и последователь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Принцип активности и нагляд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Методы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Стимулирование и мотивац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Коррекция и самокоррекц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Социальные пробы и ситуаци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Утверждение и самоутвержд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475920"/>
            <a:ext cx="8607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1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Знакомство”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0720" y="2160360"/>
            <a:ext cx="4200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Знакомство детей друг с другом, учител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1600" y="1979280"/>
            <a:ext cx="420048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Рассказ учителя о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Знакомство детей друг с друг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знакомление с помещени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бмен первыми впечатлениями о школе в рисунках и уст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Привет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бсуждение вопросов: Что такое школа?Что нравится? Что не нрави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PICT0070"/>
          <p:cNvPicPr/>
          <p:nvPr/>
        </p:nvPicPr>
        <p:blipFill>
          <a:blip r:embed="rId1"/>
          <a:stretch/>
        </p:blipFill>
        <p:spPr>
          <a:xfrm>
            <a:off x="1079640" y="442764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130320"/>
            <a:ext cx="8607600" cy="22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2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Школьник и дошкольник. Я - ученик”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340000"/>
            <a:ext cx="4200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Осознание нового статуса школьни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знакомить со школьными правилами и правилами вежлив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знакомить с пространством шк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1600" y="2339640"/>
            <a:ext cx="4200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Ознакомить с пространством школ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оказать в игровой форме разницу между статусом школьника и дошкольни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ознакомить с правилами и обязанностями шк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76320"/>
            <a:ext cx="86076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3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Учимся договариваться.</a:t>
            </a:r>
            <a:br>
              <a:rPr sz="48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Правила “Поднятая рука”, “Мы готовы””</a:t>
            </a:r>
            <a:br>
              <a:rPr sz="4800"/>
            </a:b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879640"/>
            <a:ext cx="4200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Помочь детям освоить школьную норму обще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Уточнить возможности школьного обще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Познакомить с правилом «Поднятая ру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600" y="2879640"/>
            <a:ext cx="420048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равила общени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равила совместной деятельност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Умение слушать другого, договариваться, выражать свое согласие и несоглас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Введение прави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0760"/>
            <a:ext cx="860760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4</a:t>
            </a:r>
            <a:br>
              <a:rPr sz="6000"/>
            </a:br>
            <a:r>
              <a:rPr b="1" i="1" lang="en-GB" sz="4400" spc="-1" strike="noStrike">
                <a:solidFill>
                  <a:srgbClr val="280099"/>
                </a:solidFill>
                <a:latin typeface="Times New Roman"/>
              </a:rPr>
              <a:t>“Приветствие</a:t>
            </a:r>
            <a:r>
              <a:rPr b="1" lang="en-GB" sz="4400" spc="-1" strike="noStrike">
                <a:solidFill>
                  <a:srgbClr val="280099"/>
                </a:solidFill>
                <a:latin typeface="Times New Roman"/>
              </a:rPr>
              <a:t> </a:t>
            </a:r>
            <a:r>
              <a:rPr b="1" i="1" lang="en-GB" sz="4400" spc="-1" strike="noStrike">
                <a:solidFill>
                  <a:srgbClr val="280099"/>
                </a:solidFill>
                <a:latin typeface="Times New Roman"/>
              </a:rPr>
              <a:t>учителя.Форма устного ответа.”</a:t>
            </a:r>
            <a:br>
              <a:rPr sz="4800"/>
            </a:br>
            <a:endParaRPr b="1" i="1" lang="en-US" sz="4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879280"/>
            <a:ext cx="4200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Выработать школьное правило «Приветствие учителя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знакомить с правилами «Готов к уроку», «Урок оконче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Учимся хоровому ответу, цепоч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9520" y="2945880"/>
            <a:ext cx="420048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Выбор приветств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Продолжение знакомства с правил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Форма устного ответа: «хор», «цепочкой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Введение знаков : «хор», «цепочка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Рисование по теме «Семья» (диагностика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-179280"/>
            <a:ext cx="8607600" cy="25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5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Играем, общаемся,учимся жить дружно”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2160720"/>
            <a:ext cx="42004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вторить правила честной и дружной иг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Учить взаимодействовать в пар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знакомить с правилами общения в паре, правилами 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600" y="2340000"/>
            <a:ext cx="42004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Знакомство в пар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Игры «Зеркало», «Замороженный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Изобретение нового знака взаимодействия в паре (рисование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-63720"/>
            <a:ext cx="8607600" cy="35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6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Переживания, настроение, эмоции.Групповая форма работы”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3240000"/>
            <a:ext cx="4200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родолжить работу в пар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Учить взаимодействовать в группах (введение символов)</a:t>
            </a:r>
            <a:r>
              <a:rPr b="1" i="1" lang="ar-SA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Знакомство с видами эмо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9520" y="3419280"/>
            <a:ext cx="420048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сновные виды эмоции человека. Их проявление в мимике, жестах, поз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пределение своего эмоционального состояния (рисование «Цветок моего настроения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Обсуждение вопроса: Как можно улучшить настро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65200"/>
            <a:ext cx="86076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Проект ориентирования на удовлетворение: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отребностью школы в адаптации к школе будущих первоклассни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отребностью детей сориентироваться в пространстве школы, в умении осознавать и понимать новый статус школьни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6" descr="C:\Users\ирина\Desktop\ШРР\S6307061.JPG"/>
          <p:cNvPicPr/>
          <p:nvPr/>
        </p:nvPicPr>
        <p:blipFill>
          <a:blip r:embed="rId1"/>
          <a:stretch/>
        </p:blipFill>
        <p:spPr>
          <a:xfrm>
            <a:off x="5040360" y="2484360"/>
            <a:ext cx="475308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-173160"/>
            <a:ext cx="860760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7</a:t>
            </a:r>
            <a:br>
              <a:rPr sz="6000"/>
            </a:b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“</a:t>
            </a: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Оценка.Система оценивания”</a:t>
            </a:r>
            <a:br>
              <a:rPr sz="4800"/>
            </a:b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Формирование реалистического восприятия школьной оценк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Учить оценивать свою и чужую работу, формировать адекватную самооце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Повторение правил школьник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Знакомство с оценочной линейко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Оценивание учителем,товарища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Копирование по образц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Оценка работ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2640" indent="-3189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Символы и жесты по оцениванию себя придуманные деть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Занятие 8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Первоклассное путешествие”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339640"/>
            <a:ext cx="4200480" cy="54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вторить изученные прави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Закрепление положительного эмоционального отношения к школе, обучени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Познакомить со школьными предметами.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600" y="2340000"/>
            <a:ext cx="420048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Урок чтения. Разгадывание загадок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Инсценирование сказки «Репка»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Урок письма.                      Диагностик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Урок математики.              Конк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475920"/>
            <a:ext cx="8607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280099"/>
                </a:solidFill>
                <a:latin typeface="Times New Roman"/>
              </a:rPr>
              <a:t>Праздник</a:t>
            </a:r>
            <a:br>
              <a:rPr sz="6000"/>
            </a:br>
            <a:r>
              <a:rPr b="1" i="1" lang="en-GB" sz="4800" spc="-1" strike="noStrike">
                <a:solidFill>
                  <a:srgbClr val="280099"/>
                </a:solidFill>
                <a:latin typeface="Times New Roman"/>
              </a:rPr>
              <a:t>“Посвящение в ученика”</a:t>
            </a:r>
            <a:endParaRPr b="1" i="1" lang="en-US" sz="48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Закрепить положительное эмоциональное отношение к школе и обуч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Праздник совместно с родителя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Использовать сценки, стих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Организовать выставку рисунков детей «Я — ученик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Совместное чаепит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IMG_0997"/>
          <p:cNvPicPr/>
          <p:nvPr/>
        </p:nvPicPr>
        <p:blipFill>
          <a:blip r:embed="rId1"/>
          <a:stretch/>
        </p:blipFill>
        <p:spPr>
          <a:xfrm>
            <a:off x="1008000" y="5075280"/>
            <a:ext cx="396072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2400" y="5396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Литература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Начальная школа № 15, 2005г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Приложение к журналу «Начальная школа» №30, 1999г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Поливалова К.Н., Цукерман Г.А., «Введение в школьную жизнь»- «Учимся общаться с ребенком», 1993г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Колмогорова Л.С.  и др. «Человекозн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Смид Р. «Групповая работа с детьми и подростками»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Сартан Г.Н. «Тренинг самостоятельности у детей»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Фопель К. «Как научить детей сотрудничеств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-46440"/>
            <a:ext cx="8602920" cy="26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3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826920" y="2421000"/>
            <a:ext cx="7561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5" descr="G:\фотографии\кросс наций 2009\S6300041.JPG"/>
          <p:cNvPicPr/>
          <p:nvPr/>
        </p:nvPicPr>
        <p:blipFill>
          <a:blip r:embed="rId1"/>
          <a:stretch/>
        </p:blipFill>
        <p:spPr>
          <a:xfrm>
            <a:off x="2232000" y="3924360"/>
            <a:ext cx="484812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390600"/>
            <a:ext cx="8607600" cy="17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Объект проектирования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519280"/>
            <a:ext cx="8607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Занятия будущих первокласс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4" descr="C:\Users\ирина\Desktop\ШРР\S6307074.JPG"/>
          <p:cNvPicPr/>
          <p:nvPr/>
        </p:nvPicPr>
        <p:blipFill>
          <a:blip r:embed="rId1"/>
          <a:stretch/>
        </p:blipFill>
        <p:spPr>
          <a:xfrm>
            <a:off x="2232000" y="3348000"/>
            <a:ext cx="49690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414360"/>
            <a:ext cx="860760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Цели проектирования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720" y="252720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Создание системы занятий для детей подготовительных групп ДОУ, которая обеспечи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3" descr="C:\Users\ирина\Desktop\ШРР\S6307064.JPG"/>
          <p:cNvPicPr/>
          <p:nvPr/>
        </p:nvPicPr>
        <p:blipFill>
          <a:blip r:embed="rId1"/>
          <a:stretch/>
        </p:blipFill>
        <p:spPr>
          <a:xfrm>
            <a:off x="4824360" y="4284720"/>
            <a:ext cx="368784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C:\Users\ирина\Desktop\ШРР\S6307084.JPG"/>
          <p:cNvPicPr/>
          <p:nvPr/>
        </p:nvPicPr>
        <p:blipFill>
          <a:blip r:embed="rId2"/>
          <a:stretch/>
        </p:blipFill>
        <p:spPr>
          <a:xfrm>
            <a:off x="1079640" y="4356000"/>
            <a:ext cx="331308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Формирующие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340000"/>
            <a:ext cx="860760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Формирование положительной мотивации учения (создание ситуации успеха для каждого ученика)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3" descr="C:\Users\ирина\Desktop\ШРР\S6307081.JPG"/>
          <p:cNvPicPr/>
          <p:nvPr/>
        </p:nvPicPr>
        <p:blipFill>
          <a:blip r:embed="rId1"/>
          <a:stretch/>
        </p:blipFill>
        <p:spPr>
          <a:xfrm>
            <a:off x="4535640" y="4067280"/>
            <a:ext cx="453708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Обучающие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2400" y="2160360"/>
            <a:ext cx="860760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Обучение и знакомство с основными школьными правил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Создание положительного эмоционального климата в класс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Обучение детей способам снижения влияния своих страхов и стрес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Научить мыслить исследовать, анализиров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Воспитание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Научить принимать решения — самостоятельно и в группах ( в сотрудничестве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Учить принимать с уважением мнение другого человека, учить сочувств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634000" y="2101680"/>
            <a:ext cx="323388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Социальная группа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Дети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Учитель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Родите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00720" y="1979640"/>
            <a:ext cx="431928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280099"/>
                </a:solidFill>
                <a:latin typeface="Times New Roman"/>
              </a:rPr>
              <a:t>Уровень внедрения: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240000" y="2700360"/>
            <a:ext cx="521964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0-10-19T13:26:26Z</dcterms:modified>
  <cp:revision>4</cp:revision>
  <dc:subject/>
  <dc:title>Организация школы будущего первоклассника</dc:title>
</cp:coreProperties>
</file>