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AA353-430E-427B-8D0F-E23F58117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BEF5E-2AA2-4829-A942-E2D4C5A05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CC1C2-1910-4DB4-8799-323D33D36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96DF1-799C-470E-B65D-505E7EBDC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B9A55-D304-401F-8A32-E23D4BE0F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A447F-72EC-432A-B2A0-5AE6499EB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2B6E5-1359-4326-B3B3-B6A128E0B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8D919-0940-466B-92D8-1088ADA1F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DB1F8-4E9E-49C6-B779-49A67B08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0345F-76F4-495E-86F5-876262337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9A448-8343-4888-A3ED-C14FEF758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BAE5-7599-4E30-8D58-158CB4333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72F6-E9D7-4748-81EC-9B88900697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osmosblog.ru/wp-content/uploads/2010/02/12.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СКОРОСТЬ СВЕТА</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 descr="">
            <a:hlinkClick r:id="rId1"/>
          </p:cNvPr>
          <p:cNvPicPr/>
          <p:nvPr/>
        </p:nvPicPr>
        <p:blipFill>
          <a:blip r:embed="rId2"/>
          <a:stretch/>
        </p:blipFill>
        <p:spPr>
          <a:xfrm>
            <a:off x="1258920" y="1557360"/>
            <a:ext cx="6667560" cy="4829040"/>
          </a:xfrm>
          <a:prstGeom prst="rect">
            <a:avLst/>
          </a:prstGeom>
          <a:ln w="0">
            <a:noFill/>
          </a:ln>
        </p:spPr>
      </p:pic>
      <p:sp>
        <p:nvSpPr>
          <p:cNvPr id="44" name=""/>
          <p:cNvSpPr/>
          <p:nvPr/>
        </p:nvSpPr>
        <p:spPr>
          <a:xfrm>
            <a:off x="3595680" y="0"/>
            <a:ext cx="554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Астрономический метод измерения скорости света</a:t>
            </a:r>
            <a:endParaRPr b="0" lang="en-US" sz="3200" spc="-1" strike="noStrike">
              <a:solidFill>
                <a:srgbClr val="ffffff"/>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1676 г. – скорость света впервые удалось измерить датскому ученому О. Рёмеру.</a:t>
            </a:r>
            <a:endParaRPr b="0" lang="en-US" sz="2000" spc="-1" strike="noStrike">
              <a:solidFill>
                <a:srgbClr val="ffffff"/>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ёмер наблюдал затмения спутников Юпитера — самой большой планеты Солнечной системы. Юпитер в отличие от Земли имеет 14 спутников. Ближайший его спутник – Ио – стал предметом наблюдений Рёмера. </a:t>
            </a:r>
            <a:endParaRPr b="0" lang="en-US" sz="2000" spc="-1" strike="noStrike">
              <a:solidFill>
                <a:srgbClr val="ffffff"/>
              </a:solidFill>
              <a:latin typeface="Arial"/>
            </a:endParaRPr>
          </a:p>
        </p:txBody>
      </p:sp>
      <p:sp>
        <p:nvSpPr>
          <p:cNvPr id="4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Он видел, как спутник проходил перед планетой, а затем погружался в ее тень и пропадал из поля зрения. Затем он опять появлялся, как мгновенно вспыхнувшая лампа. Промежуток времени между двумя вспышками оказался равным 42 ч 28 мин. Т.о., эта «луна» представляла собой громадные небесные часы, через равные промежутки времени посылавшие свои сигналы на Землю.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8" name="" descr=""/>
          <p:cNvPicPr/>
          <p:nvPr/>
        </p:nvPicPr>
        <p:blipFill>
          <a:blip r:embed="rId1"/>
          <a:stretch/>
        </p:blipFill>
        <p:spPr>
          <a:xfrm>
            <a:off x="4410000" y="1484280"/>
            <a:ext cx="4734000" cy="4734000"/>
          </a:xfrm>
          <a:prstGeom prst="rect">
            <a:avLst/>
          </a:prstGeom>
          <a:ln w="0">
            <a:noFill/>
          </a:ln>
        </p:spPr>
      </p:pic>
    </p:spTree>
  </p:cSld>
  <p:transition>
    <p:pull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2000" fill="hold"/>
                                        <p:tgtEl>
                                          <p:spTgt spid="48"/>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9">
                                  <p:stCondLst>
                                    <p:cond delay="0"/>
                                  </p:stCondLst>
                                  <p:childTnLst>
                                    <p:animEffect filter="dissolve" transition="out">
                                      <p:cBhvr additive="repl">
                                        <p:cTn id="10" dur="500"/>
                                        <p:tgtEl>
                                          <p:spTgt spid="48"/>
                                        </p:tgtEl>
                                      </p:cBhvr>
                                    </p:animEffect>
                                    <p:set>
                                      <p:cBhvr>
                                        <p:cTn id="11" dur="1" fill="hold">
                                          <p:stCondLst>
                                            <p:cond delay="4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716000" y="189000"/>
            <a:ext cx="403884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Зная запаздывание появления Ио и расстояние, которым оно вызвано, можно определить скорость, разделив это расстояние на время запаздывания. Скорость оказалась чрезвычайно большой, примерно 300.000 км/с. Поэтому-то крайне трудно уловить время распространения света между двумя удаленными точками на Земле. Ведь за одну секунду свет проходит расстояние, большее длины земного экватора в 7,5 раза. </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2"/>
          <p:cNvSpPr>
            <a:spLocks noGrp="1"/>
          </p:cNvSpPr>
          <p:nvPr>
            <p:ph/>
          </p:nvPr>
        </p:nvSpPr>
        <p:spPr>
          <a:xfrm>
            <a:off x="539280" y="189000"/>
            <a:ext cx="4038840" cy="4525920"/>
          </a:xfrm>
          <a:prstGeom prst="rect">
            <a:avLst/>
          </a:prstGeom>
          <a:noFill/>
          <a:ln w="0">
            <a:noFill/>
          </a:ln>
        </p:spPr>
        <p:txBody>
          <a:bodyPr lIns="90000" rIns="90000" tIns="46800" bIns="46800" anchor="t">
            <a:normAutofit fontScale="83000"/>
          </a:bodyPr>
          <a:p>
            <a:pPr marL="284400" indent="-2844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ачале измерения производились в то время, когда Земля при своем движении вокруг Солнца ближе всего подошла к Юпитеру (рис. 1). Такие же измерения, проведенные несколько месяцев спустя, когда Земля удалилась от Юпитера, неожиданно показали, что спутник опоздал появиться из тени на целых 22 мин по сравнению с моментом времени, который можно было рассчитать на основании знания периода обращения Ио.</a:t>
            </a:r>
            <a:endParaRPr b="0" lang="en-US" sz="1800" spc="-1" strike="noStrike">
              <a:solidFill>
                <a:srgbClr val="ffffff"/>
              </a:solidFill>
              <a:latin typeface="Arial"/>
            </a:endParaRPr>
          </a:p>
          <a:p>
            <a:pPr marL="284400" indent="-28440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ёмер объяснял это так: «Если бы я мог остаться на другой стороне земной орбиты, то спутник всякий раз появлялся бы из тени в назначенное время, наблюдатель, находящийся там, увидел бы Ио на 22 мин раньше. Запаздывание в этом случае происходит от того, что свет употребляет 22 мин на прохождение от места моего первого наблюдения до моего теперешнего положения».</a:t>
            </a:r>
            <a:endParaRPr b="0" lang="en-US" sz="1800" spc="-1" strike="noStrike">
              <a:solidFill>
                <a:srgbClr val="ffffff"/>
              </a:solidFill>
              <a:latin typeface="Arial"/>
            </a:endParaRPr>
          </a:p>
          <a:p>
            <a:pPr marL="284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8102160" y="6308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23"/>
                </a:solidFill>
                <a:latin typeface="Arial"/>
              </a:rPr>
              <a:t>Рис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51"/>
                                        </p:tgtEl>
                                        <p:attrNameLst>
                                          <p:attrName>style.visibility</p:attrName>
                                        </p:attrNameLst>
                                      </p:cBhvr>
                                      <p:to>
                                        <p:strVal val="visible"/>
                                      </p:to>
                                    </p:set>
                                    <p:animEffect filter="checkerboard(across)" transition="in">
                                      <p:cBhvr additive="repl">
                                        <p:cTn id="1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Лабораторные методы измерения скорости света</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первые скорость света лабораторным методом удалось измерить французскому физику И. Физо в 1849 г.</a:t>
            </a:r>
            <a:endParaRPr b="0" lang="en-US" sz="1800" spc="-1" strike="noStrike">
              <a:solidFill>
                <a:srgbClr val="ffffff"/>
              </a:solidFill>
              <a:latin typeface="Arial"/>
            </a:endParaRPr>
          </a:p>
          <a:p>
            <a:pPr marL="312120" indent="-31212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опыте Физо свет от источника, пройдя через линзу, падал на полупрозрачную пластинку </a:t>
            </a:r>
            <a:r>
              <a:rPr b="0" i="1" lang="ru-RU" sz="1800" spc="-1" strike="noStrike">
                <a:solidFill>
                  <a:srgbClr val="ffffff"/>
                </a:solidFill>
                <a:latin typeface="Times New Roman"/>
              </a:rPr>
              <a:t>1</a:t>
            </a:r>
            <a:r>
              <a:rPr b="0" lang="ru-RU" sz="1800" spc="-1" strike="noStrike">
                <a:solidFill>
                  <a:srgbClr val="ffffff"/>
                </a:solidFill>
                <a:latin typeface="Times New Roman"/>
              </a:rPr>
              <a:t> (рис.2). После отражения от пластинки сфокусированный узкий пучок направлялся на периферию быстро вращающегося зубчатого колеса. Пройдя между зубцами, свет достигал зеркала 2, находившегося на расстоянии нескольких километров от колеса. Отразившись от зеркала, свет, прежде чем попасть в глаз наблюдателя, должен был пройти опять между зубцами. Когда колесо вращалось медленно, свет, отраженный от зеркала, был виден. При увеличении скорости вращения он постепенно исчезал. </a:t>
            </a:r>
            <a:endParaRPr b="0" lang="en-US" sz="1800" spc="-1" strike="noStrike">
              <a:solidFill>
                <a:srgbClr val="ffffff"/>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ка свет, прошедший между двумя зубцами, шел до зеркала и обратно, колесо успевало повернуться так, что на место прорези вставал зубец, и свет переставал быть видимым.</a:t>
            </a:r>
            <a:endParaRPr b="0" lang="en-US" sz="1800" spc="-1" strike="noStrike">
              <a:solidFill>
                <a:srgbClr val="ffffff"/>
              </a:solidFill>
              <a:latin typeface="Arial"/>
            </a:endParaRPr>
          </a:p>
          <a:p>
            <a:pPr marL="332640" indent="-33264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дальнейшем увеличении скорости вращения свет опять становился видимым. Очевидно, что за время распространения света до зеркала и обратно колесо успело повернуться настолько, что на место прежней прорези встала уже новая прорезь. </a:t>
            </a:r>
            <a:endParaRPr b="0" lang="en-US" sz="1800" spc="-1" strike="noStrike">
              <a:solidFill>
                <a:srgbClr val="ffffff"/>
              </a:solidFill>
              <a:latin typeface="Arial"/>
            </a:endParaRPr>
          </a:p>
          <a:p>
            <a:pPr marL="332640" indent="-33264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Зная это время и расстояние между колесом и зеркалом, можно определить скорость света. В опыте Физо расстояние равнялось 8,6 км и для скорости света было получено значение 313.000 км/с</a:t>
            </a:r>
            <a:r>
              <a:rPr b="0" lang="ru-RU" sz="1600" spc="-1" strike="noStrike">
                <a:solidFill>
                  <a:srgbClr val="ffffff"/>
                </a:solidFill>
                <a:latin typeface="Times New Roman"/>
              </a:rPr>
              <a:t>.</a:t>
            </a:r>
            <a:endParaRPr b="0" lang="en-US" sz="1600" spc="-1" strike="noStrike">
              <a:solidFill>
                <a:srgbClr val="ffffff"/>
              </a:solidFill>
              <a:latin typeface="Arial"/>
            </a:endParaRPr>
          </a:p>
          <a:p>
            <a:pPr marL="332640" indent="-332640">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endParaRPr b="0" lang="en-US" sz="1600" spc="-1" strike="noStrike">
              <a:solidFill>
                <a:srgbClr val="ffffff"/>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7886160" y="649116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1723"/>
                </a:solidFill>
                <a:latin typeface="Arial"/>
              </a:rPr>
              <a:t>Рис.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56"/>
                                        </p:tgtEl>
                                        <p:attrNameLst>
                                          <p:attrName>style.visibility</p:attrName>
                                        </p:attrNameLst>
                                      </p:cBhvr>
                                      <p:to>
                                        <p:strVal val="visible"/>
                                      </p:to>
                                    </p:set>
                                    <p:animEffect filter="diamond(in)" transition="in">
                                      <p:cBhvr additive="repl">
                                        <p:cTn id="25" dur="2000"/>
                                        <p:tgtEl>
                                          <p:spTgt spid="5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5" presetSubtype="10">
                                  <p:stCondLst>
                                    <p:cond delay="0"/>
                                  </p:stCondLst>
                                  <p:childTnLst>
                                    <p:animEffect filter="checkerboard(across)" transition="out">
                                      <p:cBhvr additive="repl">
                                        <p:cTn id="29" dur="500"/>
                                        <p:tgtEl>
                                          <p:spTgt spid="56"/>
                                        </p:tgtEl>
                                      </p:cBhvr>
                                    </p:animEffect>
                                    <p:set>
                                      <p:cBhvr>
                                        <p:cTn id="30" dur="1" fill="hold">
                                          <p:stCondLst>
                                            <p:cond delay="4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Заключение</a:t>
            </a:r>
            <a:endParaRPr b="0" lang="en-US" sz="2800" spc="-1" strike="noStrike">
              <a:solidFill>
                <a:srgbClr val="ff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Было разработано еще много других, более точных лабораторных методов измерения скорости света. В частности, американский физик А. Майкельсон разработал совершенный метод измерения скорости света с применением вращающихся зеркал.</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Была измерена скорость в различных прозрачных веществах. Скорость света в воде была измерена в 1856 г. Она оказалась в 4/3 раза меньше, чем в вакууме. Во всех других веществах она также меньше, чем в вакуум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Но современным данным, скорость света в вакууме равна 299.792.458 м/с с точностью ± 1,2 м/с. Приближенно скорость света можно считать равной 3·10</a:t>
            </a:r>
            <a:r>
              <a:rPr b="0" lang="en-US" sz="2000" spc="-1" strike="noStrike" baseline="30000">
                <a:solidFill>
                  <a:srgbClr val="ffffff"/>
                </a:solidFill>
                <a:latin typeface="Times New Roman"/>
              </a:rPr>
              <a:t>8</a:t>
            </a:r>
            <a:r>
              <a:rPr b="0" lang="en-US" sz="2000" spc="-1" strike="noStrike">
                <a:solidFill>
                  <a:srgbClr val="ffffff"/>
                </a:solidFill>
                <a:latin typeface="Times New Roman"/>
              </a:rPr>
              <a:t> м/с. Это значение скорости света нужно обязательно запомнить.</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4T21:22:37Z</dcterms:created>
  <dc:creator>Admin</dc:creator>
  <dc:description/>
  <dc:language>en-US</dc:language>
  <cp:lastModifiedBy>Admin</cp:lastModifiedBy>
  <dcterms:modified xsi:type="dcterms:W3CDTF">2011-11-18T20:48:00Z</dcterms:modified>
  <cp:revision>5</cp:revision>
  <dc:subject/>
  <dc:title>Слайд 1</dc:title>
</cp:coreProperties>
</file>