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E803-6860-413A-B24F-49654214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627B-F76D-4742-BCD8-D27F2E45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45D4-3CFA-42C9-855B-1DDDF8BB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867B-1657-41AA-B32A-19F47473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15D2-DCE6-4C5A-8944-5669DA8E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69D5-EFC8-4BD5-9B76-2E75BDE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5CF6-9083-4183-8440-1A6A553C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0B29-EBE5-401D-BD81-F8BFDAC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9D97-0378-49BC-97BB-BEE285EE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7E71-5F61-4EC6-B2DC-951B9E6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8FD9-E852-4A9E-AAE0-5C49D7B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3711-70C9-4848-830E-B19316A3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F38-1EC2-41B9-8406-F307F19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341-6422-4A4A-B927-F0B0C0D6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AA41-1581-4E31-A888-B6058DBC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E45B-E147-4D14-BE77-EC92A173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6ADF-4B94-4419-A25B-DAB34F82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D4AB-8091-48FD-AFC0-987A2B8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348E-C174-4432-AF19-6689775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E465-8007-467A-8441-7DB4DB3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B7BA-E0D4-4E9C-B297-B249E303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D083-A77B-4399-9F83-E45B64A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7E3B0-7ECF-4F1F-BB8C-63F3ECA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D88A-983E-47EA-98EA-1A30A74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50A2-AA7D-480A-B23B-CE61A8527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8AC-BFC9-4A7F-AE7B-94866D04D9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tid=4530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WordArt 2"/>
          <p:cNvSpPr txBox="1"/>
          <p:nvPr/>
        </p:nvSpPr>
        <p:spPr>
          <a:xfrm rot="21297600">
            <a:off x="2788920" y="1074600"/>
            <a:ext cx="38005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лан Милн</a:t>
            </a:r>
            <a:endParaRPr b="1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WordArt 3"/>
          <p:cNvSpPr txBox="1"/>
          <p:nvPr/>
        </p:nvSpPr>
        <p:spPr>
          <a:xfrm rot="21309600">
            <a:off x="1644120" y="18129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Винни – Пух»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1944720" cy="28321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56000" y="378900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Гордеева Ю.В.,</a:t>
            </a:r>
            <a:br>
              <a:rPr sz="4400"/>
            </a:b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 учитель начальных классов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 rot="21344400">
            <a:off x="1476000" y="87264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Книжки о медвежонке Пухе были переведены на </a:t>
            </a:r>
            <a:r>
              <a:rPr b="0" lang="ru-RU" sz="2400" spc="-1" strike="noStrike">
                <a:solidFill>
                  <a:srgbClr val="ff3300"/>
                </a:solidFill>
                <a:latin typeface="Bookman Old Style"/>
              </a:rPr>
              <a:t>25 языков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и заняли свое место в сердцах и на полках миллионов читателей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930527756"/>
          <p:cNvPicPr/>
          <p:nvPr/>
        </p:nvPicPr>
        <p:blipFill>
          <a:blip r:embed="rId1"/>
          <a:stretch/>
        </p:blipFill>
        <p:spPr>
          <a:xfrm rot="21319200">
            <a:off x="1258920" y="2491920"/>
            <a:ext cx="129996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3" name="Picture 6" descr="930527757"/>
          <p:cNvPicPr/>
          <p:nvPr/>
        </p:nvPicPr>
        <p:blipFill>
          <a:blip r:embed="rId2"/>
          <a:stretch/>
        </p:blipFill>
        <p:spPr>
          <a:xfrm rot="21256800">
            <a:off x="6588000" y="1989000"/>
            <a:ext cx="1282680" cy="1943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4" name="Picture 7" descr="1000444745"/>
          <p:cNvPicPr/>
          <p:nvPr/>
        </p:nvPicPr>
        <p:blipFill>
          <a:blip r:embed="rId3"/>
          <a:stretch/>
        </p:blipFill>
        <p:spPr>
          <a:xfrm rot="21254400">
            <a:off x="2987280" y="2349360"/>
            <a:ext cx="1505160" cy="20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5" name="Picture 11" descr="1000607618"/>
          <p:cNvPicPr/>
          <p:nvPr/>
        </p:nvPicPr>
        <p:blipFill>
          <a:blip r:embed="rId4"/>
          <a:stretch/>
        </p:blipFill>
        <p:spPr>
          <a:xfrm rot="21290400">
            <a:off x="4787640" y="2133720"/>
            <a:ext cx="1473120" cy="194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6" name="Picture 12" descr="1000583341"/>
          <p:cNvPicPr/>
          <p:nvPr/>
        </p:nvPicPr>
        <p:blipFill>
          <a:blip r:embed="rId5"/>
          <a:stretch/>
        </p:blipFill>
        <p:spPr>
          <a:xfrm rot="21280200">
            <a:off x="6300720" y="3716280"/>
            <a:ext cx="1548000" cy="201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7" name="Picture 13" descr="1000484471"/>
          <p:cNvPicPr/>
          <p:nvPr/>
        </p:nvPicPr>
        <p:blipFill>
          <a:blip r:embed="rId6"/>
          <a:stretch/>
        </p:blipFill>
        <p:spPr>
          <a:xfrm rot="21207000">
            <a:off x="2916000" y="4076280"/>
            <a:ext cx="15206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8" name="Picture 14" descr="1000620665"/>
          <p:cNvPicPr/>
          <p:nvPr/>
        </p:nvPicPr>
        <p:blipFill>
          <a:blip r:embed="rId7"/>
          <a:stretch/>
        </p:blipFill>
        <p:spPr>
          <a:xfrm rot="21231000">
            <a:off x="4643280" y="3860640"/>
            <a:ext cx="1455840" cy="20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 rot="21342000">
            <a:off x="826560" y="1305360"/>
            <a:ext cx="756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 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Приключения медвежонка Винни любимы как взрослыми, так и детьми. Проведенный в 1996г. опрос, устроенный английским радио показал, что эта книга заняла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17 место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в списке наиболее ярких и значительных произведений, опубликованных в двадцатом веке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5" descr="main_img_f"/>
          <p:cNvPicPr/>
          <p:nvPr/>
        </p:nvPicPr>
        <p:blipFill>
          <a:blip r:embed="rId1"/>
          <a:stretch/>
        </p:blipFill>
        <p:spPr>
          <a:xfrm rot="21295200">
            <a:off x="4236840" y="3614400"/>
            <a:ext cx="2232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 rot="21331800">
            <a:off x="900000" y="101592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   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1985</a:t>
            </a:r>
            <a:r>
              <a:rPr b="0" lang="ru-RU" sz="2400" spc="-1" strike="noStrike">
                <a:solidFill>
                  <a:srgbClr val="cc0099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году, Винни-Пух был блистательно переведен на русский язык </a:t>
            </a:r>
            <a:r>
              <a:rPr b="1" lang="ru-RU" sz="2400" spc="-1" strike="noStrike">
                <a:solidFill>
                  <a:srgbClr val="9900cc"/>
                </a:solidFill>
                <a:latin typeface="Bookman Old Style"/>
              </a:rPr>
              <a:t>Борисом Заходером.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Всякий, кто владеет двумя языками, может подтвердить, что перевод был сделан с изощренной точностью и гениальной изобретатель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6" descr="zahoder1"/>
          <p:cNvPicPr/>
          <p:nvPr/>
        </p:nvPicPr>
        <p:blipFill>
          <a:blip r:embed="rId1">
            <a:alphaModFix amt="60000"/>
          </a:blip>
          <a:stretch/>
        </p:blipFill>
        <p:spPr>
          <a:xfrm rot="21282600">
            <a:off x="5292360" y="2708280"/>
            <a:ext cx="2125800" cy="2806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77"/>
          <p:cNvPicPr/>
          <p:nvPr/>
        </p:nvPicPr>
        <p:blipFill>
          <a:blip r:embed="rId1"/>
          <a:stretch/>
        </p:blipFill>
        <p:spPr>
          <a:xfrm rot="21343800">
            <a:off x="5867280" y="620640"/>
            <a:ext cx="21369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WordArt 5"/>
          <p:cNvSpPr txBox="1"/>
          <p:nvPr/>
        </p:nvSpPr>
        <p:spPr>
          <a:xfrm rot="21295200">
            <a:off x="1476360" y="1628280"/>
            <a:ext cx="38131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.Хитрука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Text Box 6"/>
          <p:cNvSpPr/>
          <p:nvPr/>
        </p:nvSpPr>
        <p:spPr>
          <a:xfrm rot="21320400">
            <a:off x="1688760" y="90756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Мультфиль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 rot="21320400">
            <a:off x="971640" y="2420640"/>
            <a:ext cx="48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снят по сценарию Бориса Заходе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 rot="21320400">
            <a:off x="2771640" y="3500280"/>
            <a:ext cx="5521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В нём много песенок Винни-Пуха. Их придумал Борис Захо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 rot="21320400">
            <a:off x="971280" y="764640"/>
            <a:ext cx="731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Прежде чем читать песенки, давайте послушаем, как исполняет их «наш» Винни – Пух – артист </a:t>
            </a:r>
            <a:r>
              <a:rPr b="1" lang="ru-RU" sz="4000" spc="-1" strike="noStrike">
                <a:solidFill>
                  <a:srgbClr val="ffc000"/>
                </a:solidFill>
                <a:latin typeface="Bookman Old Style"/>
              </a:rPr>
              <a:t>Евгений Леонов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6" descr="Евгений Леонов">
            <a:hlinkClick r:id="rId1"/>
          </p:cNvPr>
          <p:cNvPicPr/>
          <p:nvPr/>
        </p:nvPicPr>
        <p:blipFill>
          <a:blip r:embed="rId2"/>
          <a:stretch/>
        </p:blipFill>
        <p:spPr>
          <a:xfrm rot="21269400">
            <a:off x="4571640" y="4005360"/>
            <a:ext cx="1887480" cy="18874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Как называет свои песенки Винни – П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1403280" y="476280"/>
            <a:ext cx="556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c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втора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ffc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919600" y="907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енка – загад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79840" y="1413000"/>
            <a:ext cx="556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уда ид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ы с пятачком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льшой-большой секр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не расскажем мы о нё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-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нет-нет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чем шагаем мы вдвоё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куда и ку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кретов мы не выдаё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т – н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Верней, да-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 rot="21360600">
            <a:off x="3805200" y="5457600"/>
            <a:ext cx="453564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Что смешного в этой песе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8796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WordArt 4"/>
          <p:cNvSpPr txBox="1"/>
          <p:nvPr/>
        </p:nvSpPr>
        <p:spPr>
          <a:xfrm rot="21328200">
            <a:off x="1835280" y="1267920"/>
            <a:ext cx="547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сенка третья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AutoShape 5"/>
          <p:cNvSpPr/>
          <p:nvPr/>
        </p:nvSpPr>
        <p:spPr>
          <a:xfrm rot="21360600">
            <a:off x="3276720" y="4508280"/>
            <a:ext cx="4535280" cy="865080"/>
          </a:xfrm>
          <a:prstGeom prst="wedgeRoundRectCallout">
            <a:avLst>
              <a:gd name="adj1" fmla="val 58240"/>
              <a:gd name="adj2" fmla="val -17930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Bookman Old Style"/>
              </a:rPr>
              <a:t>Почему надо ходить в гости по утра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 rot="21388800">
            <a:off x="971280" y="234900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Прочитайте песенку самостоя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Стр. 1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5"/>
          <p:cNvSpPr/>
          <p:nvPr/>
        </p:nvSpPr>
        <p:spPr>
          <a:xfrm rot="21319800">
            <a:off x="1400040" y="181728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Приготовьте выразительное чтение песенок. Может бы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кто- нибудь может спеть одну из н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Стр. 133 - 13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WordArt 6"/>
          <p:cNvSpPr txBox="1"/>
          <p:nvPr/>
        </p:nvSpPr>
        <p:spPr>
          <a:xfrm rot="21280800">
            <a:off x="1692360" y="112500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ыразительное чтение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Text Box 5"/>
          <p:cNvSpPr/>
          <p:nvPr/>
        </p:nvSpPr>
        <p:spPr>
          <a:xfrm rot="21346200">
            <a:off x="2637360" y="1266840"/>
            <a:ext cx="59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то же сочинил песенки Винни-Пух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А.Милн или Б.Заходер? Зач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блемный вопрос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55" name="Picture 1" descr=""/>
          <p:cNvPicPr/>
          <p:nvPr/>
        </p:nvPicPr>
        <p:blipFill>
          <a:blip r:embed="rId1"/>
          <a:stretch/>
        </p:blipFill>
        <p:spPr>
          <a:xfrm rot="372000">
            <a:off x="5292720" y="2997000"/>
            <a:ext cx="2305080" cy="3314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 rot="21118800">
            <a:off x="539640" y="3213000"/>
            <a:ext cx="2303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 rot="21280800">
            <a:off x="1692360" y="907560"/>
            <a:ext cx="5904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539640" y="2550960"/>
            <a:ext cx="7777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О каких сказочных человечках мы чит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Кто вам больше всего понравился? Ч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ую сказку вам захотелось прочитать пол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 rot="21300600">
            <a:off x="3216600" y="405000"/>
            <a:ext cx="564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Он и весел и незлоб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т милый чудачо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С ним хозяин – мальчик Роб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приятель – Пятач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Для него прогулка – празд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И на мёд особый ню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Это плюшевый проказ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Bookman Old Style"/>
              </a:rPr>
              <a:t>Медвежонок 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 rot="21277200">
            <a:off x="4085280" y="46720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Bookman Old Style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51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WordArt 4"/>
          <p:cNvSpPr txBox="1"/>
          <p:nvPr/>
        </p:nvSpPr>
        <p:spPr>
          <a:xfrm rot="21280800">
            <a:off x="1730160" y="904680"/>
            <a:ext cx="590364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</a:t>
            </a:r>
            <a:endParaRPr b="0" lang="en-US" sz="2800" spc="1" strike="noStrike">
              <a:ln w="190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Text Box 5"/>
          <p:cNvSpPr/>
          <p:nvPr/>
        </p:nvSpPr>
        <p:spPr>
          <a:xfrm rot="21319800">
            <a:off x="1475640" y="31158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Выучите наизусть понравившуюся песен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Стр. 133 - 1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ассказы о героях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инни-Пу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44400" y="2174760"/>
            <a:ext cx="3665520" cy="39513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01920" y="1483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ятач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2"/>
          <a:stretch/>
        </p:blipFill>
        <p:spPr>
          <a:xfrm>
            <a:off x="5276880" y="2174760"/>
            <a:ext cx="27781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6"/>
          <p:cNvSpPr/>
          <p:nvPr/>
        </p:nvSpPr>
        <p:spPr>
          <a:xfrm rot="21304800">
            <a:off x="1476360" y="78228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Читая сказку, каждый из вас представлял себе своего медвежонка. По-разному представляют себе главных героев сказки худож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7" descr="33"/>
          <p:cNvPicPr/>
          <p:nvPr/>
        </p:nvPicPr>
        <p:blipFill>
          <a:blip r:embed="rId1"/>
          <a:stretch/>
        </p:blipFill>
        <p:spPr>
          <a:xfrm rot="21285000">
            <a:off x="3635280" y="2492280"/>
            <a:ext cx="1604880" cy="1666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0174"/>
          <p:cNvPicPr/>
          <p:nvPr/>
        </p:nvPicPr>
        <p:blipFill>
          <a:blip r:embed="rId2"/>
          <a:stretch/>
        </p:blipFill>
        <p:spPr>
          <a:xfrm rot="21160800">
            <a:off x="5940000" y="2205000"/>
            <a:ext cx="1633680" cy="1657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4"/>
          <p:cNvPicPr/>
          <p:nvPr/>
        </p:nvPicPr>
        <p:blipFill>
          <a:blip r:embed="rId3"/>
          <a:stretch/>
        </p:blipFill>
        <p:spPr>
          <a:xfrm rot="21217200">
            <a:off x="4211280" y="4365720"/>
            <a:ext cx="944640" cy="1528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6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796000" y="4076640"/>
            <a:ext cx="1257120" cy="17845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1000444745"/>
          <p:cNvPicPr/>
          <p:nvPr/>
        </p:nvPicPr>
        <p:blipFill>
          <a:blip r:embed="rId5"/>
          <a:stretch/>
        </p:blipFill>
        <p:spPr>
          <a:xfrm rot="21239400">
            <a:off x="1979640" y="2707920"/>
            <a:ext cx="1306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ультфильм «Винни-Пух»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мериканский</a:t>
            </a:r>
            <a:r>
              <a:rPr b="1" lang="ru-RU" sz="2400" spc="-1" strike="noStrike">
                <a:solidFill>
                  <a:srgbClr val="01008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457200" y="2535120"/>
            <a:ext cx="4040280" cy="3232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Рус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4645080" y="2519280"/>
            <a:ext cx="4041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"/>
          <p:cNvSpPr/>
          <p:nvPr/>
        </p:nvSpPr>
        <p:spPr>
          <a:xfrm rot="21346200">
            <a:off x="1332000" y="980640"/>
            <a:ext cx="62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Чем различаются в двух мультфильмах герои сказ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 rot="21346200">
            <a:off x="1476360" y="2636640"/>
            <a:ext cx="62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акой мультфильм вам понравился больше и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7"/>
          <p:cNvPicPr/>
          <p:nvPr/>
        </p:nvPicPr>
        <p:blipFill>
          <a:blip r:embed="rId1"/>
          <a:stretch/>
        </p:blipFill>
        <p:spPr>
          <a:xfrm>
            <a:off x="4716360" y="907920"/>
            <a:ext cx="3279960" cy="3961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 rot="21327000">
            <a:off x="1115640" y="104940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Шотландец по происхождению, </a:t>
            </a: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Алан Александр Милн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овел свое детство в Лондоне, где его отец работал в школе.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 rot="21293400">
            <a:off x="971280" y="3428640"/>
            <a:ext cx="4033800" cy="27795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416" name="Rectangle 7"/>
          <p:cNvSpPr/>
          <p:nvPr/>
        </p:nvSpPr>
        <p:spPr>
          <a:xfrm rot="21186000">
            <a:off x="5293080" y="465300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(1882 – 195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 rot="21279000">
            <a:off x="2842920" y="431856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lang="ru-RU" sz="2400" spc="-1" strike="noStrike">
                <a:solidFill>
                  <a:srgbClr val="cc0099"/>
                </a:solidFill>
                <a:latin typeface="Bookman Old Style"/>
              </a:rPr>
              <a:t>1913 </a:t>
            </a: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году Милн женился на Дороти Дафне де Селинкот, от этого брака родился один сын, Кристоф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222"/>
          <p:cNvPicPr/>
          <p:nvPr/>
        </p:nvPicPr>
        <p:blipFill>
          <a:blip r:embed="rId1"/>
          <a:stretch/>
        </p:blipFill>
        <p:spPr>
          <a:xfrm rot="21267600">
            <a:off x="2916000" y="907560"/>
            <a:ext cx="3600360" cy="331812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 rot="21275400">
            <a:off x="1331640" y="1125720"/>
            <a:ext cx="64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man Old Style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   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ва года спустя, в 1926 году появилась первая версия Медвежонка с опилками в голове </a:t>
            </a:r>
            <a:r>
              <a:rPr b="0" lang="ru-RU" sz="2800" spc="-1" strike="noStrike">
                <a:solidFill>
                  <a:srgbClr val="0100b4"/>
                </a:solidFill>
                <a:latin typeface="Bookman Old Style"/>
              </a:rPr>
              <a:t>(по-английски - Медведь-с-очень-маленькими-мозгами)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"Винни-Пух".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3105000" y="1981080"/>
            <a:ext cx="293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12:58Z</dcterms:created>
  <dc:creator>user</dc:creator>
  <dc:description/>
  <dc:language>en-US</dc:language>
  <cp:lastModifiedBy>Юлия</cp:lastModifiedBy>
  <dcterms:modified xsi:type="dcterms:W3CDTF">2011-11-23T12:19:10Z</dcterms:modified>
  <cp:revision>24</cp:revision>
  <dc:subject/>
  <dc:title>Слайд 1</dc:title>
</cp:coreProperties>
</file>