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1222-176D-4AC1-A726-3F57E9C1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B85C-01F5-40F6-A836-00784EC2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ACF-CF76-4DEC-989D-792C56C4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2F3-5C0C-4FCA-8052-A68316CE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8C26-92ED-422B-9D8F-7EC6F3C1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4E2C-1E15-4753-8D78-B79C2284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3153-09FD-4034-8505-EF1756CC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8E62-400B-4B43-8031-56A62A85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16D3-E52D-44F5-94E2-A12F3A62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B7C5-EBC5-4B66-BBA6-701D1522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C729-2B33-4E35-87C7-D777318C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0684-5EA5-4ED0-96A1-8E58E394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889B-F449-4A8B-BF2B-03224544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6548-E4CA-440D-A1CD-697023BC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41B6-7EC7-458A-9F70-A19B6247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BCBC-4A8F-4DFA-975B-EE276A71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E83B-4B5D-4B94-85AD-B084CB5E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2AB2-B501-4600-BCBD-7D0AB891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D9C4-2808-4817-9ED5-7F6A0AAA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BC6-E982-481E-BBB6-65121173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057-DD21-4FC0-B14B-B82506BC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38E-B8F8-4A5F-86D3-3E743ABB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2455-314E-49A1-9A7A-8061E855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18E-E42D-40E3-AE38-E07AF921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7461-14ED-473E-A9CD-3489EB3CD9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4769-60A3-4C77-A2FD-0B684B599DB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c0c0"/>
                </a:solidFill>
                <a:latin typeface="Arial"/>
              </a:rPr>
              <a:t>Муниципальное специальное (коррекционное) образовательное учреждение для обучающихся, воспитанников</a:t>
            </a:r>
            <a:br>
              <a:rPr sz="1800"/>
            </a:br>
            <a:r>
              <a:rPr b="0" lang="ru-RU" sz="1800" spc="-1" strike="noStrike">
                <a:solidFill>
                  <a:srgbClr val="c0c0c0"/>
                </a:solidFill>
                <a:latin typeface="Arial"/>
              </a:rPr>
              <a:t>с ограниченными возможностями здоровья специальная (коррекционная) общеобразовательная школа-интернат </a:t>
            </a: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c0c0c0"/>
                </a:solidFill>
                <a:latin typeface="Arial"/>
              </a:rPr>
              <a:t> вида </a:t>
            </a:r>
            <a:br>
              <a:rPr sz="1800"/>
            </a:br>
            <a:r>
              <a:rPr b="0" lang="ru-RU" sz="1800" spc="-1" strike="noStrike">
                <a:solidFill>
                  <a:srgbClr val="c0c0c0"/>
                </a:solidFill>
                <a:latin typeface="Arial"/>
              </a:rPr>
              <a:t>г. Советска Кировской области</a:t>
            </a: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8600" y="2057400"/>
            <a:ext cx="8686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 человечества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1160" y="4800600"/>
            <a:ext cx="34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а ученица 12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паева Оль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– Софронова В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20600" y="628488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тск, 2011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71600" y="3429000"/>
            <a:ext cx="647712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кологическая проблем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153280" cy="353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c0c0"/>
                </a:solidFill>
                <a:latin typeface="Arial Unicode MS"/>
              </a:rPr>
              <a:t>Использованная человеком вода в конечном счете возвращается в природную среду. Но, кроме испарившейся, это уже не чистая вода, а бытовая, промышленные и сельскохозяйственные сточные воды, обычно не очищенные или очищенные недостаточно. Таким образом, происходит загрязнение пресноводных водоемов – рек, озер, суши и прибрежных участков морей</a:t>
            </a: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22" name="Picture 6" descr="m_1198587561"/>
          <p:cNvPicPr/>
          <p:nvPr/>
        </p:nvPicPr>
        <p:blipFill>
          <a:blip r:embed="rId1"/>
          <a:stretch/>
        </p:blipFill>
        <p:spPr>
          <a:xfrm>
            <a:off x="1600200" y="3200400"/>
            <a:ext cx="6172200" cy="342900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Три вида загрязнения вод: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457200" y="2209680"/>
            <a:ext cx="4114800" cy="152424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иологиче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5"/>
          <p:cNvSpPr/>
          <p:nvPr/>
        </p:nvSpPr>
        <p:spPr>
          <a:xfrm>
            <a:off x="2590920" y="4419720"/>
            <a:ext cx="449568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из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4876920" y="2133720"/>
            <a:ext cx="4267080" cy="167616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им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380880" y="2057400"/>
            <a:ext cx="411480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иолог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10"/>
          <p:cNvSpPr/>
          <p:nvPr/>
        </p:nvSpPr>
        <p:spPr>
          <a:xfrm>
            <a:off x="2362320" y="4343400"/>
            <a:ext cx="449568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изическ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9448920" cy="3989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c0c0"/>
                </a:solidFill>
                <a:latin typeface="Arial Unicode MS"/>
              </a:rPr>
              <a:t>Загрязнение океанов и морей происходит вследствие поступления загрязняющих веществ с речными стоками, их выпадения из атмосферы и, наконец, благодаря деятельности человека. </a:t>
            </a:r>
            <a:br>
              <a:rPr sz="2000"/>
            </a:br>
            <a:r>
              <a:rPr b="1" i="1" lang="en-US" sz="2000" spc="-1" strike="noStrike">
                <a:solidFill>
                  <a:srgbClr val="c0c0c0"/>
                </a:solidFill>
                <a:latin typeface="Arial Unicode MS"/>
              </a:rPr>
              <a:t>Особое место в загрязнении океанов занимает загрязнение нефтью и нефтепродуктами. Естественное загрязнение происходит в результате просачивания нефти из нефтеносных слоев, главным образом, на шельфе. </a:t>
            </a:r>
            <a:br>
              <a:rPr sz="2000"/>
            </a:br>
            <a:r>
              <a:rPr b="1" i="1" lang="en-US" sz="2000" spc="-1" strike="noStrike">
                <a:solidFill>
                  <a:srgbClr val="c0c0c0"/>
                </a:solidFill>
                <a:latin typeface="Arial Unicode MS"/>
              </a:rPr>
              <a:t>Наибольший вклад в нефтяное загрязнение океана вносят морские перевозки нефти, а также внезапные разливы больших количеств нефти при авариях танкеров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31" name="Picture 8" descr="microsoil"/>
          <p:cNvPicPr/>
          <p:nvPr/>
        </p:nvPicPr>
        <p:blipFill>
          <a:blip r:embed="rId1"/>
          <a:stretch/>
        </p:blipFill>
        <p:spPr>
          <a:xfrm>
            <a:off x="1676520" y="3809880"/>
            <a:ext cx="5715000" cy="2819520"/>
          </a:xfrm>
          <a:prstGeom prst="rect">
            <a:avLst/>
          </a:prstGeom>
          <a:ln w="76320">
            <a:solidFill>
              <a:srgbClr val="c1ff8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c0c0"/>
                </a:solidFill>
                <a:latin typeface="Arial Unicode MS"/>
              </a:rPr>
              <a:t>В среднем в атмосфере Земли ежесекундно образуется и исчезает около 100 т. озона. Даже при небольшом повышении дозы у человека появляется ожоги на кожи. Заболевания раком кожи, а также болезни глаз, приводит к слепоте, связано с ростом интенсивности УФ - радиации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33" name="Picture 6" descr="uv_rays"/>
          <p:cNvPicPr/>
          <p:nvPr/>
        </p:nvPicPr>
        <p:blipFill>
          <a:blip r:embed="rId1"/>
          <a:stretch/>
        </p:blipFill>
        <p:spPr>
          <a:xfrm>
            <a:off x="2382840" y="2286000"/>
            <a:ext cx="4210200" cy="4362480"/>
          </a:xfrm>
          <a:prstGeom prst="rect">
            <a:avLst/>
          </a:prstGeom>
          <a:ln w="76320">
            <a:solidFill>
              <a:srgbClr val="c1ff8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c0c0"/>
                </a:solidFill>
                <a:latin typeface="Arial Unicode MS"/>
              </a:rPr>
              <a:t>Биологическое действие УФ радиации обусловлено высокой чувствительностью нуклеиновых кислот, которые могут разрушаться, что приводит к гибели клеток или возникновению мутаций. Мир узнал о глобальной экологической проблеме “озоновых дыр”. В первую очередь разрушение озонового слоя является все более развивающиеся гражданская авиация и химические производства. Применения азотных удобрений в сельском хозяйстве; хлорирование питьевой воды, широкое использование фреонов холодильных установках, для тушения пожаров, в качестве растворителей и в аэрозолях привело к тому, что миллионы тонн хлорфторметанов поступают в нижний слой атмосферы в виде бесцветного нейтрального газа. Распространяясь вверх, хлорфторменторметаны под действием УФ – излучения разрушаются, выделяя фтор и хлор, которые активно вступают в процессы разрушения озона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c0c0"/>
                </a:solidFill>
                <a:latin typeface="Arial Unicode MS"/>
              </a:rPr>
              <a:t>Проблема кислотных дождей. При изучении кислотных дождей нужно, прежде всего, ответить на два основных вопроса: что является причиной кислотных дождей и, как они воздействуют на окружающую среду. Ежегодно в атмосферу Земли выбрасывается около 200 мил. твердых частиц (пыль, сажа, и др.) 200 мил. т. сернистого газа (SO2), 700.мил. т. оксида углерода , 150.мил. т. оксидов азота (Noх), что в сумме составляет более 1 млрд. т. вредных веществ. Кислотные дожди (или, более правильно), кислотные осадки, так как выпадение вредных веществ может происходить как в виде дождя, так и в виде снега, града, наносят экологический, экономический и эстетический ущерб. 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36" name="Picture 6" descr="rain3"/>
          <p:cNvPicPr/>
          <p:nvPr/>
        </p:nvPicPr>
        <p:blipFill>
          <a:blip r:embed="rId1"/>
          <a:stretch/>
        </p:blipFill>
        <p:spPr>
          <a:xfrm>
            <a:off x="1143000" y="3581280"/>
            <a:ext cx="6705720" cy="3276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0c0c0"/>
                </a:solidFill>
                <a:uFillTx/>
                <a:latin typeface="Arial"/>
              </a:rPr>
              <a:t>Пути решения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Все глобальные проблемы современности тесно связаны друг с другом и взаимно обусловлены, так что изолированное решение их практически невозможно. Так, обеспечение дальнейшего экономического развития человечества природными ресурсами заведомо предполагает предотвращение нарастающего загрязнения окружающей среды, иначе это уже в обозримом будущем приведет к экологической катастрофе в планетарных масштабах. Именно поэтому обе эти глобальные проблемы справедливо называют экологическими и даже с определенным основанием рассматривают как две стороны единой экологической проблемы. В свою очередь, эту экологическую проблему может решить лишь на пути нового типа экологического развития, плодотворно используя потенциал научно- технической революции, одновременно предотвращая ее отрицательные последств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381880" cy="452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И хотя темпы экологического роста за истекшие четыре десятилетия в целом в развивающихся времени этот разрыв увеличился. 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c0c0c0"/>
                </a:solidFill>
                <a:latin typeface="Arial Unicode MS"/>
              </a:rPr>
              <a:t>Статистические расчеты показывают: если бы ежегодный прирост населения в развивающихся стран был таким же, как в развитых, то контраст между ними по уровню дохода на душу населения сократился бы к настоящему времени. До 1:8 и мог бы оказаться в сопоставимых размерах на душу населения вдвое выше, чем сейчас. Однако сам этот “демографический взрыв” в развивающиеся странах, как считают ученые, обусловлен их сохраняющейся экономической, социальной и культурной отсталостью. Неспособность человечества развить хотя бы одну из глобальных проблем самым отрицательным образом повлияет на возможность решения всем остальных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c0c0"/>
                </a:solidFill>
                <a:latin typeface="Arial Unicode MS"/>
              </a:rPr>
              <a:t>В представлении некоторых западных ученых взаимосвязь и взаимообуслоленость глобальных проблем образуют некий “порочный круг” неразрешимых для человечества бедствий, из которого либо вообще нет выхода, либо единственное спасение состоит в немедленном прекращении экологического роста и роста населения. Такой подход к глобальным проблемам сопровождается различными алармистскими, пессимистическими прогнозами будущего человечества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0c0c0"/>
                </a:solidFill>
                <a:uFillTx/>
                <a:latin typeface="Arial"/>
              </a:rPr>
              <a:t>Заключение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 Unicode MS"/>
              </a:rPr>
              <a:t>На современном этапе развития человечества столкнулось, быть может, с наиболее горячей проблемой – как сохранить природу, поскольку никто не знает, когда и в каком виде можно подвинуться экологической катастрофе. А человечество еще даже близко не подошло к созданию общемирового механизма регулирования природопользователя, но продолжает уничтожать колоссальные дары природы. Нет сомнения, что изобретательный человеческий ум в конце, концов все же найдет им замену. Но вот человеческий организм, выдержит ли он, сможет ли он приспособится к ненормальным условиям жизни?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aff1a"/>
                </a:solidFill>
                <a:latin typeface="Arial"/>
              </a:rPr>
              <a:t>Разрушение природной среды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04" name="Picture 5" descr="fon%20lend%20"/>
          <p:cNvPicPr/>
          <p:nvPr/>
        </p:nvPicPr>
        <p:blipFill>
          <a:blip r:embed="rId1"/>
          <a:stretch/>
        </p:blipFill>
        <p:spPr>
          <a:xfrm>
            <a:off x="304920" y="1371600"/>
            <a:ext cx="86104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7848360" cy="942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c0c0"/>
                </a:solidFill>
                <a:latin typeface="Arial Unicode MS"/>
              </a:rPr>
              <a:t>Гибельно это не только для природы, но и для человека и его культуры, которая во все времена придавала гармонию отношениям человека с природой. Поэтому создать новую искусственную среду означало бы уничтожить и культуру. </a:t>
            </a:r>
            <a:br>
              <a:rPr sz="1800"/>
            </a:br>
            <a:r>
              <a:rPr b="1" i="1" lang="ru-RU" sz="1800" spc="-1" strike="noStrike">
                <a:solidFill>
                  <a:srgbClr val="c0c0c0"/>
                </a:solidFill>
                <a:latin typeface="Arial Unicode MS"/>
              </a:rPr>
              <a:t>Человек не может существовать без природы не только физически (телесно), что само собой разумеется, но и духовно. </a:t>
            </a:r>
            <a:br>
              <a:rPr sz="1800"/>
            </a:br>
            <a:r>
              <a:rPr b="1" i="1" lang="ru-RU" sz="1800" spc="-1" strike="noStrike">
                <a:solidFill>
                  <a:srgbClr val="c0c0c0"/>
                </a:solidFill>
                <a:latin typeface="Arial Unicode MS"/>
              </a:rPr>
              <a:t>Смысл современности экологической этики заключается в том, чтобы поставить над ценностью природопреобразовательной деятельности высшие нравственные ценности человека. При этом принцип ценностного равноправия всего живого (равноценности) предстает как основа экологической этики.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44" name="Picture 6" descr="%D0%9F%D1%80%D0%B8%D1%80%D0%BE%D0%B4%D0%B0%20%D0%9A%D0%B0%D1%80%D0%B5%D0%BB%D0%B8%D0%B8%201"/>
          <p:cNvPicPr/>
          <p:nvPr/>
        </p:nvPicPr>
        <p:blipFill>
          <a:blip r:embed="rId1"/>
          <a:stretch/>
        </p:blipFill>
        <p:spPr>
          <a:xfrm>
            <a:off x="1066680" y="3338640"/>
            <a:ext cx="7010640" cy="351936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40671641c5cf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61722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2057400"/>
            <a:ext cx="86104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0c0c0"/>
                </a:solidFill>
                <a:uFillTx/>
                <a:latin typeface="Arial"/>
              </a:rPr>
              <a:t>Введение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сегодняшний день самой большой и опасной проблемой является истощение и разрушение природной среды, нарушение внутри нее экологического равновесия в результате растущей и плохо контролируемой деятельностью людей. Исключительный вред приносят производственные и транспортные катастрофы, которые ведут к массовой гибели живых организмов, заражению и загрязнению мирового океана, атмосферы, почвы. Но еще большее негативное воздействие оказывают непрерывные выбросы вредных веществ в окружающую сре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0c0c0"/>
                </a:solidFill>
                <a:uFillTx/>
                <a:latin typeface="Arial"/>
              </a:rPr>
              <a:t>Причины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 Unicode MS"/>
              </a:rPr>
              <a:t>Во-первых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 Unicode MS"/>
              </a:rPr>
              <a:t>сильное влияние людей. Люди порой очень расточительно используют природные богатства, в следствие чего начинается дефицит сырья и топли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ecologiy_zagryznenie1"/>
          <p:cNvPicPr/>
          <p:nvPr/>
        </p:nvPicPr>
        <p:blipFill>
          <a:blip r:embed="rId1"/>
          <a:stretch/>
        </p:blipFill>
        <p:spPr>
          <a:xfrm>
            <a:off x="685800" y="2666880"/>
            <a:ext cx="7772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277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Unicode MS"/>
              </a:rPr>
              <a:t>Во-вторых, исчезают многие виды животных и растений, что ведёт к появлению опасных микроорганизмов, нарушается природный баланс, радиоактивные выбросы ведут к мутации особей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11" name="Picture 8" descr="bacillus_anthracis"/>
          <p:cNvPicPr/>
          <p:nvPr/>
        </p:nvPicPr>
        <p:blipFill>
          <a:blip r:embed="rId1"/>
          <a:stretch/>
        </p:blipFill>
        <p:spPr>
          <a:xfrm>
            <a:off x="4876920" y="3276720"/>
            <a:ext cx="3619440" cy="3114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112" name="Picture 10" descr="1236711893_bakr"/>
          <p:cNvPicPr/>
          <p:nvPr/>
        </p:nvPicPr>
        <p:blipFill>
          <a:blip r:embed="rId2"/>
          <a:stretch/>
        </p:blipFill>
        <p:spPr>
          <a:xfrm>
            <a:off x="608040" y="3273480"/>
            <a:ext cx="3621240" cy="3125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246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Unicode MS"/>
              </a:rPr>
              <a:t>В-третьих, люди населяют землю  городами, и природные ландшафты, реки, озёра, леса превращаются в бетонные своды. Также большое влияние оказывает парниковый эффект.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14" name="Picture 8" descr="08-1"/>
          <p:cNvPicPr/>
          <p:nvPr/>
        </p:nvPicPr>
        <p:blipFill>
          <a:blip r:embed="rId1"/>
          <a:stretch/>
        </p:blipFill>
        <p:spPr>
          <a:xfrm>
            <a:off x="1523880" y="2819520"/>
            <a:ext cx="5715000" cy="3809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27432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0c0c0"/>
                </a:solidFill>
                <a:uFillTx/>
                <a:latin typeface="Arial"/>
              </a:rPr>
              <a:t>Сут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3429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 Unicode MS"/>
              </a:rPr>
              <a:t>Наиболее распространенные загрязнители атмосферы поступают в нее в</a:t>
            </a:r>
            <a:r>
              <a:rPr b="1" i="1" lang="en-US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Arial Unicode MS"/>
              </a:rPr>
              <a:t>основном в двух видах: либо в виде взвешенных частиц, либо в виде газ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 Unicode MS"/>
              </a:rPr>
              <a:t>Углекислый газ. В результате сжигания топлива, а также производства цемента в атмосферу поступает огромное количество этого газа. Сам этот газ не ядови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 Unicode MS"/>
              </a:rPr>
              <a:t>Угарный газ. Сжигание топлива, которое создает большую часть газообразных, да и аэрозольных загрязнений атмосферы, служит источником другого углеродного соединения – угарного газ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2"/>
          <p:cNvPicPr/>
          <p:nvPr/>
        </p:nvPicPr>
        <p:blipFill>
          <a:blip r:embed="rId1"/>
          <a:stretch/>
        </p:blipFill>
        <p:spPr>
          <a:xfrm>
            <a:off x="4343400" y="990720"/>
            <a:ext cx="4572000" cy="41148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0c0c0"/>
                </a:solidFill>
                <a:latin typeface="Arial Unicode MS"/>
              </a:rPr>
              <a:t>Углеводороды, поступающие в атмосферу в результате деятельности человека, составляют небольшую долю от углеводородов естественного происхождения, но загрязнение ими имеет весьма важное значение. Их поступление в атмосферу может происходить на любой стадии производства, обработки, хранения, перевозки и использования веществ и материалов, содержащих углеводород. </a:t>
            </a:r>
            <a:br>
              <a:rPr sz="1700"/>
            </a:br>
            <a:r>
              <a:rPr b="1" i="1" lang="ru-RU" sz="1700" spc="-1" strike="noStrike">
                <a:solidFill>
                  <a:srgbClr val="c0c0c0"/>
                </a:solidFill>
                <a:latin typeface="Arial Unicode MS"/>
              </a:rPr>
              <a:t>Сернистый газ. Загрязнение атмосферы соединениями серы имеет важные экологические последствия. Главные источники сернистого газа – вулканическая деятельность, а также процессы окисления сероводорода и других соединений серы. . </a:t>
            </a:r>
            <a:br>
              <a:rPr sz="1700"/>
            </a:br>
            <a:r>
              <a:rPr b="1" i="1" lang="ru-RU" sz="1700" spc="-1" strike="noStrike">
                <a:solidFill>
                  <a:srgbClr val="c0c0c0"/>
                </a:solidFill>
                <a:latin typeface="Arial Unicode MS"/>
              </a:rPr>
              <a:t>Аэрозолевые частицы, поступают в атмосферу из естественных источников. </a:t>
            </a:r>
            <a:br>
              <a:rPr sz="1700"/>
            </a:br>
            <a:endParaRPr b="0" lang="en-US" sz="17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19" name="Picture 6" descr="acec59f97e964f232fb03afb17f6e83a_full1"/>
          <p:cNvPicPr/>
          <p:nvPr/>
        </p:nvPicPr>
        <p:blipFill>
          <a:blip r:embed="rId1"/>
          <a:stretch/>
        </p:blipFill>
        <p:spPr>
          <a:xfrm>
            <a:off x="1371600" y="3581280"/>
            <a:ext cx="6248520" cy="3276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819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c0c0"/>
                </a:solidFill>
                <a:latin typeface="Arial Unicode MS"/>
              </a:rPr>
              <a:t>Почти все загрязняющие вещества, которые первоначально попали в атмосферу, в конечном итоге оказываются на поверхности суши и воды. Оседающие аэрозоли могут содержать ядовитые тяжелые металлы – свинец, ртуть, медь, ванадий, кобальт, никель. Обычно они малоподвижны и накапливаются в почве. Но в почву попадают с дождями также кислоты. Соединяясь с ним, металлы могут переходить в растворимые соединения, доступные растениям. В растворимые формы переходят также вещества, постоянно присутствующие в почве, что иногда приводит к гибели растений. 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T Department</cp:lastModifiedBy>
  <dcterms:modified xsi:type="dcterms:W3CDTF">2011-04-26T08:54:2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