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BCA-18A3-4944-9DB1-A7C01BF3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A1D-91A0-41BB-BD60-3505185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01B-3080-490B-889E-4773FEF3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FD7-41CD-4D3B-B819-3D907A20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A697-4354-4642-9428-80C4AB0C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88A-962A-4BAC-B575-8BD9268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B141-1E59-4703-B137-68EBCF75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F82-0282-4751-B14C-EDDDC39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AA3-86F1-4AB1-A329-6C6603B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7F55-C9A7-4168-A5D4-0E9D82A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4314-0D7D-44E0-854B-EE73006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3E8-898E-4BC4-B5EA-F9E43239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008D-17C2-4C61-8759-682A52F6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5303-62D4-4D3A-9F1C-366A0E9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2E89-4A08-4371-996C-D8AFD97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125A-8A54-4B23-B7D2-DE53DDAA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227-3EEE-427C-8C02-31402AAB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320-CF8D-4EBD-B1C3-0995C06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790-77C7-4456-910D-A0EA5A6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97E-95DC-401E-B8D5-5E52FA8C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BF0-0D90-4F54-8390-6070539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40D-0713-4ECC-8CB1-E12ABCC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A5D-B7CE-42F3-ABFA-B2135E7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A12-6974-4A3C-9D84-80ACF68E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C07-21F0-4B71-9830-5EE14205C6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73E-65F7-47F9-BA23-B7BE26506E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Муниципальное специальное (коррекционное) образовательное учреждение для обучающихся, воспитанников</a:t>
            </a:r>
            <a:br>
              <a:rPr sz="1800"/>
            </a:b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с ограниченными возможностями здоровья специальная (коррекционная) общеобразовательная школа-интернат </a:t>
            </a: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 вида </a:t>
            </a:r>
            <a:br>
              <a:rPr sz="1800"/>
            </a:b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г. Советска Кировской области</a:t>
            </a: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2057400"/>
            <a:ext cx="8686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 человечеств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1160" y="4800600"/>
            <a:ext cx="34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ученица 12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паева Оль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– Софронова В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20600" y="62848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тск, 2011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3429000"/>
            <a:ext cx="647712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кологическая проблем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353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2" name="Picture 6" descr="m_1198587561"/>
          <p:cNvPicPr/>
          <p:nvPr/>
        </p:nvPicPr>
        <p:blipFill>
          <a:blip r:embed="rId1"/>
          <a:stretch/>
        </p:blipFill>
        <p:spPr>
          <a:xfrm>
            <a:off x="1600200" y="3200400"/>
            <a:ext cx="6172200" cy="34290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1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3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c0c0"/>
                </a:solidFill>
                <a:latin typeface="Arial Unicode MS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6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 Unicode MS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c0c0"/>
                </a:solidFill>
                <a:latin typeface="Arial Unicode MS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4" name="Picture 5" descr="fon%20lend%20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2057400"/>
            <a:ext cx="8610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0c0c0"/>
                </a:solidFill>
                <a:uFillTx/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Во-первых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ecologiy_zagryznenie1"/>
          <p:cNvPicPr/>
          <p:nvPr/>
        </p:nvPicPr>
        <p:blipFill>
          <a:blip r:embed="rId1"/>
          <a:stretch/>
        </p:blipFill>
        <p:spPr>
          <a:xfrm>
            <a:off x="685800" y="266688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Во-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1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2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В-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4" name="Picture 8" descr="08-1"/>
          <p:cNvPicPr/>
          <p:nvPr/>
        </p:nvPicPr>
        <p:blipFill>
          <a:blip r:embed="rId1"/>
          <a:stretch/>
        </p:blipFill>
        <p:spPr>
          <a:xfrm>
            <a:off x="1523880" y="2819520"/>
            <a:ext cx="571500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7432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3429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Наиболее распространенные загрязнители атмосферы поступают в нее в</a:t>
            </a:r>
            <a:r>
              <a:rPr b="1" i="1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2"/>
          <p:cNvPicPr/>
          <p:nvPr/>
        </p:nvPicPr>
        <p:blipFill>
          <a:blip r:embed="rId1"/>
          <a:stretch/>
        </p:blipFill>
        <p:spPr>
          <a:xfrm>
            <a:off x="4343400" y="990720"/>
            <a:ext cx="4572000" cy="4114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c0c0"/>
                </a:solidFill>
                <a:latin typeface="Arial Unicode MS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i="1" lang="ru-RU" sz="1700" spc="-1" strike="noStrike">
                <a:solidFill>
                  <a:srgbClr val="c0c0c0"/>
                </a:solidFill>
                <a:latin typeface="Arial Unicode MS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i="1" lang="ru-RU" sz="1700" spc="-1" strike="noStrike">
                <a:solidFill>
                  <a:srgbClr val="c0c0c0"/>
                </a:solidFill>
                <a:latin typeface="Arial Unicode MS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9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c0"/>
                </a:solidFill>
                <a:latin typeface="Arial Unicode MS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 Department</cp:lastModifiedBy>
  <dcterms:modified xsi:type="dcterms:W3CDTF">2011-04-26T08:54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