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9A489-7CB2-438E-AA9A-BBAD7AEBD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2F758-0C62-45A9-85FB-E33DA8864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7D50D-DE5B-4AAE-8A6D-B60F05671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1813B-8989-4331-96BC-F235FB2BE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F6AA82-7EEC-441C-98C7-C6FE4296D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555BFE-9D6A-4EBE-AF69-197BEB01F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6038DE-03C3-4998-8D60-B431C086C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2C0231-2716-4478-AC74-C7B7DEFD4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F83781-A3F5-4437-AEB5-8F89BCB56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E6CD6E-5850-4749-B813-2F3F10EBB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4FB7F5-912A-4341-B29A-CCE482DCE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31116-8495-4746-83A9-5E97A64C5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5D1AF6-C6A5-4231-8125-1B9DD56F6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64F2AC-4644-4BD8-9FC0-6B470C632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B0D150-C4BF-4DF8-9E2D-59E14ACD7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5D237E-9623-4031-BAC3-DB54898E5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E468F6-29B5-41EC-BA64-B31F8BC57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38660-E4A1-495F-9930-EFA1CC176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3D506-1564-4976-AEEB-F3553F09C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832AC-8798-4A0D-839A-9D55182F0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68E4C-71E1-4D8B-91AC-4D3BC3E0B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086C5-51B1-4CA4-9B15-6D00A6468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F93E5-6037-4F37-AB79-0F3C121F9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D02B8-22E7-4778-8BB6-34A05256F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71553-8A07-4C3D-94F1-E35A980A078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B875E-6623-437E-8092-4F7F8241055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 rot="21172200">
            <a:off x="7920" y="981000"/>
            <a:ext cx="8020080" cy="496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Down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Белгородские святын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724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ahoma"/>
              </a:rPr>
              <a:t>Михайловская церковь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49360"/>
            <a:ext cx="822960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Церковь была построена в 1844 году  в пригородной слободе Пушкарное на средства прихожан и белгородского купца Михаила Константиновича Мачурина. Каменная церковь двухпрестольная: главный престол освящён во имя Архистратига Михаила, второй (приставной) – преподобной мученицы Великой княгини Елизаветы. Иконостас Михайловской церкви изготовлен в 19 веке. Выполнен в барочном стиле, состоит из четырёх ярусов. В начале 20 века церковь насчитывала 1855 прихожан, при ней имелась церковно-приходская школа. Церковь действующая. Является памятником архитектуры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2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2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1979640" y="-531720"/>
            <a:ext cx="5688000" cy="78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4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972720" cy="227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ff0000"/>
                </a:solidFill>
                <a:uFillTx/>
                <a:latin typeface="Tahoma"/>
              </a:rPr>
              <a:t>Спасо-Преображенский собор</a:t>
            </a:r>
            <a:r>
              <a:rPr b="1" lang="en-US" sz="5400" spc="-1" strike="noStrike" u="sng">
                <a:solidFill>
                  <a:srgbClr val="ff0000"/>
                </a:solidFill>
                <a:uFillTx/>
                <a:latin typeface="Times New Roman"/>
              </a:rPr>
              <a:t>.</a:t>
            </a:r>
            <a:br>
              <a:rPr sz="5400"/>
            </a:b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(Белгородская область, город Губкин)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420640"/>
            <a:ext cx="8229600" cy="44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Спасо-Преображенский собор, второй по величине в России после Храма Христа Спасителя в Москве, является символом примирения людей разных стран и вероисповеданий, увековечившим в сердцах потомков память о погибших на этой многострадальной земле во время второй мировой войны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Архитектурно Спаско-Преображенский собор представляет собой пяти-купольное здание, образующее в плане форму креста. Высота более 50 м. Одновременно в главном зале храма могут разместиться более 2500 человек. Средства на строительство были получены путём многочисленных пожертвований и взносов – их собрано около 2 млн. долларов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9 сентября 1996 года прошла торжественная церемония освящения  Святейшим Патриархом Московским и Всея Руси АЛЕКСИЕМ  Вторым  Спаско-Преображенского собор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2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2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2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2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2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2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7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433080" cy="731664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324000" y="0"/>
            <a:ext cx="446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До революции в Белгороде было  два монастыря и два десятка церквей.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В 1995 году в области был 141 хра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В 2005 году насчитывается 258 храмо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457200" y="291600"/>
            <a:ext cx="8229600" cy="572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"/>
          <p:cNvSpPr/>
          <p:nvPr/>
        </p:nvSpPr>
        <p:spPr>
          <a:xfrm>
            <a:off x="250920" y="1023480"/>
            <a:ext cx="8642160" cy="53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Белые церкви светлеются издали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Благовествуя о мире ином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Живы ещё проповедники Истины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И золотые кресты нас в бессмертье зовут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                                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Иеромонах Роман (Матюшин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20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20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20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20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4000"/>
                            </p:stCondLst>
                            <p:childTnLst>
                              <p:par>
                                <p:cTn id="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2000" fill="hold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2000" fill="hold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6000"/>
                            </p:stCondLst>
                            <p:childTnLst>
                              <p:par>
                                <p:cTn id="2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2000" fill="hold"/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2000" fill="hold"/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8000"/>
                            </p:stCondLst>
                            <p:childTnLst>
                              <p:par>
                                <p:cTn id="3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2000" fill="hold"/>
                                        <p:tgtEl>
                                          <p:spTgt spid="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2000" fill="hold"/>
                                        <p:tgtEl>
                                          <p:spTgt spid="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95280" y="274320"/>
            <a:ext cx="829152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 u="sng">
                <a:solidFill>
                  <a:srgbClr val="ff0000"/>
                </a:solidFill>
                <a:uFillTx/>
                <a:latin typeface="Tahoma"/>
              </a:rPr>
              <a:t>Преображенский</a:t>
            </a:r>
            <a:r>
              <a:rPr b="0" i="1" lang="en-US" sz="5400" spc="-1" strike="noStrike" u="sng">
                <a:solidFill>
                  <a:srgbClr val="ff0000"/>
                </a:solidFill>
                <a:uFillTx/>
                <a:latin typeface="Tahoma"/>
              </a:rPr>
              <a:t> </a:t>
            </a:r>
            <a:r>
              <a:rPr b="1" i="1" lang="en-US" sz="5400" spc="-1" strike="noStrike" u="sng">
                <a:solidFill>
                  <a:srgbClr val="ff0000"/>
                </a:solidFill>
                <a:uFillTx/>
                <a:latin typeface="Tahoma"/>
              </a:rPr>
              <a:t>кафедральный</a:t>
            </a:r>
            <a:r>
              <a:rPr b="0" i="1" lang="en-US" sz="5400" spc="-1" strike="noStrike" u="sng">
                <a:solidFill>
                  <a:srgbClr val="ff0000"/>
                </a:solidFill>
                <a:uFillTx/>
                <a:latin typeface="Tahoma"/>
              </a:rPr>
              <a:t> </a:t>
            </a:r>
            <a:r>
              <a:rPr b="1" i="1" lang="en-US" sz="5400" spc="-1" strike="noStrike" u="sng">
                <a:solidFill>
                  <a:srgbClr val="ff0000"/>
                </a:solidFill>
                <a:uFillTx/>
                <a:latin typeface="Tahoma"/>
              </a:rPr>
              <a:t>собор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68360" y="2708280"/>
            <a:ext cx="822960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Это главный храм Белгородской епархии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В своём современном виде Преображенский собор был освящён в 1813 году. Принято считать,  что каменный храм построен в честь победы русских войск над Наполеоном. В1962 году собор был закрыт, и в 1973 году в его помещении был открыт краеведческий музей. Музей размещался в Преображенском соборе 17 лет, и только с 1990 года началась поэтапная передача здания церкв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В Преображенском соборе хранятся две главные святыни Белгородской земли:   нетленные мощи Святителя Иосафа и Чудотворная Икона Николая Ратного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2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2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2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2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20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20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9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 u="sng">
                <a:solidFill>
                  <a:srgbClr val="ff0000"/>
                </a:solidFill>
                <a:uFillTx/>
                <a:latin typeface="Tahoma"/>
              </a:rPr>
              <a:t>Смоленский собор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0" y="1773000"/>
            <a:ext cx="86868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            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В 1705 году была построена первая Смоленская деревянная церковь, а в 1727 году с благословения Преосвященного Архиепископа Белгородского Петра заложена двухэтажная каменная церковь: в нижнем этаже с престолом Смоленской иконы Пресвятой Богородицы; в верхнем этаже с Престолом первоверховных апостолов Петра и Павла. В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XIX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веке церковь претерпела значительные изменения. После 1917 года церковь была разграблена, в ней размещался склад. В годы Великой Отечественной войны церковь была значительно разрушена. В 1958году и 1974 году предпринимались попытки окончательно разрушить храм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             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В конце 1980-х гг. начались работы по его восстановлению. В 1992 году он передан церкви. 13 декабря 1994 года после завершения восстановления 1-го этажа был освещён нижний храм, а 11 июля 1996 года отреставрированный верхний храм. В апреле 1995 года на колокольню храма были подняты уникальные работы современных русских мастеров колокола, с чудесным ясным голосом. При соборе действует воскресная школа для детей и взрослых, открыты курсы псаломщиков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2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2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2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2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6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 u="sng">
                <a:solidFill>
                  <a:srgbClr val="ff0000"/>
                </a:solidFill>
                <a:uFillTx/>
                <a:latin typeface="Tahoma"/>
              </a:rPr>
              <a:t>Покровский храм.</a:t>
            </a:r>
            <a:br>
              <a:rPr sz="6000"/>
            </a:br>
            <a:r>
              <a:rPr b="1" i="1" lang="en-US" sz="4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4800" spc="-1" strike="noStrike">
                <a:solidFill>
                  <a:srgbClr val="cc3300"/>
                </a:solidFill>
                <a:latin typeface="Times New Roman"/>
              </a:rPr>
              <a:t>(Марфо – Мариинский женский монастырь)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3240000"/>
            <a:ext cx="8229600" cy="277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Покровская церковь впервые упоминается в 1626 году в Писарских книгах города Белгорода. Последнее писание о древней деревянной церкви относится к 1791 году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В советское время здание церкви использовалось как помещение механических мастерских. Реставрационные работы начаты в 1991году. В 1993 году храм из села Зимовеньки  был перенесён в центр Марфо-Мариинской обители.В1998 году, после реставрации, открылся и Марфо-Мариинский монастырь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2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2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2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2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1547640" y="-603360"/>
            <a:ext cx="6121440" cy="8064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3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2296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 u="sng">
                <a:solidFill>
                  <a:srgbClr val="ff0000"/>
                </a:solidFill>
                <a:uFillTx/>
                <a:latin typeface="Tahoma"/>
              </a:rPr>
              <a:t>Иоасафский собор</a:t>
            </a:r>
            <a:br>
              <a:rPr sz="6000"/>
            </a:b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cc3300"/>
                </a:solidFill>
                <a:latin typeface="Times New Roman"/>
              </a:rPr>
              <a:t>(Кладбищно-Николаевская церковь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349000"/>
            <a:ext cx="82296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Здание Кладбищно-Николаевской церкви, возведено в 1799 году на средство прихожан. В 1837 году к ней пристроена трапеза, а в 1867 году расширен алтарь и пределы. В начале 20 века место её расположения – Новое русское кладбище, как указано на плане Белгорода 1911 года,- было городской окраиной, и поэтому, укрытая кронами деревьев она не смогла привлечь к себе пристального внимания и всё время оставалась действующей. Поскольку в ней совершались только отпевания и панихиды, она была бесприходной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Запустение коснулось храма в послевоенные, 40-е годы, в 1947 году был разобран весь верхний  ярус отдельно стоящей коло-кольни.В 1962 году церковь была переименована в Иоасафский собор До 1990г.  ее остов перекрывала железная кровля, входной проем оставался заложен кирпичной кладкой. Сейчас восстановлен верхний ярус звонницы и ее завершение. Теперь это действующая приходская соборная церковь с престолом в честь св.Иоасафа Белгородского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2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2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2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2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18:33:29Z</dcterms:created>
  <dc:creator>1</dc:creator>
  <dc:description/>
  <dc:language>en-US</dc:language>
  <cp:lastModifiedBy>Emachies</cp:lastModifiedBy>
  <dcterms:modified xsi:type="dcterms:W3CDTF">2011-11-22T21:43:39Z</dcterms:modified>
  <cp:revision>26</cp:revision>
  <dc:subject/>
  <dc:title>Слайд 1</dc:title>
</cp:coreProperties>
</file>