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FC91-C401-4E07-AAA0-15F36ACF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73A4-97FF-4E71-95AA-285E81FF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1E96-F858-4745-8029-AC3B3608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3448-512E-4CB3-AC39-DF2D5049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33E92-868C-4CDE-A5D4-41572F50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060DA-118B-40A3-AE51-CC75694B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EB97D-D88C-4159-9A9A-12ED3AD9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A9EDA-5AF6-44D2-8EDD-9C2EC327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13CBF-5DCF-40DE-A28C-EED701F8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A4AB2-8A00-4C9E-B140-96FA9913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E8981-39BC-4454-85AD-A8B04D3F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2E03-2CB1-4DBE-83CD-3B67D4A2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C6A3A-1E89-4607-A2A2-0572116D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A7FC2-F0BA-43B5-8A4A-336CE1AA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76BED-075B-48B0-9690-89B184F1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AD435-B1B5-4CCF-8B83-55A12761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CA56A-119F-4962-AF7E-6236DB14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A897-6FCF-4289-8117-4BDFE9BE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EBF9-6895-4AC0-A9D3-9537AD46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24B3-1123-454A-84DF-3AFD8BC4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4F04-9A2B-44A9-AE83-B42075E7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5984-CF16-458A-B3A0-4BCE9226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2741-3D4F-4B83-A407-40206028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A803-E8CB-41FB-BBCB-6F216C1B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2D9D-B43A-4AC2-B665-C7C2EA4719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1631-0618-4BCE-9CE2-68A6CEC7D2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 rot="21172200">
            <a:off x="7920" y="981000"/>
            <a:ext cx="8020080" cy="49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елгородские святын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ahoma"/>
              </a:rPr>
              <a:t>Михайловская церковь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Церковь была построена в 1844 году  в пригородной слободе Пушкарное на средства прихожан и белгородского купца Михаила Константиновича Мачурина. Каменная церковь двухпрестольная: главный престол освящён во имя Архистратига Михаила, второй (приставной) – преподобной мученицы Великой княгини Елизаветы. Иконостас Михайловской церкви изготовлен в 19 веке. Выполнен в барочном стиле, состоит из четырёх ярусов. В начале 20 века церковь насчитывала 1855 прихожан, при ней имелась церковно-приходская школа. Церковь действующая. Является памятником архитектур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979640" y="-531720"/>
            <a:ext cx="5688000" cy="78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7272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Спасо-Преображенский собор</a:t>
            </a:r>
            <a:r>
              <a:rPr b="1" lang="en-US" sz="5400" spc="-1" strike="noStrike" u="sng">
                <a:solidFill>
                  <a:srgbClr val="ff0000"/>
                </a:solidFill>
                <a:uFillTx/>
                <a:latin typeface="Times New Roman"/>
              </a:rPr>
              <a:t>.</a:t>
            </a:r>
            <a:br>
              <a:rPr sz="5400"/>
            </a:b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(Белгородская область, город Губкин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пасо-Преображенский собор, второй по величине в России после Храма Христа Спасителя в Москве, является символом примирения людей разных стран и вероисповеданий, увековечившим в сердцах потомков память о погибших на этой многострадальной земле во время второй мировой вой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рхитектурно Спаско-Преображенский собор представляет собой пяти-купольное здание, образующее в плане форму креста. Высота более 50 м. Одновременно в главном зале храма могут разместиться более 2500 человек. Средства на строительство были получены путём многочисленных пожертвований и взносов – их собрано около 2 млн. доллар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9 сентября 1996 года прошла торжественная церемония освящения  Святейшим Патриархом Московским и Всея Руси АЛЕКСИЕМ  Вторым  Спаско-Преображенского собор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33080" cy="7316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4000" y="0"/>
            <a:ext cx="44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До революции в Белгороде было  два монастыря и два десятка церквей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 1995 году в области был 141 хр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 2005 году насчитывается 258 храм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1023480"/>
            <a:ext cx="864216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Белые церкви светлеются издал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Благовествуя о мире ино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Живы ещё проповедники Истин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И золотые кресты нас в бессмертье зову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Иеромонах Роман (Матюши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Преображенский</a:t>
            </a:r>
            <a:r>
              <a:rPr b="0" i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кафедральный</a:t>
            </a:r>
            <a:r>
              <a:rPr b="0" i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собо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Это главный храм Белгородской епарх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своём современном виде Преображенский собор был освящён в 1813 году. Принято считать,  что каменный храм построен в честь победы русских войск над Наполеоном. В1962 году собор был закрыт, и в 1973 году в его помещении был открыт краеведческий музей. Музей размещался в Преображенском соборе 17 лет, и только с 1990 года началась поэтапная передача здания церкв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Преображенском соборе хранятся две главные святыни Белгородской земли:   нетленные мощи Святителя Иосафа и Чудотворная Икона Николая Ратног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Tahoma"/>
              </a:rPr>
              <a:t>Смоленский собор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8686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1705 году была построена первая Смоленская деревянная церковь, а в 1727 году с благословения Преосвященного Архиепископа Белгородского Петра заложена двухэтажная каменная церковь: в нижнем этаже с престолом Смоленской иконы Пресвятой Богородицы; в верхнем этаже с Престолом первоверховных апостолов Петра и Павла. В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IX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веке церковь претерпела значительные изменения. После 1917 года церковь была разграблена, в ней размещался склад. В годы Великой Отечественной войны церковь была значительно разрушена. В 1958году и 1974 году предпринимались попытки окончательно разрушить хр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конце 1980-х гг. начались работы по его восстановлению. В 1992 году он передан церкви. 13 декабря 1994 года после завершения восстановления 1-го этажа был освещён нижний храм, а 11 июля 1996 года отреставрированный верхний храм. В апреле 1995 года на колокольню храма были подняты уникальные работы современных русских мастеров колокола, с чудесным ясным голосом. При соборе действует воскресная школа для детей и взрослых, открыты курсы псаломщи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Tahoma"/>
              </a:rPr>
              <a:t>Покровский храм.</a:t>
            </a:r>
            <a:br>
              <a:rPr sz="6000"/>
            </a:b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cc3300"/>
                </a:solidFill>
                <a:latin typeface="Times New Roman"/>
              </a:rPr>
              <a:t>(Марфо – Мариинский женский монастырь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3240000"/>
            <a:ext cx="8229600" cy="27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Покровская церковь впервые упоминается в 1626 году в Писарских книгах города Белгорода. Последнее писание о древней деревянной церкви относится к 1791 год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В советское время здание церкви использовалось как помещение механических мастерских. Реставрационные работы начаты в 1991году. В 1993 году храм из села Зимовеньки  был перенесён в центр Марфо-Мариинской обители.В1998 году, после реставрации, открылся и Марфо-Мариинский монастыр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47640" y="-603360"/>
            <a:ext cx="6121440" cy="806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Tahoma"/>
              </a:rPr>
              <a:t>Иоасафский собор</a:t>
            </a:r>
            <a:br>
              <a:rPr sz="6000"/>
            </a:b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(Кладбищно-Николаевская церковь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дание Кладбищно-Николаевской церкви, возведено в 1799 году на средство прихожан. В 1837 году к ней пристроена трапеза, а в 1867 году расширен алтарь и пределы. В начале 20 века место её расположения – Новое русское кладбище, как указано на плане Белгорода 1911 года,- было городской окраиной, и поэтому, укрытая кронами деревьев она не смогла привлечь к себе пристального внимания и всё время оставалась действующей. Поскольку в ней совершались только отпевания и панихиды, она была бесприходн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пустение коснулось храма в послевоенные, 40-е годы, в 1947 году был разобран весь верхний  ярус отдельно стоящей коло-кольни.В 1962 году церковь была переименована в Иоасафский собор До 1990г.  ее остов перекрывала железная кровля, входной проем оставался заложен кирпичной кладкой. Сейчас восстановлен верхний ярус звонницы и ее завершение. Теперь это действующая приходская соборная церковь с престолом в честь св.Иоасафа Белгородског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18:33:29Z</dcterms:created>
  <dc:creator>1</dc:creator>
  <dc:description/>
  <dc:language>en-US</dc:language>
  <cp:lastModifiedBy>Emachies</cp:lastModifiedBy>
  <dcterms:modified xsi:type="dcterms:W3CDTF">2011-11-22T21:43:39Z</dcterms:modified>
  <cp:revision>26</cp:revision>
  <dc:subject/>
  <dc:title>Слайд 1</dc:title>
</cp:coreProperties>
</file>