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F20-5823-48F8-AFFC-A5BCD44F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DDC-416B-44C7-A250-EE932A8E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D58-85BA-478E-A024-C2C416F4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DD4-8DB8-4054-945B-6A17132A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5D42-2BDF-49FF-8968-51F2AF1F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04E1-216F-491F-BBFE-AD484BD5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FD15-43A0-4E9F-98F5-02222CB8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5082-FBA7-49E9-BBE6-808DB5CA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0E96-8781-4BAF-8B41-07864456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86CF-8652-4259-9F01-9ADC3514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4BFF-B091-47CD-95CA-A1860D22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74E-59AE-4353-B6D5-5E7B5314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9C71-E4FC-45CA-ADA8-A84F85F3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89AE-0D52-45BE-AA8F-3E66E253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BB5D-76D0-4802-85B3-029E4524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C538-02B0-4BE1-A1D2-3286934B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AA42-3AE7-4303-9122-4E911919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2176-3CF7-4E17-BD19-378B8118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95CE-A2F2-49C7-BF27-1479C2E6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CBEC-AEC7-45ED-9FE2-E3C9C517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AF639-A8D3-4412-967D-BA12876A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99B7D-ADDE-4485-B58E-2DC51460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70B-4C62-49D2-AF33-958D456D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EAEA-9867-4858-8D9B-D67F95CE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3F3BD-AFB0-42F5-B15D-4E784D92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2F0BA-754D-44BA-8559-2827E87D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89287-B7AE-4412-A002-7ED5EB7E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42727-883F-4259-A37A-3CDA1A78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13AA-C192-4D3E-B099-E81F0EDF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8EEE-2E0C-448E-A41D-828308B4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200C8-AC88-4E8F-B7A1-85306777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E5F2D-A306-44C5-A2FA-80DA85FD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55ED9-BACE-4F50-8D88-C0E6C8AF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1C5-EB5C-4D91-9A05-5E6D0F98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53F45-D3EB-4A08-900D-FCCC6086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10867-4BE3-4FF9-9484-A42E1687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5CDDB-2C46-4659-BB21-C678DE22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0B9C4-6CAD-45BB-BA43-5BF9C1D7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0B39B-814E-40C3-BA2E-E9A557F6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D88C7-3AE1-4649-B6FB-288D0298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7DA15-0156-4D0D-A76F-5EB8B640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607B-AB94-49D3-8925-F8545FE7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36FA9-1146-4550-A497-B73134AF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3CA19-116C-4A3C-B1BB-46998171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7AA-FFB2-4559-90D8-8AE58CA6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DCC36-9C07-44A8-AD8F-3E49E70A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611B0-E099-4F05-8B94-0AAEC863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1484E-EFF1-4420-8067-E1E33316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118AB-1575-470A-8609-4C5122AC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F33E1-1182-4CD3-947C-DF95426F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017A4-5FA3-48D8-991F-7F68C932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D303E-900F-496F-920D-8414EF0D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8BD99-430A-442F-B144-121D244B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1F507-4C17-4FB4-832C-37FF7E28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95247-CF52-4962-A402-B33A4094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A74-DCC9-4756-9433-234026CA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F67D0-7131-4658-89F0-A54D0EEA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D64C2-03D1-4DF2-83FE-DA2079CE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9966F-D1C7-4E39-A95A-3D30C734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9AC5A-B9FE-49BB-BEB5-79518E91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ACA5B-8C08-413F-9733-9F35DD7F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0DDC3-4E3A-4221-93C1-E7955FDD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E62A0-DA87-4316-9532-F79F936D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B49CB-EF6A-400A-8BBB-6245B0D1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29199-C120-4B4F-820D-F029492B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AF3F5-C691-4CF8-AA3F-9CE3E23A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00B-F8D0-4703-9B75-DA03EAF2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A1289-CA75-4A7E-8670-DCA6F266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CA166-84D3-48D0-AA6A-AF580C4B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5AE4A-7A66-438F-810B-71E8F52A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F997F-F38F-4D57-B0AD-DDCD67C8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3C213-65AE-4631-B26D-4188F784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8A1F2-6692-4A22-9116-DA54C988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AD0BC-67B6-4BBE-880C-588F0D8E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E5822-55A9-48D9-86A1-813C9C24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BFD5D-86E7-40A5-A86D-6CA17F02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6DAB0-BC6D-45D2-AC19-24DBC449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63C-2BCB-4CE1-B453-B2255103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5A5F5-351D-4FF3-A024-FCDC3BD1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F3918-59B2-45C3-B336-89F6A7E0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56A12-AC0F-4984-AEDD-10B3F665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D465D-88D6-43B7-A924-73815568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4BB4B-740E-46A9-9091-112EB1E1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7A0-E973-4EF8-9CEA-4DDFBFE2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2EE4-0803-40D8-8467-A97914E080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A5D1-06F4-4141-901D-686395F1A6E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EE8A-0BE2-4C24-B8CE-D89C9491FBB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3FE3-5269-43B5-BE3B-6F4698F3E97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C0B2-997E-4FCB-8E8D-73A4385418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5537-AD71-4FC6-B7BF-506FC56E5F4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59EE-B98B-4D5E-8A88-FC740B51988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47280" y="2491920"/>
            <a:ext cx="726948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572314"/>
                </a:solidFill>
                <a:latin typeface="Arial"/>
                <a:ea typeface="Arial"/>
              </a:rPr>
              <a:t>Игры со шнуровкой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1"/>
          <p:cNvSpPr/>
          <p:nvPr/>
        </p:nvSpPr>
        <p:spPr>
          <a:xfrm>
            <a:off x="1116000" y="260280"/>
            <a:ext cx="76327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orbel"/>
              </a:rPr>
              <a:t>Шнуровка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– один из видов развивающих игр для детей. Отличительная черта игры – наличие шнурка и предметов для шнурования. Действия с подобными игрушками способствуют развитию тонких движений пальцев рук (тонкой моторики), а также развитию речи ребен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1116000" y="-266400"/>
            <a:ext cx="75596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Назначение игр-шнуровок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развивают сенсомоторную координацию, мелкую моторику рук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• развивают пространственное ориентирование, способствуют пониманию понятий "вверху", "внизу", "справа", "слева"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• формируют навыки шнуровки (шнурование, завязывание шнурка на бант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• способствуют развитию речи 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• развивают творческие способности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1295280" y="75960"/>
            <a:ext cx="784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rbel"/>
                <a:ea typeface="Times New Roman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Развивать мыслительные операции анализа, синтеза, сравнения, об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2. Способствовать развитию действий руки, формировать ручную умелость, совершенствовать мелкую моторику паль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Times New Roman"/>
              </a:rPr>
              <a:t>3. Формировать волевые умения (умение не отвлекаться от поставленной задачи, доводить ее до завершения, стремиться к получению положительного результа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1403280" y="3380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Corbel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  <a:ea typeface="Times New Roman"/>
              </a:rPr>
              <a:t>Примеры игр со шнуровками (фотографи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H:\P1060872.JPG"/>
          <p:cNvPicPr/>
          <p:nvPr/>
        </p:nvPicPr>
        <p:blipFill>
          <a:blip r:embed="rId1"/>
          <a:stretch/>
        </p:blipFill>
        <p:spPr>
          <a:xfrm>
            <a:off x="2762280" y="1749600"/>
            <a:ext cx="46990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" descr="H:\P1060878.JPG"/>
          <p:cNvPicPr/>
          <p:nvPr/>
        </p:nvPicPr>
        <p:blipFill>
          <a:blip r:embed="rId1"/>
          <a:stretch/>
        </p:blipFill>
        <p:spPr>
          <a:xfrm>
            <a:off x="1365120" y="554040"/>
            <a:ext cx="7425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0:35:41Z</dcterms:created>
  <dc:creator>Alex</dc:creator>
  <dc:description/>
  <dc:language>en-US</dc:language>
  <cp:lastModifiedBy>Alex</cp:lastModifiedBy>
  <dcterms:modified xsi:type="dcterms:W3CDTF">2011-11-23T11:34:28Z</dcterms:modified>
  <cp:revision>12</cp:revision>
  <dc:subject/>
  <dc:title>Игры со шнуровками</dc:title>
</cp:coreProperties>
</file>