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9D3D-F9C1-44F6-8787-697CE3212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7506-926D-46C1-A5CE-F70B8C372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8B45-2A20-4B28-A821-331939DDD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516A-91AF-48D2-BF7A-D0543B019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21A16-B080-4F50-8FF1-B535EAE9A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D30A7-8B73-4BFA-B837-6CACE0F8F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AFAD1-AA61-420C-8461-3C617C863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8DA96-7D9C-46E9-937B-76EEC5339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54C9D-7EDA-4C57-8999-B341DE4FB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526B7-8B46-4B3B-B4A9-F9668EA61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5ED68-33E8-4763-9B02-521663D41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76B3-A0E6-44DB-A80F-18D7428AF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E5AB1-BE7C-4C45-9092-B0383EA04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8F5AC-515B-46AF-9054-2CB3CCE62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9145A-F382-4E92-8038-26CA52282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912BF-CE4C-47F5-83D6-F060049B2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B7646-71D6-47E1-9061-D8E914989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926D00-3B31-4A65-84E1-93C521982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C635E1-F8A4-41BE-BBF3-314F63523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7667FB-1644-40AE-A4AE-85E0C529D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17724A-2711-400B-9AF9-9B2A662B3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7C7573-F784-4043-8244-8BFF912EF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279E-3DEA-4AF3-AE22-E0711348E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8686B9-0060-44B7-ACD2-F96804A8D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76D115-53E1-42FF-A32B-32C3510CA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F0E8EC-EA59-4443-AF66-4C1C48052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C97C32-492E-4BC9-9A8C-88215E68B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1629F9-A578-462F-A35C-E4AA0EF44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C8E22A-8C0E-4198-B894-E9F16AAAC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E451DF-0A0A-4F6A-A4AD-0F3A409BE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69B628-6270-4E33-BCE0-571ADD9DD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3AECC9-DBE7-4ABA-9D2D-9D0B7E34A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B9C4DC-3BB4-4F99-984A-8D6102089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2465-121D-451C-86EA-04190C27C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6D2530-5375-473F-B156-A9E9B15C7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BE1293-E465-4AE1-A3E8-80C33309A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899185-03FD-471D-9AEB-98B44D828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0C16C8-BAAF-4BBC-93D9-1D5D804E3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474D6E-C937-4785-B3B2-38D4DD853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2FB6BA-5631-4E2F-A593-E578E9A97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2B28D1-0BF4-402C-AB6D-1325D72B5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CDAAAB-49A2-4DBA-93B9-3BAC127B6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421EE7-CB64-4D2A-910F-20035AEFB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F77D04-2E06-4937-B87E-1FB71F1E0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E971-B09A-461C-8532-80C9314F9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692778-EEEB-4495-9E78-401579AA1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06E808-FC1D-4FD0-AD2F-8309BF6B6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DED723-2C2D-4EE8-BA40-B8D229CDD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851498-69AD-413F-99C4-38AF506D3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005C1C-3393-49D3-862A-FEE1F476F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4F6437-B2D2-47ED-853E-70E7B5645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9962BC-3D95-45C2-B701-4D5CFA114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4520A5-FE78-4E66-A780-9C0942538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1658B5-B9DD-4F7F-A439-CB1A275FA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274171-5068-46AF-B159-E91920700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49DB-9E48-4AF6-B4D7-D8EB9FFE6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591B0C-C692-483F-83CC-3A3CE592F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A8567F-9347-44C9-8C57-C13651F31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9A3F00-E728-4283-86FF-AAE788383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0ABD65-F47D-4603-84D7-A556D4A1D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39E03C-0E0A-421B-B206-F2BD3F09E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CD3701-84B4-40F3-99D2-F2C895A28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6A1DAA-8775-476A-BC1F-A1E58EBB4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62133A-5087-476D-926A-352CD993B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1EF0B9-3658-43D7-A7D2-C31F1AFA8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0F91BF-2D1E-4969-906A-47B0E0258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CA11-3A19-471F-955C-DF007B64A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B6D33C-6C0C-42C8-885C-F7D4D883A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3126EB-21BF-4048-A658-858379FE0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A628B9-BF8F-40AC-AF51-A956733F0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108A81-3487-4225-9ED4-3D1E63BA9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978A22-7645-40C7-AFE0-FB0523EF5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B348A3-0EF6-4B99-9CE9-814F64784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3D580F-9846-4E6B-BFEC-B5D315707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9252EC-C6E8-46E9-82F8-E9EDE2B47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4AFFAF-F85E-4040-8E63-AE2A30DBB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169AD3-8D36-498F-82C5-08EC0EF53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4C5B-B2A7-40C0-A955-64D3B69C5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6194B2-9220-4E1F-BF06-370BB6807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CDFAB8-C9DD-46C7-B027-F28107FB7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47A377-600C-4CEE-996D-D190A9F54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E8E28C-B0A0-4E58-87C1-6F27C39C1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35F6E3-C219-4912-8050-7A9952724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2959-997F-4667-8697-B2D3707F8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0E860-96EB-428D-9B64-3FF23A744188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A773D-D726-4A9C-83D8-652B5182475B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74D85-3BAC-4D4D-AF27-66C904CCCD1A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B1359-3496-4578-98C2-B668D3C9FFD6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F5490-A369-4542-8780-E0F6A2987920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CE403-797E-4994-89CB-5A0049CC3E6B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26162-8187-435F-9AF0-84C0C6C17141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547280" y="2491920"/>
            <a:ext cx="726948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572314"/>
                </a:solidFill>
                <a:latin typeface="Arial"/>
                <a:ea typeface="Arial"/>
              </a:rPr>
              <a:t>Игры со шнуровкой</a:t>
            </a:r>
            <a:endParaRPr b="0" lang="en-US" sz="72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Прямоугольник 1"/>
          <p:cNvSpPr/>
          <p:nvPr/>
        </p:nvSpPr>
        <p:spPr>
          <a:xfrm>
            <a:off x="1116000" y="260280"/>
            <a:ext cx="7632720" cy="67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Corbel"/>
              </a:rPr>
              <a:t>Шнуровка</a:t>
            </a:r>
            <a:r>
              <a:rPr b="0" lang="ru-RU" sz="4000" spc="-1" strike="noStrike">
                <a:solidFill>
                  <a:srgbClr val="000000"/>
                </a:solidFill>
                <a:latin typeface="Corbel"/>
              </a:rPr>
              <a:t> – один из видов развивающих игр для детей. Отличительная черта игры – наличие шнурка и предметов для шнурования. Действия с подобными игрушками способствуют развитию тонких движений пальцев рук (тонкой моторики), а также развитию речи ребенка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10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1"/>
          <p:cNvSpPr/>
          <p:nvPr/>
        </p:nvSpPr>
        <p:spPr>
          <a:xfrm>
            <a:off x="1116000" y="-266400"/>
            <a:ext cx="7559640" cy="74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orbel"/>
                <a:ea typeface="Times New Roman"/>
              </a:rPr>
              <a:t>Назначение игр-шнуровок</a:t>
            </a:r>
            <a:r>
              <a:rPr b="1" i="1" lang="ru-RU" sz="3200" spc="-1" strike="noStrike">
                <a:solidFill>
                  <a:srgbClr val="000000"/>
                </a:solidFill>
                <a:latin typeface="Corbel"/>
                <a:ea typeface="Times New Roman"/>
              </a:rPr>
              <a:t>: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  <a:ea typeface="Times New Roman"/>
              </a:rPr>
              <a:t>•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  <a:ea typeface="Times New Roman"/>
              </a:rPr>
              <a:t>развивают сенсомоторную координацию, мелкую моторику рук;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orbel"/>
                <a:ea typeface="Times New Roman"/>
              </a:rPr>
              <a:t>• развивают пространственное ориентирование, способствуют пониманию понятий "вверху", "внизу", "справа", "слева";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orbel"/>
                <a:ea typeface="Times New Roman"/>
              </a:rPr>
              <a:t>• формируют навыки шнуровки (шнурование, завязывание шнурка на бант);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orbel"/>
                <a:ea typeface="Times New Roman"/>
              </a:rPr>
              <a:t>• способствуют развитию речи ;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orbel"/>
                <a:ea typeface="Times New Roman"/>
              </a:rPr>
              <a:t>• развивают творческие способности.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1"/>
          <p:cNvSpPr/>
          <p:nvPr/>
        </p:nvSpPr>
        <p:spPr>
          <a:xfrm>
            <a:off x="1295280" y="75960"/>
            <a:ext cx="784872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orbel"/>
                <a:ea typeface="Times New Roman"/>
              </a:rPr>
              <a:t>Задачи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  <a:ea typeface="Times New Roman"/>
              </a:rPr>
              <a:t>Развивать мыслительные операции анализа, синтеза, сравнения, обобщ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  <a:ea typeface="Times New Roman"/>
              </a:rPr>
              <a:t>2. Способствовать развитию действий руки, формировать ручную умелость, совершенствовать мелкую моторику пальце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  <a:ea typeface="Times New Roman"/>
              </a:rPr>
              <a:t>3. Формировать волевые умения (умение не отвлекаться от поставленной задачи, доводить ее до завершения, стремиться к получению положительного результата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1"/>
          <p:cNvSpPr/>
          <p:nvPr/>
        </p:nvSpPr>
        <p:spPr>
          <a:xfrm>
            <a:off x="1403280" y="338040"/>
            <a:ext cx="7201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6600"/>
                </a:solidFill>
                <a:latin typeface="Corbel"/>
                <a:ea typeface="Times New Roman"/>
              </a:rPr>
              <a:t> </a:t>
            </a:r>
            <a:r>
              <a:rPr b="1" i="1" lang="ru-RU" sz="4000" spc="-1" strike="noStrike">
                <a:solidFill>
                  <a:srgbClr val="000000"/>
                </a:solidFill>
                <a:latin typeface="Corbel"/>
                <a:ea typeface="Times New Roman"/>
              </a:rPr>
              <a:t>Примеры игр со шнуровками (фотографии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2" descr="H:\P1060872.JPG"/>
          <p:cNvPicPr/>
          <p:nvPr/>
        </p:nvPicPr>
        <p:blipFill>
          <a:blip r:embed="rId1"/>
          <a:stretch/>
        </p:blipFill>
        <p:spPr>
          <a:xfrm>
            <a:off x="2762280" y="1749600"/>
            <a:ext cx="469908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3" descr="H:\P1060878.JPG"/>
          <p:cNvPicPr/>
          <p:nvPr/>
        </p:nvPicPr>
        <p:blipFill>
          <a:blip r:embed="rId1"/>
          <a:stretch/>
        </p:blipFill>
        <p:spPr>
          <a:xfrm>
            <a:off x="1365120" y="554040"/>
            <a:ext cx="7425000" cy="574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3T10:35:41Z</dcterms:created>
  <dc:creator>Alex</dc:creator>
  <dc:description/>
  <dc:language>en-US</dc:language>
  <cp:lastModifiedBy>Alex</cp:lastModifiedBy>
  <dcterms:modified xsi:type="dcterms:W3CDTF">2011-11-23T11:34:28Z</dcterms:modified>
  <cp:revision>12</cp:revision>
  <dc:subject/>
  <dc:title>Игры со шнуровками</dc:title>
</cp:coreProperties>
</file>