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A08-4E67-4847-8D05-B70A710F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F5E-F516-485D-93D6-58705D10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EE2-366E-4B84-8F6A-50EA301C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DFA-1749-4317-947B-C8D2A8A1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A79-B38B-4D6C-B6B1-FDF73BCE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75B-65FC-4C7B-8FAF-2DCE0EB5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626-EE18-45D7-961A-ED02B8B0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29D-FFD9-4C8B-BDA6-992B1E4F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468-8F36-4926-A6BA-ECEEE0A4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202-E99E-4E2E-AF55-CCA8FBBD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60A-FACC-4329-AB74-9532751A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DC8-DF47-442C-B528-1FEA94E0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7934-CEBE-46A1-9BC7-5274AA031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dnams.co.uk/" TargetMode="External"/><Relationship Id="rId2" Type="http://schemas.openxmlformats.org/officeDocument/2006/relationships/hyperlink" Target="http://www.adnams.co.uk/hotels/index.aspx" TargetMode="External"/><Relationship Id="rId3" Type="http://schemas.openxmlformats.org/officeDocument/2006/relationships/hyperlink" Target="http://www.adnams.co.uk/hotels/swan.aspx" TargetMode="External"/><Relationship Id="rId4" Type="http://schemas.openxmlformats.org/officeDocument/2006/relationships/hyperlink" Target="http://www.adnams.co.uk/hotels/crown.aspx" TargetMode="External"/><Relationship Id="rId5" Type="http://schemas.openxmlformats.org/officeDocument/2006/relationships/hyperlink" Target="http://www.adnams.co.uk/hotels/brewers_house.aspx" TargetMode="External"/><Relationship Id="rId6" Type="http://schemas.openxmlformats.org/officeDocument/2006/relationships/hyperlink" Target="http://www.adnams.co.uk/hotels/bookonline.aspx" TargetMode="External"/><Relationship Id="rId7" Type="http://schemas.openxmlformats.org/officeDocument/2006/relationships/hyperlink" Target="http://www.adnams.co.uk/hotels/explore.aspx" TargetMode="External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hicagotribune.com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hicagotribune.com/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ad.doubleclick.net/click;h=v8/3790/0/0/%2A/w;208096391;0-0;1;12925689;4-234/60;28636522/28654401/1;;~okv=;ptype=sf;slug=gen3-homepage-notabs-ssi;rg=ur;pos=R;dcopt=ist;sz=234x60;tile=1;~aopt=2/0/ff/1;~sscs=%3Fhttp:/www.hoboonline.com/applications/OnlineContestManager/inc_onlinecontestmanager.asp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ad.doubleclick.net/jump/trb.chicagotribune/hp;ptype=sf;slug=gen3-homepage-notabs-ssi;rg=ur;pos=2;sz=1x1;tile=2;ord=61381039?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weather.chicagotribune.com/radar/radblast.asp?ID=LOT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www.chicagotribune.com/classified" TargetMode="External"/><Relationship Id="rId10" Type="http://schemas.openxmlformats.org/officeDocument/2006/relationships/hyperlink" Target="https://advertise.chicagotribune.com/" TargetMode="External"/><Relationship Id="rId11" Type="http://schemas.openxmlformats.org/officeDocument/2006/relationships/hyperlink" Target="http://www.legacy.com/chicagotribune/celebrations.asp" TargetMode="External"/><Relationship Id="rId12" Type="http://schemas.openxmlformats.org/officeDocument/2006/relationships/hyperlink" Target="http://www.chicagotribune.com/classified/chi-personals-htmlstory,0,2805840.htmlstory" TargetMode="External"/><Relationship Id="rId13" Type="http://schemas.openxmlformats.org/officeDocument/2006/relationships/hyperlink" Target="http://www.topix.com/classifieds/chicago-il/events/?p=6003&amp;co=1" TargetMode="External"/><Relationship Id="rId14" Type="http://schemas.openxmlformats.org/officeDocument/2006/relationships/hyperlink" Target="http://www.topix.com/classifieds/chicago-il/forsale/?p=6003&amp;co=1" TargetMode="External"/><Relationship Id="rId15" Type="http://schemas.openxmlformats.org/officeDocument/2006/relationships/hyperlink" Target="http://www.legacy.com/chicagotribune/" TargetMode="External"/><Relationship Id="rId16" Type="http://schemas.openxmlformats.org/officeDocument/2006/relationships/hyperlink" Target="http://www.gadzoo.com/chicagotribune/Pets.aspx" TargetMode="External"/><Relationship Id="rId17" Type="http://schemas.openxmlformats.org/officeDocument/2006/relationships/hyperlink" Target="http://consumer.public-record.com/chicagotribune/" TargetMode="External"/><Relationship Id="rId18" Type="http://schemas.openxmlformats.org/officeDocument/2006/relationships/hyperlink" Target="http://www.topix.com/classifieds/chicago-il/services/?p=6003&amp;co=1" TargetMode="External"/><Relationship Id="rId19" Type="http://schemas.openxmlformats.org/officeDocument/2006/relationships/hyperlink" Target="https://services.chicagotribune.com/Circulation/regularDeliveryAvailability.htm" TargetMode="External"/><Relationship Id="rId20" Type="http://schemas.openxmlformats.org/officeDocument/2006/relationships/hyperlink" Target="https://services.chicagotribune.com/Circulation/regularDeliveryAvailability.htm" TargetMode="External"/><Relationship Id="rId21" Type="http://schemas.openxmlformats.org/officeDocument/2006/relationships/hyperlink" Target="https://services.chicagotribune.com/Circulation/regularDeliveryAvailability.htm" TargetMode="External"/><Relationship Id="rId22" Type="http://schemas.openxmlformats.org/officeDocument/2006/relationships/hyperlink" Target="http://www.chicagotribune.com/advantage" TargetMode="External"/><Relationship Id="rId23" Type="http://schemas.openxmlformats.org/officeDocument/2006/relationships/hyperlink" Target="http://www.chicagotribune.com/e-Edition" TargetMode="External"/><Relationship Id="rId24" Type="http://schemas.openxmlformats.org/officeDocument/2006/relationships/hyperlink" Target="http://nie.chicagotribune.com/" TargetMode="External"/><Relationship Id="rId25" Type="http://schemas.openxmlformats.org/officeDocument/2006/relationships/hyperlink" Target="http://www.chicagotribune.com/advertisewithus" TargetMode="External"/><Relationship Id="rId26" Type="http://schemas.openxmlformats.org/officeDocument/2006/relationships/hyperlink" Target="https://advertise.chicagotribune.com/" TargetMode="External"/><Relationship Id="rId27" Type="http://schemas.openxmlformats.org/officeDocument/2006/relationships/hyperlink" Target="http://ctmgadvertise.com/" TargetMode="External"/><Relationship Id="rId28" Type="http://schemas.openxmlformats.org/officeDocument/2006/relationships/hyperlink" Target="https://services.chicagotribune.com/Circulation/regularDeliveryAvailability.htm" TargetMode="External"/><Relationship Id="rId29" Type="http://schemas.openxmlformats.org/officeDocument/2006/relationships/hyperlink" Target="https://services.chicagotribune.com/Circulation/regularDeliveryAvailability.htm" TargetMode="External"/><Relationship Id="rId30" Type="http://schemas.openxmlformats.org/officeDocument/2006/relationships/hyperlink" Target="https://services.chicagotribune.com/Circulation/regularDeliveryAvailability.htm" TargetMode="External"/><Relationship Id="rId31" Type="http://schemas.openxmlformats.org/officeDocument/2006/relationships/hyperlink" Target="http://www.chicagotribune.com/advantage" TargetMode="External"/><Relationship Id="rId32" Type="http://schemas.openxmlformats.org/officeDocument/2006/relationships/hyperlink" Target="http://www.chicagotribune.com/e-Edition" TargetMode="External"/><Relationship Id="rId33" Type="http://schemas.openxmlformats.org/officeDocument/2006/relationships/hyperlink" Target="http://nie.chicagotribune.com/" TargetMode="External"/><Relationship Id="rId34" Type="http://schemas.openxmlformats.org/officeDocument/2006/relationships/hyperlink" Target="http://www.chicagotribune.com/advertisewithus" TargetMode="External"/><Relationship Id="rId35" Type="http://schemas.openxmlformats.org/officeDocument/2006/relationships/hyperlink" Target="https://advertise.chicagotribune.com/" TargetMode="External"/><Relationship Id="rId36" Type="http://schemas.openxmlformats.org/officeDocument/2006/relationships/hyperlink" Target="http://ctmgadvertise.com/" TargetMode="External"/><Relationship Id="rId37" Type="http://schemas.openxmlformats.org/officeDocument/2006/relationships/hyperlink" Target="http://weather.chicagotribune.com/radar/radblast.asp?ID=LOT" TargetMode="External"/><Relationship Id="rId38" Type="http://schemas.openxmlformats.org/officeDocument/2006/relationships/image" Target="../media/image7.jpeg"/><Relationship Id="rId39" Type="http://schemas.openxmlformats.org/officeDocument/2006/relationships/hyperlink" Target="http://www.chicagotribune.com/weather/" TargetMode="External"/><Relationship Id="rId40" Type="http://schemas.openxmlformats.org/officeDocument/2006/relationships/hyperlink" Target="http://blogs.trb.com/news/weather/weblog/wgnweather/" TargetMode="External"/><Relationship Id="rId41" Type="http://schemas.openxmlformats.org/officeDocument/2006/relationships/hyperlink" Target="http://weather.chicagotribune.com/US/IL/Chicago.html" TargetMode="External"/><Relationship Id="rId42" Type="http://schemas.openxmlformats.org/officeDocument/2006/relationships/hyperlink" Target="http://weather.chicagotribune.com/radar/mixedcomposite.asp?region=a4" TargetMode="External"/><Relationship Id="rId43" Type="http://schemas.openxmlformats.org/officeDocument/2006/relationships/hyperlink" Target="http://weather.chicagotribune.com/radar/station.asp?ID=LOT19" TargetMode="External"/><Relationship Id="rId44" Type="http://schemas.openxmlformats.org/officeDocument/2006/relationships/hyperlink" Target="http://weather.chicagotribune.com/US/Region/Midwest/2xIRSatellite.html" TargetMode="External"/><Relationship Id="rId45" Type="http://schemas.openxmlformats.org/officeDocument/2006/relationships/hyperlink" Target="http://weather.chicagotribune.com/US/IL/Chicago.html?almanac=1" TargetMode="External"/><Relationship Id="rId46" Type="http://schemas.openxmlformats.org/officeDocument/2006/relationships/hyperlink" Target="http://weather.chicagotribune.com/US/IL/Chicago.html?pollen=1&amp;AffiliateID=1841" TargetMode="External"/><Relationship Id="rId47" Type="http://schemas.openxmlformats.org/officeDocument/2006/relationships/hyperlink" Target="http://weather.chicagotribune.com/MAR/LM/741.html" TargetMode="External"/><Relationship Id="rId48" Type="http://schemas.openxmlformats.org/officeDocument/2006/relationships/hyperlink" Target="http://weather.chicagotribune.com/US/IL/" TargetMode="External"/><Relationship Id="rId49" Type="http://schemas.openxmlformats.org/officeDocument/2006/relationships/hyperlink" Target="http://www.wgnam.com/index.php?option=ECC&amp;Itemid=186" TargetMode="External"/><Relationship Id="rId5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нформационно - коммуникативные технологии как один из  аспектов обучения иностранному языку.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сновная цель изучения иностранного языка в средней школ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формирование коммуникативной компетенции, все остальные цели (образовательная, воспитательная, развивающая) реализуются в процессе осуществления этой главной цели. Коммуникативный подход подразумевает обучение общению и формирование способности к межкультурному взаимодействию, что является основой функционирования Интерн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тернет предлагает своим пользователям многообразие информации и ресурсов. Базовый набор услуг может включать в себя: электронную почту, телеконференции, видеоконференции, возможность публикации собственной информации, создание собственной домашней странички и размещение ее на Web-сервере, доступ к информационным ресурсам: справочным каталогам,поисковым системам, разговорам в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преподавании английского языка, как и любого другого иностранного, применение компьютерных технологий позволяет вывести учащихся на принципиально новый уровень овладения неродным языком и лучше подготовить их как к Единому государственному экзамену и вступительным экзаменам в ВУЗы, так и, при желании, к сдаче зарубежных экзаменов на знание языка для иностран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именение компьютерных 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Обучающие программы на электронных носителях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Программы для тестирования и тестирование он-лайн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Использование Интернет-ресурсов на уроке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Возможности для самообразования учителя.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бучающие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наши дни появилось множество подобных программ для разных уровней владения английским языком: от уровня для начинающих с играми, комиксами, песнями, стихами, считалочками и т.д. до продвинутого уровня, например, для подготовки к экзаменам типа FCE или TOEFL. Наиболее распространёнными можно назвать программы, полезные для работы в школе: “1С-Репетитор. Английский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язык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”, “Bridge to English”, “Bridge to English for Kids” , “Open Book 2.3”.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тличный сайт в Интернете с подборкой ссылок по обучающим программам, словарям, тестированию он-лайн с комментариями и их кратким содержанием, что экономит время и ваши деньги, так как заметно облегчает поиск –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www.history.ru/freeeing.ht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348000" cy="364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492000" y="0"/>
            <a:ext cx="565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ingoville — это наиболее полный среди существующих в мире интерактивный курс изучения английского языка для детей любых возра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, населенный фламинго, говорящими только по-англий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активный словарь со словами и изображениями, включающий 32 яз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миссий, ожидающих, пока вы пройдете их и решите все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о сотен различных упражнений на правописание, произношение, восприятие речи и 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7500 разнообразных аудиофай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бучение лексике предполагает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99"/>
                </a:solidFill>
                <a:latin typeface="Arial"/>
              </a:rPr>
              <a:t>Работу по введению новой лексики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99"/>
                </a:solidFill>
                <a:latin typeface="Arial"/>
              </a:rPr>
              <a:t>Активизацию лексического материала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99"/>
                </a:solidFill>
                <a:latin typeface="Arial"/>
              </a:rPr>
              <a:t>Лексические игры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99"/>
                </a:solidFill>
                <a:latin typeface="Arial"/>
              </a:rPr>
              <a:t>Советы он-лайн.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ведения новых лексических едини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ожно познакомить учащихся с сайтом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www.thinkmap.com,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крепления лексики по изучаемой теме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 Задача учителя – подобрать добротный и информативный сайт (благо англоязычных сайтов в мировой паутине великое множество), связанный с нужной темой: например, тема вашего урока - “Путешествие. В гостинице”. Находим сайт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www.adnams.co.uk/hotels ,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фактически дающий информацию для туристов, но интересный нам своим лексическим богатством и иллюстрациями описываемых гостиниц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nams Hotels</a:t>
            </a:r>
            <a:br>
              <a:rPr sz="4000"/>
            </a:br>
            <a:r>
              <a:rPr b="1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dnams.co.u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he S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he Cr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he Brewer's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ook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xplore Southw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’s something magical about our home, Southwo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once you’re here, you may find it’s hard to lea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y with us... The Sw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wonderful retreat that exudes timeless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ro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bulous food, superb wine and a stylish bus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ewer's Ho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atest addition to Adnams Hotels' portfolio, sleeps e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front_food2"/>
          <p:cNvPicPr/>
          <p:nvPr/>
        </p:nvPicPr>
        <p:blipFill>
          <a:blip r:embed="rId8"/>
          <a:stretch/>
        </p:blipFill>
        <p:spPr>
          <a:xfrm>
            <a:off x="7286760" y="0"/>
            <a:ext cx="18572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тернет-версии викторин и игр из известных телешоу или предложат вам ссылки на интересующие вас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езная ссылка: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www.station.sony.com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 Регистрация на сайте обязательна, предлагаемые варианты известных телевизионных викторин Jeopardy (в русской версии “Своя игра”), Weel Of Fortune (русское “Поле Чудес”), Bookworm, Super Text Twist, Word Sling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3628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связи с всеобщей компьютеризацией учителю необходимо мыслить по-новому. Моделируя и проектируя свою педагогическую деятельность, он должен активно внедрять новые информационные технологии. Современный учитель должен соответствовать требованиям времени, т. е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ыть гибким, уметь перестраивать свою деятельность, идти в ногу со временем, ориентироваться в новых педагогических технология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тернет удобен для поиска и закрепления определённых речевых конструкций, так как многие сайты посвящены той или иной категории или функции языка. Так, например, сайт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www.teenadvice.org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хорош для работы в группах по теме “Проблемы молодёжи” или “Что формирует личность и характер” тем, что не выглядит слишком уж менторским и поучительным, так как авторами его являются именно подростки, и в то же время позволяет вызвать учеников на откровенный и результативный диалог, активизировать важный блок лексики по темам “Характер”, “Общение”, “Чувства”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езные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сылки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ww.nytimes.com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ww.timesonline.u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ww.iht.com (The International Herald Tribune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hicagotribune.com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ww.people.aol.com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The People Magazin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hicago Tribu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0"/>
            <a:ext cx="7201080" cy="1700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lick here to find out more!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15240" y="1413000"/>
            <a:ext cx="2228760" cy="100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http://ad.doubleclick.net/ad/trb.chicagotribune/hp;ptype=sf;slug=gen3-homepage-notabs-ssi;rg=ur;pos=2;sz=1x1;tile=2;ord=61381039?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30480" y="-52927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local rada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30480" y="-2908440"/>
            <a:ext cx="1047600" cy="10479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8"/>
          <p:cNvSpPr/>
          <p:nvPr/>
        </p:nvSpPr>
        <p:spPr>
          <a:xfrm>
            <a:off x="2115000" y="-7804800"/>
            <a:ext cx="491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9"/>
              </a:rPr>
              <a:t>MO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0"/>
              </a:rPr>
              <a:t>Place an A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1"/>
              </a:rPr>
              <a:t>Celebration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2"/>
              </a:rPr>
              <a:t>Dati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3"/>
              </a:rPr>
              <a:t>Event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4"/>
              </a:rPr>
              <a:t>Items for Sal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5"/>
              </a:rPr>
              <a:t>Obituari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6"/>
              </a:rPr>
              <a:t>Pet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7"/>
              </a:rPr>
              <a:t>Public Record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8"/>
              </a:rPr>
              <a:t>Servi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D subheader iPhone redirect END iPhone redirect sliding billbo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2080800" y="-5238000"/>
            <a:ext cx="2234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D sliding billbo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9"/>
              </a:rPr>
              <a:t>Home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0"/>
              </a:rPr>
              <a:t>Subscribe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1"/>
              </a:rPr>
              <a:t>Manage sub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2"/>
              </a:rPr>
              <a:t>Subscriber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3"/>
              </a:rPr>
              <a:t>e-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4"/>
              </a:rPr>
              <a:t>News in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5"/>
              </a:rPr>
              <a:t>Advertise with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6"/>
              </a:rPr>
              <a:t>Place an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7"/>
              </a:rPr>
              <a:t>Advertising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0" y="2380320"/>
            <a:ext cx="266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8"/>
              </a:rPr>
              <a:t>Hom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9"/>
              </a:rPr>
              <a:t>Subscribe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0"/>
              </a:rPr>
              <a:t>Manage sub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1"/>
              </a:rPr>
              <a:t>Subscrib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2"/>
              </a:rPr>
              <a:t>e-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3"/>
              </a:rPr>
              <a:t>News in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4"/>
              </a:rPr>
              <a:t>Advertise with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5"/>
              </a:rPr>
              <a:t>Place an 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6"/>
              </a:rPr>
              <a:t>Advertising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local radar">
            <a:hlinkClick r:id="rId37"/>
          </p:cNvPr>
          <p:cNvPicPr/>
          <p:nvPr/>
        </p:nvPicPr>
        <p:blipFill>
          <a:blip r:embed="rId38"/>
          <a:stretch/>
        </p:blipFill>
        <p:spPr>
          <a:xfrm>
            <a:off x="2340000" y="4005360"/>
            <a:ext cx="1944720" cy="2303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5"/>
          <p:cNvSpPr/>
          <p:nvPr/>
        </p:nvSpPr>
        <p:spPr>
          <a:xfrm>
            <a:off x="3564000" y="2031120"/>
            <a:ext cx="417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Chicago 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Tom Skilling's 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Weather al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Midwest 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Chicago-area 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Cloud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Alman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Pollen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Marine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Illinois 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WGN Emergency Clos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бучение устной реч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лобальная сеть может предложить массу тем для обсуждения с красочным и постоянно изменяющимся иллюстративным материалом, то есть от самого учителя, целей и задач урока будет зависеть выбор темы для каждого нового занятия. Например, интерактивный музей Сан-Франциско предложит вам обсудить вопросы и проблемы человеческого интеллекта, памяти, мышления и многое другое – стоит только заглянуть н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www.exploratorium.edu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или же на сайте NASA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www.nasa.gov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ам позволят заглянуть в тайные уголки далёкой Красной планеты, а вы организуете дискуссию о темпах развития современной науки, её плюсах и мину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ектная методика в преподавании иностранного язы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етод проектов способствует приобщению детей к исследовательской деятельности, реализации способностей школьников, позволяет интегрировать разные учебные предметы, а также организовать обучение в сотруднич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79640" y="836640"/>
            <a:ext cx="64771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ая презентация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Тема учебного проек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«Молодежная субкультура и подрастающее поколе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47640" y="450828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Гасанова Ольга Павл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английского языка МОУ СОШ №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 для учащихся 10 – 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Пугачев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i?id=987262&amp;tov=4"/>
          <p:cNvPicPr/>
          <p:nvPr/>
        </p:nvPicPr>
        <p:blipFill>
          <a:blip r:embed="rId1"/>
          <a:stretch/>
        </p:blipFill>
        <p:spPr>
          <a:xfrm>
            <a:off x="0" y="0"/>
            <a:ext cx="247824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Цел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362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ть умение находить нужную информацию в разных источниках, анализировать ее и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интересовать учащихся в более глубоком изучении и овладении иностранным язы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очь освоить ученикам методы  исследования, сравнения и «обучение в сотрудничеств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формировать целостное представление о жизни подростков в России и за рубеж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i?id=45690770&amp;tov=6"/>
          <p:cNvPicPr/>
          <p:nvPr/>
        </p:nvPicPr>
        <p:blipFill>
          <a:blip r:embed="rId1"/>
          <a:stretch/>
        </p:blipFill>
        <p:spPr>
          <a:xfrm>
            <a:off x="0" y="0"/>
            <a:ext cx="2340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Ы ИСПОЛЬЗОВА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б-адр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www.subcul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ubculture.narod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revolution.allbest.ru\pedagogics\00020038_0.htm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ww.tentee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ubculture.udm.ru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К В.П.Кузовле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English 10 -11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теграция электронных средств в учебный процесс способствует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активизации познавательной деятельности обучающегося в процессе обучения иностранным языкам;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- освоению компьютерных технологий педагогом и обучающимися. При этом компьютер не заменяет преподавателя, а дополняет его, являясь эффективным помощником;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- овладению обучающимися языковыми, речевыми знаниями, навыками и умениями, обеспечивающими формирование элементарной коммуникативной компетенции;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- повышению результатов качества образования и применению интересного, эффективного контроля усвоения изученного материала при интенсивном обуч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омпьютерное обучение несёт в себе огромный мотивационный материал и открывает большие возмож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Компьютер гарантирует конфиденциальность результатов. Таким образом, самооценка учащихся не снижается, и на занятиях создается психологически комфортная атмосф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Компьютерное обучение соответствует некоторым принципам индивидуального обучения, т. к. учащиеся сами могут выбирать темп работы, уровень сложности и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спользование компьютеров в учебной и внеурочной деятельности позволяет решить следующие пробл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- индивидуализацию и дифференциацию обучения;</a:t>
            </a:r>
            <a:br>
              <a:rPr sz="3200"/>
            </a:b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- мотивацию обучения;</a:t>
            </a:r>
            <a:br>
              <a:rPr sz="3200"/>
            </a:b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- избежание трудностей при работе с печатными пособиями;</a:t>
            </a:r>
            <a:br>
              <a:rPr sz="3200"/>
            </a:b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- дефицит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ультимедийные сре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сты в применении, их роль в интенсификации урока и повышении его эмоционального воздействия на обучающихся вел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тали объективной реальностью нашего времени, и преподаватель иностранного языка не может не воспользоваться мультимедийными средствами для формирования коммуникативных компетенций на своих уро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зволяют использовать новые формы и методы обучения для развития новой идеологии мыш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нее принятая модель обуче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центре технологии обучения - уч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уть обучения - передача знаний (факт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ежду обучающимися идет негласное соревн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бучающиеся играют пассивную роль на занят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овая модель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002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центре технологии обучения - обучающийся;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- роль учителя – научить учиться;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- в основе учебной деятельности - сотрудничество;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- обучающиеся играют активную роль в обучении;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- суть технологии - развитие коммуникативной компетенции обучаемых и способности к самообу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ультимедийные средства позволяют решать основные задач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активизацию учебной работы обучающихся;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обеспечение реальной коммуникации с носителями языка;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обеспечение доступа участников учебно-воспитательного процесса к быстро растущим информационным фондам, хранящимся в централизованных информационных системах;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обеспечение взаимодействия между педагогами, обмен педагогическим опытом и дидактическими материа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нтерн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Сеть позволяет  обмениваться различной информацией: от текстов до картинок, звука и видео,  использовать словари в режиме “on-line”, использовать различные источники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4:22:04Z</dcterms:created>
  <dc:creator>SamLab.ws</dc:creator>
  <dc:description/>
  <dc:language>en-US</dc:language>
  <cp:lastModifiedBy>comp</cp:lastModifiedBy>
  <dcterms:modified xsi:type="dcterms:W3CDTF">2011-11-23T17:26:50Z</dcterms:modified>
  <cp:revision>10</cp:revision>
  <dc:subject/>
  <dc:title> Информационно - коммуникативные технологии как один из  аспектов обучения иностранных языков и его влияние  на развитие речевой деятельности учащихся. </dc:title>
</cp:coreProperties>
</file>