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8768-5E81-497E-BA1E-91254CAC07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1047-EAF4-4DF5-84E0-99AA98BB62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A157-355F-45E6-A094-209CAA1D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7098-F3F6-405B-BB9C-83C2D10D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103F-EA3E-4D6F-8163-FF5594B1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DEFF-4792-458E-AC70-D569822C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043F-8E72-4A06-99C2-F1844B50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2ACC-2FBD-477D-A879-6E038186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55F5-7B6A-4DD1-B1A7-38A50407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5E9F-CC9D-48A7-B791-D35DEFE6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9AA6-DA75-4497-A91F-8E5C035E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2606-E723-48D8-AA08-DB6EE279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E17C-F942-4A0F-8EC8-B55B1AFA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AFC4-6A1C-4055-BFEA-5462A478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95373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06A9-197F-4625-8031-16816BDE04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0008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История развития компьютерной тех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ыполнила учащаяся 8 класса Гончарова Ир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ВМ четвертого поколен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197года до 1990 года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ная база – сверхбольшие интегральные схемы (СБИС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многопроцессорных вычислительных сист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дешевых и компактных микроЭВМ и персональных ЭВМ и на их базе вычислительных се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71 году фирмой Intel (США)                   создан первый микропроцессор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ируем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ое устройство, изготовленно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хнологии СБИ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hoff2"/>
          <p:cNvPicPr/>
          <p:nvPr/>
        </p:nvPicPr>
        <p:blipFill>
          <a:blip r:embed="rId1"/>
          <a:stretch/>
        </p:blipFill>
        <p:spPr>
          <a:xfrm>
            <a:off x="6215040" y="5143680"/>
            <a:ext cx="2233800" cy="15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785880" y="3143160"/>
            <a:ext cx="378612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ервые персональные компь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ютер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IBM 5150"/>
          <p:cNvPicPr/>
          <p:nvPr/>
        </p:nvPicPr>
        <p:blipFill>
          <a:blip r:embed="rId1"/>
          <a:stretch/>
        </p:blipFill>
        <p:spPr>
          <a:xfrm>
            <a:off x="1643040" y="3000240"/>
            <a:ext cx="5500800" cy="31435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4"/>
          <p:cNvSpPr/>
          <p:nvPr/>
        </p:nvSpPr>
        <p:spPr>
          <a:xfrm>
            <a:off x="2286000" y="13572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1981 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IBM Corporation (International Business Machines)(США) представила первую модель персонального компьютера — IBM 5150, положившую начало эпохи современных компьюте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3 г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порац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e Computers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ла персо-нальный компьютер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первый офисный компьютер, управляемый манипулятором мыш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4 г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порац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e Compu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устила компьютер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intos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32-разрядном процессор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orola 6800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http://book.kbsu.ru/theory/chapter3/0019.jpg"/>
          <p:cNvPicPr/>
          <p:nvPr/>
        </p:nvPicPr>
        <p:blipFill>
          <a:blip r:embed="rId1"/>
          <a:stretch/>
        </p:blipFill>
        <p:spPr>
          <a:xfrm>
            <a:off x="571680" y="571680"/>
            <a:ext cx="3786120" cy="2928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http://book.kbsu.ru/theory/chapter3/0021.jpg"/>
          <p:cNvPicPr/>
          <p:nvPr/>
        </p:nvPicPr>
        <p:blipFill>
          <a:blip r:embed="rId2"/>
          <a:stretch/>
        </p:blipFill>
        <p:spPr>
          <a:xfrm>
            <a:off x="4786200" y="571680"/>
            <a:ext cx="378468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ВМ пятого поколен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 1990 года до наших дне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к компьютерам пятого поколения предполагал переход к новым архитектурам, ориентированным на создание искусственного интеллект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лось, что архитектура компьютеров пятого поколения будет содержать два основных блока. Один из них — собственно компьютер, в котором связь с пользователем осуществляет блок, называемый «интеллектуальным интерфейсом». Задача интерфейса — понять текст, написанный на естественном языке или речь, и изложенное таким образом условие задачи перевести в работающую программу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требования к компьютерам 5-го поколения: Создание развитого человеко-машинного интерфейса (распознавание речи, образов); Развитие логического программирования для создания баз знаний и систем искусственного интеллекта; Создание новых технологий в производстве вычислительной техники; Создание новых архитектур компьютеров и вычислительных комплексов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технические возможности вычислительной техники должны были расширить круг решаемых задач и позволить перейти к задачам создания искусственного интеллекта. В качестве одной из необходимых для создания искусственного интеллекта составляющих являются базы знаний (базы данных) по различным направлениям науки и техники. Для создания и использования баз данных требуется высокое быстродействие вычислительной системы и большой объем памяти. Универсальные компьютеры способны производить высокоскоростные вычисления, но не пригодны для выполнения с высокой скоростью операций сравнения и сортировки больших объемов записей, хранящихся обычно на магнитных дисках. Для создания программ, обеспечивающих заполнение, обновление баз данных и работу с ними, были созданы специальные объектно ориентированные и логические языки программирования, обеспечивающие наибольшие возможности по сравнению с обычными процедурными языками. Структура этих языков требует перехода от традиционной фон-неймановской архитектуры компьютера к архитектурам, учитывающим требования задач создания искусственного интеллект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 IBM eServer z990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 в 2003 г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изические параметры: вес 2000 кг., потребляемая мощность 21 КВт., площадь 2,5 кв. м., высота 1,94 м., емкость ОЗУ 256 ГБайт, производительность — 9 млрд. инструкций/се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428920" y="1785960"/>
            <a:ext cx="4191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четно-решающие средства до появления ЭВ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ервое поколение ЭВ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торое поколение ЭВ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ретье поколение ЭВ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Четвертое поколение ЭВ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ятое поколение ЭВ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Счетно-решающие средства до появления ЭВМ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VI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ек до нашей эры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ревнегреческий абак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вычислений уходит глубокими корням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ль веков      так же, как и развитие человечеств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первых устройств (V—VI вв. до н. э.), облегчающих вычисления, можн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ть специальную доску для вычислений, названную «абак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Реконструкция римского абака"/>
          <p:cNvPicPr/>
          <p:nvPr/>
        </p:nvPicPr>
        <p:blipFill>
          <a:blip r:embed="rId1"/>
          <a:stretch/>
        </p:blipFill>
        <p:spPr>
          <a:xfrm>
            <a:off x="785880" y="3286080"/>
            <a:ext cx="28083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VII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е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ез ПАСКАЛ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sé Pask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06.1623    –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08.166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начале XVII столетия, когда математика стала играть ключевую роль в науке, французский математик и физик Блез Паскаль создал «суммирующую» машину, названной Паскалиной, которая кроме сложения выполняла и вычита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рифметическая машина Паскал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0" descr="паскаль"/>
          <p:cNvPicPr/>
          <p:nvPr/>
        </p:nvPicPr>
        <p:blipFill>
          <a:blip r:embed="rId1"/>
          <a:stretch/>
        </p:blipFill>
        <p:spPr>
          <a:xfrm>
            <a:off x="785880" y="571680"/>
            <a:ext cx="2500200" cy="2928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машина Паскаля"/>
          <p:cNvPicPr/>
          <p:nvPr/>
        </p:nvPicPr>
        <p:blipFill>
          <a:blip r:embed="rId2"/>
          <a:srcRect l="5715" t="18610" r="0" b="32503"/>
          <a:stretch/>
        </p:blipFill>
        <p:spPr>
          <a:xfrm>
            <a:off x="785880" y="3857760"/>
            <a:ext cx="2500200" cy="23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VII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е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фрид Вильгельм ЛЕЙБНИЦ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tfried Wilhelm Leibnit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1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ую арифметическую машину, выполняющую все четыре арифметических действия, создал в 1673 году немецкий математик Лейбниц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еский арифмомет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еский арифмометр Лейбница (1673г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лейбниц"/>
          <p:cNvPicPr/>
          <p:nvPr/>
        </p:nvPicPr>
        <p:blipFill>
          <a:blip r:embed="rId1"/>
          <a:stretch/>
        </p:blipFill>
        <p:spPr>
          <a:xfrm>
            <a:off x="571680" y="500040"/>
            <a:ext cx="2820960" cy="3289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арифмометр"/>
          <p:cNvPicPr/>
          <p:nvPr/>
        </p:nvPicPr>
        <p:blipFill>
          <a:blip r:embed="rId2"/>
          <a:stretch/>
        </p:blipFill>
        <p:spPr>
          <a:xfrm>
            <a:off x="571680" y="4143240"/>
            <a:ext cx="278604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357360" y="21384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IX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е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рльз БЭББИДЖ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6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–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12 году английский математик и экономист Чарльз Бэббидж начал работу над созданием «разностной» машины, которая должна была не просто выполнять арифметический действия, а проводить вычисления по программе, задающей определённую функци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граммного управления использовались перфокарты – картонные карточки с пробитыми в них отверстиями (перфорацией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ая машина Бэббидж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1" descr="бэббидж"/>
          <p:cNvPicPr/>
          <p:nvPr/>
        </p:nvPicPr>
        <p:blipFill>
          <a:blip r:embed="rId1"/>
          <a:stretch/>
        </p:blipFill>
        <p:spPr>
          <a:xfrm>
            <a:off x="642960" y="357120"/>
            <a:ext cx="2571840" cy="3000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babbige_comp_s"/>
          <p:cNvPicPr/>
          <p:nvPr/>
        </p:nvPicPr>
        <p:blipFill>
          <a:blip r:embed="rId2"/>
          <a:srcRect l="8953" t="0" r="8953" b="0"/>
          <a:stretch/>
        </p:blipFill>
        <p:spPr>
          <a:xfrm>
            <a:off x="642960" y="3500280"/>
            <a:ext cx="25178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ВМ первого поко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48 - 1958 г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ная база – электронно-вакуумные ламп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бариты – в виде шкафов и занимали машинные зал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действие – 10 – 100 тыс. оп./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луатация – очень слож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ирование – трудоемкий процес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ЭВМ – по жесткому принцип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180px-VacuumTube1"/>
          <p:cNvPicPr/>
          <p:nvPr/>
        </p:nvPicPr>
        <p:blipFill>
          <a:blip r:embed="rId1"/>
          <a:stretch/>
        </p:blipFill>
        <p:spPr>
          <a:xfrm>
            <a:off x="714240" y="428760"/>
            <a:ext cx="2643480" cy="3028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571680" y="3714840"/>
            <a:ext cx="2857320" cy="2643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4286160" y="4286160"/>
            <a:ext cx="4000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ВМ второго поколен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59 - 1967 год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ная база – активные и пассивные элемен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бариты – однотипные стойки, требующие машинный за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действие – сотни тысяч – 1 млн. оп./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луатация – упростилас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ирование – появились алгоритмические язы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ЭВМ – микропрограммный способ управл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Транзисторы, в качестве миниатюрной и более эффективной замены электровакуумным лампам, совершили революцию в вычислительной технике."/>
          <p:cNvPicPr/>
          <p:nvPr/>
        </p:nvPicPr>
        <p:blipFill>
          <a:blip r:embed="rId1"/>
          <a:srcRect l="0" t="0" r="20559" b="0"/>
          <a:stretch/>
        </p:blipFill>
        <p:spPr>
          <a:xfrm>
            <a:off x="5214960" y="4000680"/>
            <a:ext cx="3313080" cy="2214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428760" y="3929040"/>
            <a:ext cx="4219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ВМ третьего поколен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68 - 1973 года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ная база – интегральные схемы, большие интегральные схемы (ИС, БИС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бариты – однотипные стойки, требующие машинный за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действие – сотни тысяч – миллионы оп./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луатация – оперативно производится ремон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ирование – подобе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колен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ЭВМ – принцип модульности и магистра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ились дисплеи, магнитные дис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et_p01"/>
          <p:cNvPicPr/>
          <p:nvPr/>
        </p:nvPicPr>
        <p:blipFill>
          <a:blip r:embed="rId1"/>
          <a:srcRect l="0" t="0" r="62902" b="0"/>
          <a:stretch/>
        </p:blipFill>
        <p:spPr>
          <a:xfrm>
            <a:off x="5214960" y="4143240"/>
            <a:ext cx="3214800" cy="228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214200" y="4071960"/>
            <a:ext cx="35006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8:58:48Z</dcterms:created>
  <dc:creator>User</dc:creator>
  <dc:description/>
  <dc:language>en-US</dc:language>
  <cp:lastModifiedBy>User</cp:lastModifiedBy>
  <dcterms:modified xsi:type="dcterms:W3CDTF">2011-11-23T10:04:15Z</dcterms:modified>
  <cp:revision>7</cp:revision>
  <dc:subject/>
  <dc:title>История развития компьютерной техники</dc:title>
</cp:coreProperties>
</file>