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8365-56E2-4A2A-8167-D7487B508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88D-2831-4810-BA3B-8F5776B2B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19E-C932-482C-BA51-B3AFA6E8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350-CC75-4A21-80AA-AC64CDA4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611-5102-45F3-A35B-60DDCB7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2FC-267A-43F9-AB26-78B3B54F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17C-E9AE-44A3-AB95-3B3E6A0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6DB-2B69-4402-9276-C8D07A5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414-39B2-4839-90F2-721D01F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60D-C2C8-4540-8AEE-C5EBC7B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62-A65E-48A7-B9BC-97015965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2A2-171A-4E85-B10C-82EBE2C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F41-0A5B-476E-8F3F-A8B22D53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DE5-70FA-4CE6-98E3-791750D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95373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9CE6-9AA2-4B10-852E-3413BA3F5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тория развития компьютерн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полнила учащаяся 8 класса Гончарова И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четверт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97года до 1990 год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сверхбольшие интегральные схемы (СБИ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ногопроцессорных вычислительных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ешевых и компактных микроЭВМ и персональных ЭВМ и на их базе вычислительных с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1 году фирмой Intel (США)                   создан первый микропроцессор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уем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стройство, изготовлен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СБ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off2"/>
          <p:cNvPicPr/>
          <p:nvPr/>
        </p:nvPicPr>
        <p:blipFill>
          <a:blip r:embed="rId1"/>
          <a:stretch/>
        </p:blipFill>
        <p:spPr>
          <a:xfrm>
            <a:off x="6215040" y="5143680"/>
            <a:ext cx="223380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85880" y="3143160"/>
            <a:ext cx="37861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вые персональные компь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ют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IBM 5150"/>
          <p:cNvPicPr/>
          <p:nvPr/>
        </p:nvPicPr>
        <p:blipFill>
          <a:blip r:embed="rId1"/>
          <a:stretch/>
        </p:blipFill>
        <p:spPr>
          <a:xfrm>
            <a:off x="1643040" y="3000240"/>
            <a:ext cx="5500800" cy="3143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2286000" y="1357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981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IBM Corporation (International Business Machines)(США) представила первую модель персонального компьютера — IBM 5150, положившую начало эпохи современных компьюте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3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ла персо-нальный компьютер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ервый офисный компьютер, управляемый манипулятором мыш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4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устила компьютер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intos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32-разрядном процессор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68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http://book.kbsu.ru/theory/chapter3/0019.jpg"/>
          <p:cNvPicPr/>
          <p:nvPr/>
        </p:nvPicPr>
        <p:blipFill>
          <a:blip r:embed="rId1"/>
          <a:stretch/>
        </p:blipFill>
        <p:spPr>
          <a:xfrm>
            <a:off x="571680" y="571680"/>
            <a:ext cx="3786120" cy="29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ttp://book.kbsu.ru/theory/chapter3/0021.jpg"/>
          <p:cNvPicPr/>
          <p:nvPr/>
        </p:nvPicPr>
        <p:blipFill>
          <a:blip r:embed="rId2"/>
          <a:stretch/>
        </p:blipFill>
        <p:spPr>
          <a:xfrm>
            <a:off x="4786200" y="571680"/>
            <a:ext cx="3784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пят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1990 года до наших дн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компьютерам пятого поколения предполагал переход к новым архитектурам, ориентированным на создание искусственного интелл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ось, что архитектура компьютеров пятого поколения будет содержать два основных блока. Один из них — собственно компьютер, в котором связь с пользователем осуществляет блок, называемый «интеллектуальным интерфейсом». Задача интерфейса — понять текст, написанный на естественном языке или речь, и изложенное таким образом условие задачи перевести в работающую программ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ребования к компьютерам 5-го поколения: Создание развитого человеко-машинного интерфейса (распознавание речи, образов); Развитие логического программирования для создания баз знаний и систем искусственного интеллекта; Создание новых технологий в производстве вычислительной техники; Создание новых архитектур компьютеров и вычислительных комплекс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ические возможности вычислительной техники должны были расширить круг решаемых задач и позволить перейти к задачам создания искусственного интеллекта. В качестве одной из необходимых для создания искусственного интеллекта составляющих являются базы знаний (базы данных) по различным направлениям науки и техники. Для создания и использования баз данных требуется высокое быстродействие вычислительной системы и большой объем памяти. Универсальные компьютеры способны производить высокоскоростные вычисления, но не пригодны для выполнения с высокой скоростью операций сравнения и сортировки больших объемов записей, хранящихся обычно на магнитных дисках. Для создания программ, обеспечивающих заполнение, обновление баз данных и работу с ними, были созданы специальные объектно ориентированные и логические языки программирования, обеспечивающие наибольшие возможности по сравнению с обычными процедурными языками. Структура этих языков требует перехода от традиционной фон-неймановской архитектуры компьютера к архитектурам, учитывающим требования задач создания искусственного интелл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IBM eServer z99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 в 2003 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ие параметры: вес 2000 кг., потребляемая мощность 21 КВт., площадь 2,5 кв. м., высота 1,94 м., емкость ОЗУ 256 ГБайт, производительность — 9 млрд. инструкций/се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428920" y="1785960"/>
            <a:ext cx="4191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четно-решающие средства до появления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тор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ть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тверт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ят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четно-решающие средства до появления ЭВ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I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ек до нашей эры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ревнегреческий абак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ычислений уходит глубокими корня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 веков      так же, как и развитие человече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ервых устройств (V—VI вв. до н. э.), облегчающих вычисления, мож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 специальную доску для вычислений, названную «аба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Реконструкция римского абака"/>
          <p:cNvPicPr/>
          <p:nvPr/>
        </p:nvPicPr>
        <p:blipFill>
          <a:blip r:embed="rId1"/>
          <a:stretch/>
        </p:blipFill>
        <p:spPr>
          <a:xfrm>
            <a:off x="785880" y="328608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VI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з ПАСКА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é Pask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6.1623    –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8.166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чале XVII столетия, когда математика стала играть ключевую роль в науке, французский математик и физик Блез Паскаль создал «суммирующую» машину, названной Паскалиной, которая кроме сложения выполняла и вычит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рифметическая машина Паска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паскаль"/>
          <p:cNvPicPr/>
          <p:nvPr/>
        </p:nvPicPr>
        <p:blipFill>
          <a:blip r:embed="rId1"/>
          <a:stretch/>
        </p:blipFill>
        <p:spPr>
          <a:xfrm>
            <a:off x="785880" y="571680"/>
            <a:ext cx="2500200" cy="29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машина Паскаля"/>
          <p:cNvPicPr/>
          <p:nvPr/>
        </p:nvPicPr>
        <p:blipFill>
          <a:blip r:embed="rId2"/>
          <a:srcRect l="5715" t="18610" r="0" b="32503"/>
          <a:stretch/>
        </p:blipFill>
        <p:spPr>
          <a:xfrm>
            <a:off x="785880" y="3857760"/>
            <a:ext cx="25002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VI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фрид Вильгельм ЛЕЙБНИЦ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fried Wilhelm Leibni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арифметическую машину, выполняющую все четыре арифметических действия, создал в 1673 году немецкий математик Лейбниц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й арифмоме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й арифмометр Лейбница (1673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лейбниц"/>
          <p:cNvPicPr/>
          <p:nvPr/>
        </p:nvPicPr>
        <p:blipFill>
          <a:blip r:embed="rId1"/>
          <a:stretch/>
        </p:blipFill>
        <p:spPr>
          <a:xfrm>
            <a:off x="571680" y="500040"/>
            <a:ext cx="2820960" cy="328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арифмометр"/>
          <p:cNvPicPr/>
          <p:nvPr/>
        </p:nvPicPr>
        <p:blipFill>
          <a:blip r:embed="rId2"/>
          <a:stretch/>
        </p:blipFill>
        <p:spPr>
          <a:xfrm>
            <a:off x="571680" y="4143240"/>
            <a:ext cx="27860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7360" y="2138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льз БЭББИДЖ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2 году английский математик и экономист Чарльз Бэббидж начал работу над созданием «разностной» машины, которая должна была не просто выполнять арифметический действия, а проводить вычисления по программе, задающей определённую функ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граммного управления использовались перфокарты – картонные карточки с пробитыми в них отверстиями (перфорацие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машина Бэббидж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бэббидж"/>
          <p:cNvPicPr/>
          <p:nvPr/>
        </p:nvPicPr>
        <p:blipFill>
          <a:blip r:embed="rId1"/>
          <a:stretch/>
        </p:blipFill>
        <p:spPr>
          <a:xfrm>
            <a:off x="642960" y="357120"/>
            <a:ext cx="2571840" cy="30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babbige_comp_s"/>
          <p:cNvPicPr/>
          <p:nvPr/>
        </p:nvPicPr>
        <p:blipFill>
          <a:blip r:embed="rId2"/>
          <a:srcRect l="8953" t="0" r="8953" b="0"/>
          <a:stretch/>
        </p:blipFill>
        <p:spPr>
          <a:xfrm>
            <a:off x="642960" y="3500280"/>
            <a:ext cx="2517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первого поко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48 - 1958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электронно-вакуумные лам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в виде шкафов и занимали машинные за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10 – 100 тыс.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очень слож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трудоемкий проц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по жесткому принц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180px-VacuumTube1"/>
          <p:cNvPicPr/>
          <p:nvPr/>
        </p:nvPicPr>
        <p:blipFill>
          <a:blip r:embed="rId1"/>
          <a:stretch/>
        </p:blipFill>
        <p:spPr>
          <a:xfrm>
            <a:off x="714240" y="428760"/>
            <a:ext cx="2643480" cy="30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285732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4286160" y="4286160"/>
            <a:ext cx="400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втор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59 - 1967 го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активные и пассивные эле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однотипные стойки, требующие машинный з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сотни тысяч – 1 млн.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упрост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появились алгоритмические язы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микропрограммный способ упра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Транзисторы, в качестве миниатюрной и более эффективной замены электровакуумным лампам, совершили революцию в вычислительной технике."/>
          <p:cNvPicPr/>
          <p:nvPr/>
        </p:nvPicPr>
        <p:blipFill>
          <a:blip r:embed="rId1"/>
          <a:srcRect l="0" t="0" r="20559" b="0"/>
          <a:stretch/>
        </p:blipFill>
        <p:spPr>
          <a:xfrm>
            <a:off x="5214960" y="400068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28760" y="3929040"/>
            <a:ext cx="4219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третье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68 - 1973 год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интегральные схемы, большие интегральные схемы (ИС, БИ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однотипные стойки, требующие машинный з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сотни тысяч – миллионы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оперативно производится ремо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подобе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ол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принцип модульности и магистра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дисплеи, магнитные дис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et_p01"/>
          <p:cNvPicPr/>
          <p:nvPr/>
        </p:nvPicPr>
        <p:blipFill>
          <a:blip r:embed="rId1"/>
          <a:srcRect l="0" t="0" r="62902" b="0"/>
          <a:stretch/>
        </p:blipFill>
        <p:spPr>
          <a:xfrm>
            <a:off x="5214960" y="41432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14200" y="4071960"/>
            <a:ext cx="3500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8:58:48Z</dcterms:created>
  <dc:creator>User</dc:creator>
  <dc:description/>
  <dc:language>en-US</dc:language>
  <cp:lastModifiedBy>User</cp:lastModifiedBy>
  <dcterms:modified xsi:type="dcterms:W3CDTF">2011-11-23T10:04:15Z</dcterms:modified>
  <cp:revision>7</cp:revision>
  <dc:subject/>
  <dc:title>История развития компьютерной техники</dc:title>
</cp:coreProperties>
</file>