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A16-C8D4-48EC-A302-9CE1714B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EF2-65D3-4184-91E0-86DDA41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AD8-D81E-478E-AFD3-1A819238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542-934B-4246-A096-122C399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142-5BD0-4D61-817B-55944571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A06-C45A-4195-B583-7C1AD50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6D3-FEEF-40D3-B338-586E9E73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05B-DE16-431E-92B0-901AC9D0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B66-A5A2-48C7-A054-5F7E1A93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6B1-2BCE-4748-879E-0E600FB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6DC-6A74-4E46-A61B-3FA09C1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A3E-E017-4C59-B406-04EE4511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AD64-20E4-4D24-8CD4-9160BBAEA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lermontov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вказ в жизни и творчеств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. Ю.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иние горы Кавказа, Приветствую вас! вы                   взлелеяли детство мое; вы носили меня на своих одичалых хребтах, облаками меня одевали, вы к небу меня приучили, и я с той поры все мечтаю об вас да о н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Лермонтов в расстёгнутом ментике с золотыми шнурками. (1837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838836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use\Desktop\4999943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07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\Desktop\000015.jpg"/>
          <p:cNvPicPr/>
          <p:nvPr/>
        </p:nvPicPr>
        <p:blipFill>
          <a:blip r:embed="rId1"/>
          <a:stretch/>
        </p:blipFill>
        <p:spPr>
          <a:xfrm>
            <a:off x="539640" y="404640"/>
            <a:ext cx="8425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Вид Пятигорска. Литография К. Беггрова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Беседка 'Эолова арфа'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рестовая гора. М.Ю. Лермонтов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Воспоминание о Кавказе. Картина М.Ю. Лермонтова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Вид Тифлиса. Картина М.Ю. Лермонтова"/>
          <p:cNvPicPr/>
          <p:nvPr/>
        </p:nvPicPr>
        <p:blipFill>
          <a:blip r:embed="rId1"/>
          <a:stretch/>
        </p:blipFill>
        <p:spPr>
          <a:xfrm>
            <a:off x="684360" y="4762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Эпизод сражения при Валерике 11 июля 1840 г. Акварель М.Ю. Лермонтова и Г.Г. Гагарина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\Desktop\Pyatigorsk_domik_Lermontova3.jpg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9:29:51Z</dcterms:created>
  <dc:creator>Татьяна</dc:creator>
  <dc:description/>
  <dc:language>en-US</dc:language>
  <cp:lastModifiedBy>use</cp:lastModifiedBy>
  <dcterms:modified xsi:type="dcterms:W3CDTF">2011-01-25T17:20:07Z</dcterms:modified>
  <cp:revision>21</cp:revision>
  <dc:subject/>
  <dc:title>Слайд 1</dc:title>
</cp:coreProperties>
</file>