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DCE-F80E-482F-8451-797FA151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D5A-C1AE-40C4-8FEA-65B6C0A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944-123F-48FA-B8F2-ABD45CD3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D5B-C960-413B-947E-0DDB3C63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DE9-65A3-4FD9-B950-477CA8D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475-1759-413A-B54B-16126849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777-F891-45C3-AC6C-7AB8D3F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8DF-D20D-449E-A53F-5B9DA9E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1BA-D980-4E8D-A3F2-51546BB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299-42E4-4344-B0DA-C5E290F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DF2-7042-4D8C-BF63-98C25E1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3E1-1229-4D9D-B089-DFC8D48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DDF-A244-455C-985C-EAA68C9A2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lermontov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вказ в жизни и творчеств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. Ю.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иние горы Кавказа, Приветствую вас! вы                   взлелеяли детство мое; вы носили меня на своих одичалых хребтах, облаками меня одевали, вы к небу меня приучили, и я с той поры все мечтаю об вас да о н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Лермонтов в расстёгнутом ментике с золотыми шнурками. (1837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38836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use\Desktop\4999943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07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\Desktop\000015.jpg"/>
          <p:cNvPicPr/>
          <p:nvPr/>
        </p:nvPicPr>
        <p:blipFill>
          <a:blip r:embed="rId1"/>
          <a:stretch/>
        </p:blipFill>
        <p:spPr>
          <a:xfrm>
            <a:off x="539640" y="404640"/>
            <a:ext cx="8425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Вид Пятигорска. Литография К. Беггрова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Беседка 'Эолова арфа'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рестовая гора. М.Ю. Лермонтов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Воспоминание о Кавказе. Картина М.Ю. Лермонтова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Вид Тифлиса. Картина М.Ю. Лермонтова"/>
          <p:cNvPicPr/>
          <p:nvPr/>
        </p:nvPicPr>
        <p:blipFill>
          <a:blip r:embed="rId1"/>
          <a:stretch/>
        </p:blipFill>
        <p:spPr>
          <a:xfrm>
            <a:off x="684360" y="476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Эпизод сражения при Валерике 11 июля 1840 г. Акварель М.Ю. Лермонтова и Г.Г. Гагарина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\Desktop\Pyatigorsk_domik_Lermontova3.jpg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9:29:51Z</dcterms:created>
  <dc:creator>Татьяна</dc:creator>
  <dc:description/>
  <dc:language>en-US</dc:language>
  <cp:lastModifiedBy>use</cp:lastModifiedBy>
  <dcterms:modified xsi:type="dcterms:W3CDTF">2011-01-25T17:20:07Z</dcterms:modified>
  <cp:revision>21</cp:revision>
  <dc:subject/>
  <dc:title>Слайд 1</dc:title>
</cp:coreProperties>
</file>