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5AD-CA62-49AE-81A0-3F0331D8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66F-E520-4CD4-803B-19C460C5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E0E-1D51-446F-A6E0-BDCBFDEE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541-4BD2-4B28-94D1-A5895B46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949F-67D9-4E02-9544-04A0957B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C7E1-3A96-4090-898A-155DCC78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E345-B0D2-431B-A600-E6810AEF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DF28-BB96-480A-9064-D581AAF6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B2A1-25EE-4937-A102-813C37CA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7336-3FC7-4645-88A2-5A05CB96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C737-C9CE-4D90-BAC1-42DF8D5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4ED-5C12-43FB-9442-C59E3FFF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BFDD-C161-4CB3-B99E-2445B0A7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80A0-A1D4-47C7-8901-A96C9DD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98B6-5AB8-4870-9746-452D0BBF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ED10-E3BE-4D0B-AAF4-17F6E0C3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C0AC-E17D-4155-9927-5F37FE07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3AC3D4-D95C-4621-B66D-8FB4F968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2A875-D3AC-45E2-AAEB-37381B9E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8EBA4-E99F-4479-956E-D1F6439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FD5D7-35E2-45A1-9241-2BB1A193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FD9C2-C532-43EA-B8EC-52F9C491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4B1-FB0B-48CE-B29B-117A4103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CF567-0BAD-41E0-ACDD-2D7845D3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E721F8-CAC3-4320-B81D-281B733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06D43-4E24-4C06-96E2-F512B8DF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4B9F5-6411-4370-9D05-23E12491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981C4-55BA-4718-BD84-A0D0E60E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CDFD2-42E6-49B0-8D90-D6E0F8B0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CD9AB-11B2-46C5-98BB-FD9ED439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8D2D-5C40-494A-B568-E7F394CF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3957-2115-4C40-9C26-D6D24FE6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7E0C-7433-4280-A54D-FAD79F77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0CC-8424-4254-B652-CF6C1686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4D7B-AE08-4C27-8392-5740BCB1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608F-72AF-49A0-8F72-1A403738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85BF-A3C7-493E-BD7A-AAA6C6DC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95B0-4152-45BC-864D-27FF6B35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58221-B8D0-44AE-B80C-6EFB871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E73D-695F-419B-9AE3-7F411A6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4BBC-07CD-463B-A812-A42C2214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06F4-E2EE-4143-820D-F2E32CED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98503-C616-4BEF-A605-049D0A6D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3E0F7-C4EA-4610-9ECB-C383527E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163-B58A-418D-AFC2-D5C01425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0D29D-F4A5-46F5-9992-090EFDEE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5EC8-93E5-4666-B1BA-84523C97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6BD3B-8A91-40CC-97D3-1AEC944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A2688-459F-4C2D-8000-406ECDE9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AAED1-7154-4435-9C7F-3D51E260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BEF1B-759B-476F-890B-5E42EDB1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F994-82A3-44AB-8AAA-8E4D0F27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E14C-4DB5-4AD5-A405-DF2BB47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0166-CFF6-4415-8C82-74C07128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3AA7-2AD4-465C-8D84-A94EE06F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7FC-E69E-4D30-A998-45DD1F45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B7D7-44CB-4F3E-B18A-36D523E1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67E8-494C-4DFA-9DCC-90B68920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19A7-9B5F-457F-B42B-65000706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4156F-8F8A-4E40-A2D6-BDC0162B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A016B-3CD7-4E8E-BF78-078B1DD7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7949-B484-4357-AB75-6C77824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266A4-BF6B-4FE0-B6BA-57830A5F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0B6A3-6AF2-4CA4-B6B4-8CCEA340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9BB79-AFCB-464B-8837-1C0CA0F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CAB9C-8D55-4ADA-B7AC-4B907885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57C-BC14-4520-AD67-419E1097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21F54-08ED-45CA-9192-F3C2EFC5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40E4-1A35-4BBC-8598-824A4558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60F88-B122-428F-A3B2-B930DD64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5E4-3D84-4F00-8892-33B135A3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27F-6EC8-4988-9696-6DEEA9D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54FA-6DEB-4B54-8697-664F024077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E796-1705-47E3-AB34-0778B7CD0C4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6c6c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07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0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1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2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3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4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6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7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8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49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0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1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2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3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4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5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6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7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8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59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0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1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2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3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4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5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6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7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8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69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0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1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2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3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4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5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6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7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8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79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0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1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2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3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4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5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6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7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8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89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0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1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2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3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4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5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6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7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8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99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0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1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2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3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4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5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6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7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8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09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0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1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2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3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4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5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6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7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8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19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0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1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2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3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4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5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6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7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8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29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0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1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2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3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4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5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6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7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8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39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0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1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2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3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4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5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6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7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8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49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0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1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2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3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4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5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6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7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8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59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0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1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2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3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4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5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6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7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8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69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0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1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2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3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4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5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6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7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8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79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0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1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2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3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4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5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6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7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8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89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0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1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2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3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4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5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6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7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8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299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0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1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2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3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4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5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6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7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8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09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0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1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2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3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4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5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6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7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8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19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20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21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2BB5-F159-4D48-ABF7-E48C70C43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546C-0324-43DA-87F1-48C11DAAA1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4985-B05D-4DF9-981F-CBE3C580931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7272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47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4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5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49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0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1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2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3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4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5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6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7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8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59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0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1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2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3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4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5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6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7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68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598E-1320-4D6E-9DD1-9B9F468F7F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508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2b2b2"/>
                </a:solidFill>
                <a:latin typeface="Arial"/>
              </a:rPr>
              <a:t>М.В.Ломонос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6" descr="2"/>
          <p:cNvPicPr/>
          <p:nvPr/>
        </p:nvPicPr>
        <p:blipFill>
          <a:blip r:embed="rId1"/>
          <a:stretch/>
        </p:blipFill>
        <p:spPr>
          <a:xfrm>
            <a:off x="2843280" y="333360"/>
            <a:ext cx="3313080" cy="47912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5" descr="http://im7-tub-ru.yandex.net/i?id=240803715-67-72"/>
          <p:cNvPicPr/>
          <p:nvPr/>
        </p:nvPicPr>
        <p:blipFill>
          <a:blip r:embed="rId2"/>
          <a:stretch/>
        </p:blipFill>
        <p:spPr>
          <a:xfrm>
            <a:off x="468360" y="260280"/>
            <a:ext cx="885600" cy="13906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http://im6-tub-ru.yandex.net/i?id=238000349-23-72"/>
          <p:cNvPicPr/>
          <p:nvPr/>
        </p:nvPicPr>
        <p:blipFill>
          <a:blip r:embed="rId3"/>
          <a:stretch/>
        </p:blipFill>
        <p:spPr>
          <a:xfrm>
            <a:off x="6300720" y="260280"/>
            <a:ext cx="943200" cy="14288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9" descr="http://im3-tub-ru.yandex.net/i?id=11602812-05-72"/>
          <p:cNvPicPr/>
          <p:nvPr/>
        </p:nvPicPr>
        <p:blipFill>
          <a:blip r:embed="rId4"/>
          <a:stretch/>
        </p:blipFill>
        <p:spPr>
          <a:xfrm>
            <a:off x="7667640" y="1341360"/>
            <a:ext cx="1038240" cy="14194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1" descr="http://im7-tub-ru.yandex.net/i?id=380996879-10-72"/>
          <p:cNvPicPr/>
          <p:nvPr/>
        </p:nvPicPr>
        <p:blipFill>
          <a:blip r:embed="rId5"/>
          <a:stretch/>
        </p:blipFill>
        <p:spPr>
          <a:xfrm>
            <a:off x="6443640" y="278136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3" descr="http://im4-tub-ru.yandex.net/i?id=71400760-13-72"/>
          <p:cNvPicPr/>
          <p:nvPr/>
        </p:nvPicPr>
        <p:blipFill>
          <a:blip r:embed="rId6"/>
          <a:stretch/>
        </p:blipFill>
        <p:spPr>
          <a:xfrm>
            <a:off x="1763640" y="1052640"/>
            <a:ext cx="876240" cy="13525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5" descr="http://im7-tub-ru.yandex.net/i?id=145968494-06-72"/>
          <p:cNvPicPr/>
          <p:nvPr/>
        </p:nvPicPr>
        <p:blipFill>
          <a:blip r:embed="rId7"/>
          <a:stretch/>
        </p:blipFill>
        <p:spPr>
          <a:xfrm>
            <a:off x="1692360" y="306864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7" descr="http://im2-tub-ru.yandex.net/i?id=282567511-45-72"/>
          <p:cNvPicPr/>
          <p:nvPr/>
        </p:nvPicPr>
        <p:blipFill>
          <a:blip r:embed="rId8"/>
          <a:stretch/>
        </p:blipFill>
        <p:spPr>
          <a:xfrm>
            <a:off x="250920" y="2421000"/>
            <a:ext cx="1428480" cy="790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1" descr="Картинка 177 из 6767"/>
          <p:cNvPicPr/>
          <p:nvPr/>
        </p:nvPicPr>
        <p:blipFill>
          <a:blip r:embed="rId9"/>
          <a:srcRect l="5391" t="7196" r="8371" b="13603"/>
          <a:stretch/>
        </p:blipFill>
        <p:spPr>
          <a:xfrm>
            <a:off x="6804000" y="4292640"/>
            <a:ext cx="2052720" cy="14112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3" descr="http://im2-tub-ru.yandex.net/i?id=192440537-11-72"/>
          <p:cNvPicPr/>
          <p:nvPr/>
        </p:nvPicPr>
        <p:blipFill>
          <a:blip r:embed="rId10"/>
          <a:stretch/>
        </p:blipFill>
        <p:spPr>
          <a:xfrm>
            <a:off x="179280" y="4005360"/>
            <a:ext cx="1409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форизмы Ломано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Математику уже за то любить следует, что она ум в порядок при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Ежели ты хорошее сделаешь с трудом, труд минется, а хорошее останется, а ежели сделаешь что худое с услаждением, услаждение минется, а худое остан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Ленивый человек в беспечном покое сходен с неподвижною болотною водою, которая кроме смраду и презренных гадин ничего не произв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еусыпный труд препятствия преодолевае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200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уки юношей питают,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траду старым подают,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 счастливой жизни украшают,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 несчастной случай берегу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8" descr="image004"/>
          <p:cNvPicPr/>
          <p:nvPr/>
        </p:nvPicPr>
        <p:blipFill>
          <a:blip r:embed="rId1"/>
          <a:stretch/>
        </p:blipFill>
        <p:spPr>
          <a:xfrm>
            <a:off x="6875640" y="4076640"/>
            <a:ext cx="20016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а Арктики, составленная М.В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омоносов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http://im5-tub-ru.yandex.net/i?id=14971994-15-72"/>
          <p:cNvPicPr/>
          <p:nvPr/>
        </p:nvPicPr>
        <p:blipFill>
          <a:blip r:embed="rId1"/>
          <a:stretch/>
        </p:blipFill>
        <p:spPr>
          <a:xfrm>
            <a:off x="2411280" y="2060640"/>
            <a:ext cx="4248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анимательные фак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187280" y="907560"/>
            <a:ext cx="691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 Unicode MS"/>
              </a:rPr>
              <a:t>Ломоносов был человеком высоким и очень сильным физически. Существует легенда о том, что однажды он в одиночку обратил в бегство трёх вооружённых разбойников, пытавшихся его ограб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6" descr="collage"/>
          <p:cNvPicPr/>
          <p:nvPr/>
        </p:nvPicPr>
        <p:blipFill>
          <a:blip r:embed="rId2"/>
          <a:srcRect l="26835" t="0" r="24223" b="0"/>
          <a:stretch/>
        </p:blipFill>
        <p:spPr>
          <a:xfrm>
            <a:off x="3203640" y="3141720"/>
            <a:ext cx="2592360" cy="326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амятник М.В.Ломоносову на родине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773" name="Picture 4" descr="памятник Ломон"/>
          <p:cNvPicPr/>
          <p:nvPr/>
        </p:nvPicPr>
        <p:blipFill>
          <a:blip r:embed="rId1"/>
          <a:stretch/>
        </p:blipFill>
        <p:spPr>
          <a:xfrm>
            <a:off x="2666880" y="907920"/>
            <a:ext cx="3810240" cy="581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4" descr="кабинет химика Ломон"/>
          <p:cNvPicPr/>
          <p:nvPr/>
        </p:nvPicPr>
        <p:blipFill>
          <a:blip r:embed="rId1"/>
          <a:stretch/>
        </p:blipFill>
        <p:spPr>
          <a:xfrm>
            <a:off x="1908000" y="1773360"/>
            <a:ext cx="5616720" cy="468000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Кабинет химика М.В.Ломоно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40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Могила М.В.Ломоносова в Александро – Невской ла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4" descr="могила Ломоносова в Алекс"/>
          <p:cNvPicPr/>
          <p:nvPr/>
        </p:nvPicPr>
        <p:blipFill>
          <a:blip r:embed="rId1"/>
          <a:stretch/>
        </p:blipFill>
        <p:spPr>
          <a:xfrm>
            <a:off x="2735280" y="1700280"/>
            <a:ext cx="363708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97308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сай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visualmix.narod.ru/lomonosov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www.narfu.ru/lomonosov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www.narfu.ru/lomonosov/about/biography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www.rupoem.ru/lomonosov/all.asp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e4"/>
                </a:solidFill>
                <a:latin typeface="Arial"/>
              </a:rPr>
              <a:t>http://images.yandex.ru/yand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0"/>
          <p:cNvSpPr/>
          <p:nvPr/>
        </p:nvSpPr>
        <p:spPr>
          <a:xfrm>
            <a:off x="517680" y="1816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200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81" name="Rectangle 11"/>
          <p:cNvSpPr/>
          <p:nvPr/>
        </p:nvSpPr>
        <p:spPr>
          <a:xfrm>
            <a:off x="4932360" y="580536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Д. С. Топалов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ченик 7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А класса. МОУ СОШ № 68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4"/>
          <p:cNvSpPr/>
          <p:nvPr/>
        </p:nvSpPr>
        <p:spPr>
          <a:xfrm>
            <a:off x="1619280" y="4869000"/>
            <a:ext cx="626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ихаил Васильевич Ломоносов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ноябре 2011 года исполняется 300 лет со дня рождения великого русского ученого-энциклопедиста, просветителя и поэта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738" name="Picture 5" descr="label"/>
          <p:cNvPicPr/>
          <p:nvPr/>
        </p:nvPicPr>
        <p:blipFill>
          <a:blip r:embed="rId1"/>
          <a:stretch/>
        </p:blipFill>
        <p:spPr>
          <a:xfrm>
            <a:off x="2987640" y="1413000"/>
            <a:ext cx="3392640" cy="2808000"/>
          </a:xfrm>
          <a:prstGeom prst="rect">
            <a:avLst/>
          </a:prstGeom>
          <a:ln w="0">
            <a:noFill/>
          </a:ln>
        </p:spPr>
      </p:pic>
      <p:sp>
        <p:nvSpPr>
          <p:cNvPr id="739" name="TextBox 3"/>
          <p:cNvSpPr/>
          <p:nvPr/>
        </p:nvSpPr>
        <p:spPr>
          <a:xfrm>
            <a:off x="3780000" y="404640"/>
            <a:ext cx="51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Он создал первый университет; он, лучше сказать,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сам был первым нашим университетом.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                                                             А.С. Пушкин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46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История человечества знает много разносторонне одаренных людей. И среди них на одно из первых мест надо поставить 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</a:rPr>
              <a:t>великого русского ученого Михаила Васильевича Ломонос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6" descr="портрет Ломоносова"/>
          <p:cNvPicPr/>
          <p:nvPr/>
        </p:nvPicPr>
        <p:blipFill>
          <a:blip r:embed="rId2"/>
          <a:stretch/>
        </p:blipFill>
        <p:spPr>
          <a:xfrm>
            <a:off x="5472000" y="0"/>
            <a:ext cx="3672000" cy="4292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5" descr="2"/>
          <p:cNvPicPr/>
          <p:nvPr/>
        </p:nvPicPr>
        <p:blipFill>
          <a:blip r:embed="rId3"/>
          <a:stretch/>
        </p:blipFill>
        <p:spPr>
          <a:xfrm>
            <a:off x="179280" y="3284640"/>
            <a:ext cx="4573800" cy="285264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"/>
          <p:cNvSpPr/>
          <p:nvPr/>
        </p:nvSpPr>
        <p:spPr>
          <a:xfrm>
            <a:off x="5148360" y="465300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Arial Unicode MS"/>
              </a:rPr>
              <a:t>Михаил Васильевич Ломоносов родился 8 ноября (19 — по новому стилю) 1711 г. в деревне Мишанинской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4"/>
          <p:cNvSpPr/>
          <p:nvPr/>
        </p:nvSpPr>
        <p:spPr>
          <a:xfrm>
            <a:off x="611280" y="4869000"/>
            <a:ext cx="7524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7200e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Garamond"/>
              </a:rPr>
              <a:t>Оптика и теплота, электричество и тяготение, метеорология и искусство, география и металлургия, история и химия, философия и литература, геология и астрономия</a:t>
            </a:r>
            <a:r>
              <a:rPr b="1" lang="ru-RU" sz="2400" spc="-1" strike="noStrike">
                <a:solidFill>
                  <a:srgbClr val="eaeaea"/>
                </a:solidFill>
                <a:latin typeface="Garamond"/>
              </a:rPr>
              <a:t> — вот те области, в которых Ломоносов оставил свои след.</a:t>
            </a:r>
            <a:endParaRPr b="0" lang="en-US" sz="2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745" name="Picture 5" descr="foto"/>
          <p:cNvPicPr/>
          <p:nvPr/>
        </p:nvPicPr>
        <p:blipFill>
          <a:blip r:embed="rId1"/>
          <a:stretch/>
        </p:blipFill>
        <p:spPr>
          <a:xfrm>
            <a:off x="826920" y="692280"/>
            <a:ext cx="3187800" cy="38890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Картинка 167 из 6767"/>
          <p:cNvPicPr/>
          <p:nvPr/>
        </p:nvPicPr>
        <p:blipFill>
          <a:blip r:embed="rId2"/>
          <a:stretch/>
        </p:blipFill>
        <p:spPr>
          <a:xfrm>
            <a:off x="5219640" y="692280"/>
            <a:ext cx="30402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4" descr="lomonosov_ekaterina2"/>
          <p:cNvPicPr/>
          <p:nvPr/>
        </p:nvPicPr>
        <p:blipFill>
          <a:blip r:embed="rId1"/>
          <a:stretch/>
        </p:blipFill>
        <p:spPr>
          <a:xfrm>
            <a:off x="900000" y="404640"/>
            <a:ext cx="7380360" cy="55357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250920" y="5881680"/>
            <a:ext cx="860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 Unicode MS"/>
              </a:rPr>
              <a:t> </a:t>
            </a:r>
            <a:r>
              <a:rPr b="0" lang="ru-RU" sz="2000" spc="-1" strike="noStrike">
                <a:solidFill>
                  <a:srgbClr val="ff5050"/>
                </a:solidFill>
                <a:latin typeface="Arial Unicode MS"/>
              </a:rPr>
              <a:t>Екатерина II с княгиней Дашковой и другими вельможами в кабинете Ломоносова в 1764 году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МГУ им. М.В.Ломоносова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4" descr="МГУ им"/>
          <p:cNvPicPr/>
          <p:nvPr/>
        </p:nvPicPr>
        <p:blipFill>
          <a:blip r:embed="rId1"/>
          <a:stretch/>
        </p:blipFill>
        <p:spPr>
          <a:xfrm>
            <a:off x="1258920" y="1341360"/>
            <a:ext cx="69134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Заслуги Ломоно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24000" y="981000"/>
            <a:ext cx="41716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Любимая наука Ломоносова – химия. Он создал химическую лабораторию в Петербурге и открыл новый за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Занимаясь физикой, он раскрыл загадку грозы и северного сия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Он любил наблюдать за звездами, усовершенствовал телеско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Наблюдая за Венерой, установил, что у этой планеты есть атмосф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Он первый в мире географ-поляр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Занимался историей древних славян историй изготовления фар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А сколько он сделал для совершенствования русского язы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Сочинял стих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Возродил производство цветного стекла и сделал мозаичные картины ("Портрет Петра I", "Полтавская битва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00e4"/>
                </a:solidFill>
                <a:latin typeface="Arial"/>
              </a:rPr>
              <a:t>Открыл первый российский университет в Москве.</a:t>
            </a:r>
            <a:r>
              <a:rPr b="0" lang="ru-RU" sz="2000" spc="-1" strike="noStrike">
                <a:solidFill>
                  <a:srgbClr val="7200e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4" descr="мозаика Полт"/>
          <p:cNvPicPr/>
          <p:nvPr/>
        </p:nvPicPr>
        <p:blipFill>
          <a:blip r:embed="rId1"/>
          <a:stretch/>
        </p:blipFill>
        <p:spPr>
          <a:xfrm>
            <a:off x="395280" y="1413000"/>
            <a:ext cx="3598920" cy="47512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" descr="мозаика Пётр 1 Ломоносов"/>
          <p:cNvPicPr/>
          <p:nvPr/>
        </p:nvPicPr>
        <p:blipFill>
          <a:blip r:embed="rId2"/>
          <a:stretch/>
        </p:blipFill>
        <p:spPr>
          <a:xfrm>
            <a:off x="5076720" y="1484280"/>
            <a:ext cx="3745080" cy="475128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6"/>
          <p:cNvSpPr/>
          <p:nvPr/>
        </p:nvSpPr>
        <p:spPr>
          <a:xfrm>
            <a:off x="401040" y="623664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Мозаика «Полтавская битва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5292720" y="6236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Мозаика «Пётр 1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моносов -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1"/>
          <p:cNvSpPr/>
          <p:nvPr/>
        </p:nvSpPr>
        <p:spPr>
          <a:xfrm>
            <a:off x="250920" y="1263240"/>
            <a:ext cx="4465440" cy="11912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Мышь некогда, любя святыню,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Оставила прелестной мир,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Ушла в глубокую пустыню,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Засевшись вся в галланской сыр.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х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3059280" y="3091320"/>
            <a:ext cx="5725800" cy="36601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Случились вместе два Астр</a:t>
            </a:r>
            <a:r>
              <a:rPr b="1" lang="ru-RU" sz="1800" spc="-1" strike="noStrike">
                <a:solidFill>
                  <a:srgbClr val="eaeaea"/>
                </a:solidFill>
                <a:latin typeface="Arial Unicode MS"/>
              </a:rPr>
              <a:t>о</a:t>
            </a: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нома в пиру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И спорили весьма между собой в жару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Один твердил: земля, вертясь, круг Солнца ходит;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Другой, что Солнце все с собой планеты водит: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Один Коперник был, другой слыл Птолемей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Тут повар спор решил усмешкою своей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Хозяин спрашивал: "Ты звезд теченье знаешь?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Скажи, как ты о сем сомненье рассуждаешь?"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Он дал такой ответ: "Что в том Коперник прав,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Я правду докажу, на Солнце не бывав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Кто видел простака из поваров такова,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 Unicode MS"/>
              </a:rPr>
              <a:t>Который бы вертел очаг кругом жаркова?"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762" name="Picture 9" descr="0000000013"/>
          <p:cNvPicPr/>
          <p:nvPr/>
        </p:nvPicPr>
        <p:blipFill>
          <a:blip r:embed="rId1"/>
          <a:stretch/>
        </p:blipFill>
        <p:spPr>
          <a:xfrm>
            <a:off x="179280" y="2781360"/>
            <a:ext cx="2870280" cy="3355920"/>
          </a:xfrm>
          <a:prstGeom prst="rect">
            <a:avLst/>
          </a:prstGeom>
          <a:ln w="0">
            <a:noFill/>
          </a:ln>
        </p:spPr>
      </p:pic>
      <p:sp>
        <p:nvSpPr>
          <p:cNvPr id="763" name="TextBox 6"/>
          <p:cNvSpPr/>
          <p:nvPr/>
        </p:nvSpPr>
        <p:spPr>
          <a:xfrm>
            <a:off x="5940360" y="260280"/>
            <a:ext cx="2519280" cy="283716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Услышали мухи 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Медовые духи,  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Прилетевши сели, 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В радости запели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Егда стали ясти,  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Попали в напасти, 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Увязли-бо ноги. 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  </a:t>
            </a: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Ах, плачут убоги:  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Меду полизали,   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Garamond"/>
              </a:rPr>
              <a:t>А сами пропал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7:47:25Z</dcterms:created>
  <dc:creator>Катя</dc:creator>
  <dc:description/>
  <dc:language>en-US</dc:language>
  <cp:lastModifiedBy>xli</cp:lastModifiedBy>
  <dcterms:modified xsi:type="dcterms:W3CDTF">2011-11-23T08:03:56Z</dcterms:modified>
  <cp:revision>18</cp:revision>
  <dc:subject/>
  <dc:title>М. В. ЛОМОНОСОВ —   ВЕЛИКИЙ СЫН РОССИИ.</dc:title>
</cp:coreProperties>
</file>