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B2F-48B5-466E-A430-1C6579E3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D67-A6E6-4248-BB9C-33CE4675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E13-9769-4219-BFC7-E2E05B0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A10-E7C2-4207-9CBC-6A703B58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E9B2-6E45-471B-8415-AF1DF1C4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A833-9193-400A-BF5C-0BD03C0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E23-E797-4299-9FCC-F49EE56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58B-238A-4B92-9EAA-A560CEE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E4B7-3FAD-48A1-B976-E6E9144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8BB-4793-4CC2-9F9C-A69B1309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F59-DFD2-4066-A9C3-68D7AAE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347-4FDB-4373-BB69-AA1270B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D7E-75C6-4486-B566-055E351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7EF-52F4-4460-9C63-FF3660C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ACE-20C0-4F81-98E2-214E04A8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9381-297D-433D-88E4-354C10CC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2D63-BF21-4611-8780-87B77F8D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DEE67-2B0B-4A3B-9392-9D641933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0F31E-53B2-49AA-89FD-31479291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D73B6-13FB-468B-8F3E-BCBF296D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CC85B-B041-41DB-BA91-B84B26E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3A4DF-7DB9-423C-9A22-E0A5296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CC4-F342-4CA6-BDDC-1D634BE1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74E8B-9891-4443-8628-768DC5D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E6137-E457-4611-A181-2FD3611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88BE8-99BA-4869-9944-896B68F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748E1-855D-4C77-A074-92B0B07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01299-F722-4B61-AE01-D69964BF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A2983-AB3D-468D-B5F1-56497B10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721C3-2401-4387-95DC-67F121FA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E8A6-BA64-43B5-9D61-2C60523E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F613-4FFE-4B64-83FE-64A38D9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F519-0C06-4233-83F3-E218B902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64A-866A-4E96-AF48-5D472F6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8575-BDC6-4F26-97EF-FAFA1A66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E7FF-D794-4635-9CFB-1C22E84F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0545-58C6-48EE-8E71-F07F7A2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F78B-A20C-4556-96D8-2878EC3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8143-DE72-4890-8B75-0B5D3A2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7AC3-7DE8-4102-A984-2F9D9A0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743D-7524-456D-A976-A09933E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A12A-15D5-450E-95EE-FE4571BA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271B-0ED0-4E43-B770-19C0FDFB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4F50-457A-4F54-A935-C8CBBC2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1DD-D0D3-48F0-96E1-BF2054C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FEBC-A468-4981-860C-7CCB7F2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E0471-859C-462E-8B53-0F25D4E7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561F-546D-4176-AE3C-D4D56C8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FCBB-60BD-4F16-B6C0-D1678F6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06C2-2A7A-4858-890A-1DA185BD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1D2D-E04F-4A2C-B138-37DA472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2D4E-661E-433C-9C26-32F87B4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5F86-BBAE-4669-A23D-18EA8E9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BFB9-25CA-42F9-8F91-1E1C4AF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1258E-CD5C-4B3B-ACE8-5D12236A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A3E-BE46-45D3-B6DE-7AAA3127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AAB8-CE10-4E46-8AF7-22D2E2E7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B757-325B-4A1F-A7D7-E5AE03A9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97325-843F-4CA4-9A54-925506C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84A9A-1DF9-429F-81E8-CF75312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E3B3-699A-4301-99EC-FB0C446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9C9E-623F-4987-A538-5D5D5815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5C98F-D962-42CE-B5DE-54009A7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0A7C-CB84-40B8-91E5-26A5B57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EA41-284B-4E28-A76F-5737DC9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6A32-D2D1-44B8-9364-C3BA887C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EAF-BBE6-4003-8FBB-B2068F7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9498-8E2E-447C-AF43-7ECD6532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7AB2-2C3E-49EC-9B36-4BEA06C6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85AB-8FE4-48A2-8375-13C47A78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B4E-B67B-4B02-AD19-F4DF08C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D42-FD6B-43F8-AA60-3CE112C1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082C-60C6-432F-978E-740F261E84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E46-4273-4D19-B38E-D1FC09317E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07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0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1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2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3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4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6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7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8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9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0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1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2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3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4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5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6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7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8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9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0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1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2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3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4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5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6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7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8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9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0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1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2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3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4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5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6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7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8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9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0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1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2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3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4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5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6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8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9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0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1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2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3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4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5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6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7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8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9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0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1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2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3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4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5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6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7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8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9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0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1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2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3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4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5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6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7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8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9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0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1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2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3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4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5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6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7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8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9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0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1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2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3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4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5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6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7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8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9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0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1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2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3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4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5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6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7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8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9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0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1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2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3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4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5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6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7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8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9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0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1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2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3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4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5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6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7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8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9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0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1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2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3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4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5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6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7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8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9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0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1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2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3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4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5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6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7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8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9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0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1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2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3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4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5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6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7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8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9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0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1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2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3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4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5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6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7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8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9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0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1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2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3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4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5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6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7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8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9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20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21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608F-63D8-4AA9-A7E1-2BAEACA4A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4AEA-F7EF-4236-9645-31080B80B9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F02-E67A-41A3-B05A-C7B82E8E77E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161-A77B-4035-8CCA-C8C5CE610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2b2b2"/>
                </a:solidFill>
                <a:latin typeface="Arial"/>
              </a:rPr>
              <a:t>М.В.Ломоно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" descr="2"/>
          <p:cNvPicPr/>
          <p:nvPr/>
        </p:nvPicPr>
        <p:blipFill>
          <a:blip r:embed="rId1"/>
          <a:stretch/>
        </p:blipFill>
        <p:spPr>
          <a:xfrm>
            <a:off x="2843280" y="333360"/>
            <a:ext cx="3313080" cy="47912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" descr="http://im7-tub-ru.yandex.net/i?id=240803715-67-72"/>
          <p:cNvPicPr/>
          <p:nvPr/>
        </p:nvPicPr>
        <p:blipFill>
          <a:blip r:embed="rId2"/>
          <a:stretch/>
        </p:blipFill>
        <p:spPr>
          <a:xfrm>
            <a:off x="468360" y="260280"/>
            <a:ext cx="885600" cy="13906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http://im6-tub-ru.yandex.net/i?id=238000349-23-72"/>
          <p:cNvPicPr/>
          <p:nvPr/>
        </p:nvPicPr>
        <p:blipFill>
          <a:blip r:embed="rId3"/>
          <a:stretch/>
        </p:blipFill>
        <p:spPr>
          <a:xfrm>
            <a:off x="6300720" y="260280"/>
            <a:ext cx="943200" cy="14288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http://im3-tub-ru.yandex.net/i?id=11602812-05-72"/>
          <p:cNvPicPr/>
          <p:nvPr/>
        </p:nvPicPr>
        <p:blipFill>
          <a:blip r:embed="rId4"/>
          <a:stretch/>
        </p:blipFill>
        <p:spPr>
          <a:xfrm>
            <a:off x="7667640" y="1341360"/>
            <a:ext cx="1038240" cy="14194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1" descr="http://im7-tub-ru.yandex.net/i?id=380996879-10-72"/>
          <p:cNvPicPr/>
          <p:nvPr/>
        </p:nvPicPr>
        <p:blipFill>
          <a:blip r:embed="rId5"/>
          <a:stretch/>
        </p:blipFill>
        <p:spPr>
          <a:xfrm>
            <a:off x="6443640" y="278136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3" descr="http://im4-tub-ru.yandex.net/i?id=71400760-13-72"/>
          <p:cNvPicPr/>
          <p:nvPr/>
        </p:nvPicPr>
        <p:blipFill>
          <a:blip r:embed="rId6"/>
          <a:stretch/>
        </p:blipFill>
        <p:spPr>
          <a:xfrm>
            <a:off x="1763640" y="1052640"/>
            <a:ext cx="876240" cy="13525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" descr="http://im7-tub-ru.yandex.net/i?id=145968494-06-72"/>
          <p:cNvPicPr/>
          <p:nvPr/>
        </p:nvPicPr>
        <p:blipFill>
          <a:blip r:embed="rId7"/>
          <a:stretch/>
        </p:blipFill>
        <p:spPr>
          <a:xfrm>
            <a:off x="1692360" y="3068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7" descr="http://im2-tub-ru.yandex.net/i?id=282567511-45-72"/>
          <p:cNvPicPr/>
          <p:nvPr/>
        </p:nvPicPr>
        <p:blipFill>
          <a:blip r:embed="rId8"/>
          <a:stretch/>
        </p:blipFill>
        <p:spPr>
          <a:xfrm>
            <a:off x="250920" y="2421000"/>
            <a:ext cx="1428480" cy="790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1" descr="Картинка 177 из 6767"/>
          <p:cNvPicPr/>
          <p:nvPr/>
        </p:nvPicPr>
        <p:blipFill>
          <a:blip r:embed="rId9"/>
          <a:srcRect l="5391" t="7196" r="8371" b="13603"/>
          <a:stretch/>
        </p:blipFill>
        <p:spPr>
          <a:xfrm>
            <a:off x="6804000" y="4292640"/>
            <a:ext cx="2052720" cy="1411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3" descr="http://im2-tub-ru.yandex.net/i?id=192440537-11-72"/>
          <p:cNvPicPr/>
          <p:nvPr/>
        </p:nvPicPr>
        <p:blipFill>
          <a:blip r:embed="rId10"/>
          <a:stretch/>
        </p:blipFill>
        <p:spPr>
          <a:xfrm>
            <a:off x="179280" y="4005360"/>
            <a:ext cx="1409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оризмы Ломано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атематику уже за то любить следует, что она ум в порядок при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Ежели ты хорошее сделаешь с трудом, труд минется, а хорошее останется, а ежели сделаешь что худое с услаждением, услаждение минется, а худое остан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Ленивый человек в беспечном покое сходен с неподвижною болотною водою, которая кроме смраду и презренных гадин ничего не произв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усыпный труд препятствия преодолева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уки юношей пит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траду старым под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частливой жизни украш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несчастной случай берегу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8" descr="image004"/>
          <p:cNvPicPr/>
          <p:nvPr/>
        </p:nvPicPr>
        <p:blipFill>
          <a:blip r:embed="rId1"/>
          <a:stretch/>
        </p:blipFill>
        <p:spPr>
          <a:xfrm>
            <a:off x="6875640" y="4076640"/>
            <a:ext cx="2001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а Арктики, составленная М.В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моносов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http://im5-tub-ru.yandex.net/i?id=14971994-15-72"/>
          <p:cNvPicPr/>
          <p:nvPr/>
        </p:nvPicPr>
        <p:blipFill>
          <a:blip r:embed="rId1"/>
          <a:stretch/>
        </p:blipFill>
        <p:spPr>
          <a:xfrm>
            <a:off x="2411280" y="206064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анимательные фак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187280" y="90756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 Unicode MS"/>
              </a:rPr>
              <a:t>Ломоносов был человеком высоким и очень сильным физически. Существует легенда о том, что однажды он в одиночку обратил в бегство трёх вооружённых разбойников, пытавшихся его ограб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6" descr="collage"/>
          <p:cNvPicPr/>
          <p:nvPr/>
        </p:nvPicPr>
        <p:blipFill>
          <a:blip r:embed="rId2"/>
          <a:srcRect l="26835" t="0" r="24223" b="0"/>
          <a:stretch/>
        </p:blipFill>
        <p:spPr>
          <a:xfrm>
            <a:off x="3203640" y="3141720"/>
            <a:ext cx="2592360" cy="326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амятник М.В.Ломоносову на родине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773" name="Picture 4" descr="памятник Ломон"/>
          <p:cNvPicPr/>
          <p:nvPr/>
        </p:nvPicPr>
        <p:blipFill>
          <a:blip r:embed="rId1"/>
          <a:stretch/>
        </p:blipFill>
        <p:spPr>
          <a:xfrm>
            <a:off x="2666880" y="907920"/>
            <a:ext cx="3810240" cy="581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4" descr="кабинет химика Ломон"/>
          <p:cNvPicPr/>
          <p:nvPr/>
        </p:nvPicPr>
        <p:blipFill>
          <a:blip r:embed="rId1"/>
          <a:stretch/>
        </p:blipFill>
        <p:spPr>
          <a:xfrm>
            <a:off x="1908000" y="1773360"/>
            <a:ext cx="5616720" cy="468000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Кабинет химика М.В.Ломоно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4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огила М.В.Ломоносова в Александро – Невской ла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4" descr="могила Ломоносова в Алекс"/>
          <p:cNvPicPr/>
          <p:nvPr/>
        </p:nvPicPr>
        <p:blipFill>
          <a:blip r:embed="rId1"/>
          <a:stretch/>
        </p:blipFill>
        <p:spPr>
          <a:xfrm>
            <a:off x="2735280" y="1700280"/>
            <a:ext cx="363708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9730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сай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visualmix.narod.ru/lomonosov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narfu.ru/lomonosov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narfu.ru/lomonosov/about/biography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rupoem.ru/lomonosov/all.asp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images.yandex.ru/yand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517680" y="1816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00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81" name="Rectangle 11"/>
          <p:cNvSpPr/>
          <p:nvPr/>
        </p:nvSpPr>
        <p:spPr>
          <a:xfrm>
            <a:off x="4932360" y="580536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. С. Топалов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ченик 7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А класса. МОУ СОШ № 68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4"/>
          <p:cNvSpPr/>
          <p:nvPr/>
        </p:nvSpPr>
        <p:spPr>
          <a:xfrm>
            <a:off x="1619280" y="4869000"/>
            <a:ext cx="62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ихаил Васильевич Ломоносов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ноябре 2011 года исполняется 300 лет со дня рождения великого русского ученого-энциклопедиста, просветителя и поэта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38" name="Picture 5" descr="label"/>
          <p:cNvPicPr/>
          <p:nvPr/>
        </p:nvPicPr>
        <p:blipFill>
          <a:blip r:embed="rId1"/>
          <a:stretch/>
        </p:blipFill>
        <p:spPr>
          <a:xfrm>
            <a:off x="2987640" y="1413000"/>
            <a:ext cx="3392640" cy="280800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"/>
          <p:cNvSpPr/>
          <p:nvPr/>
        </p:nvSpPr>
        <p:spPr>
          <a:xfrm>
            <a:off x="3780000" y="404640"/>
            <a:ext cx="51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Он создал первый университет; он, лучше сказать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сам был первым нашим университетом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                                                            А.С. Пушкин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46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История человечества знает много разносторонне одаренных людей. И среди них на одно из первых мест надо поставить 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великого русского ученого Михаила Васильевича Ломонос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6" descr="портрет Ломоносова"/>
          <p:cNvPicPr/>
          <p:nvPr/>
        </p:nvPicPr>
        <p:blipFill>
          <a:blip r:embed="rId2"/>
          <a:stretch/>
        </p:blipFill>
        <p:spPr>
          <a:xfrm>
            <a:off x="5472000" y="0"/>
            <a:ext cx="3672000" cy="4292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2"/>
          <p:cNvPicPr/>
          <p:nvPr/>
        </p:nvPicPr>
        <p:blipFill>
          <a:blip r:embed="rId3"/>
          <a:stretch/>
        </p:blipFill>
        <p:spPr>
          <a:xfrm>
            <a:off x="179280" y="3284640"/>
            <a:ext cx="4573800" cy="285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"/>
          <p:cNvSpPr/>
          <p:nvPr/>
        </p:nvSpPr>
        <p:spPr>
          <a:xfrm>
            <a:off x="5148360" y="465300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Unicode MS"/>
              </a:rPr>
              <a:t>Михаил Васильевич Ломоносов родился 8 ноября (19 — по новому стилю) 1711 г. в деревне Мишанинской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4"/>
          <p:cNvSpPr/>
          <p:nvPr/>
        </p:nvSpPr>
        <p:spPr>
          <a:xfrm>
            <a:off x="611280" y="4869000"/>
            <a:ext cx="7524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200e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Garamond"/>
              </a:rPr>
              <a:t>Оптика и теплота, электричество и тяготение, метеорология и искусство, география и металлургия, история и химия, философия и литература, геология и астрономия</a:t>
            </a: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 — вот те области, в которых Ломоносов оставил свои след.</a:t>
            </a:r>
            <a:endParaRPr b="0" lang="en-US" sz="2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45" name="Picture 5" descr="foto"/>
          <p:cNvPicPr/>
          <p:nvPr/>
        </p:nvPicPr>
        <p:blipFill>
          <a:blip r:embed="rId1"/>
          <a:stretch/>
        </p:blipFill>
        <p:spPr>
          <a:xfrm>
            <a:off x="826920" y="692280"/>
            <a:ext cx="3187800" cy="38890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Картинка 167 из 6767"/>
          <p:cNvPicPr/>
          <p:nvPr/>
        </p:nvPicPr>
        <p:blipFill>
          <a:blip r:embed="rId2"/>
          <a:stretch/>
        </p:blipFill>
        <p:spPr>
          <a:xfrm>
            <a:off x="5219640" y="692280"/>
            <a:ext cx="3040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4" descr="lomonosov_ekaterina2"/>
          <p:cNvPicPr/>
          <p:nvPr/>
        </p:nvPicPr>
        <p:blipFill>
          <a:blip r:embed="rId1"/>
          <a:stretch/>
        </p:blipFill>
        <p:spPr>
          <a:xfrm>
            <a:off x="900000" y="40464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250920" y="5881680"/>
            <a:ext cx="860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ff5050"/>
                </a:solidFill>
                <a:latin typeface="Arial Unicode MS"/>
              </a:rPr>
              <a:t>Екатерина II с княгиней Дашковой и другими вельможами в кабинете Ломоносова в 1764 году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ГУ им. М.В.Ломоносов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4" descr="МГУ им"/>
          <p:cNvPicPr/>
          <p:nvPr/>
        </p:nvPicPr>
        <p:blipFill>
          <a:blip r:embed="rId1"/>
          <a:stretch/>
        </p:blipFill>
        <p:spPr>
          <a:xfrm>
            <a:off x="1258920" y="1341360"/>
            <a:ext cx="6913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Заслуги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24000" y="981000"/>
            <a:ext cx="41716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Любимая наука Ломоносова – химия. Он создал химическую лабораторию в Петербурге и открыл новый за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Занимаясь физикой, он раскрыл загадку грозы и северного си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н любил наблюдать за звездами, усовершенствовал телеско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Наблюдая за Венерой, установил, что у этой планеты есть атмосф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н первый в мире географ-поляр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Занимался историей древних славян историй изготовления фар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А сколько он сделал для совершенствования русского язы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Сочинял стих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Возродил производство цветного стекла и сделал мозаичные картины ("Портрет Петра I", "Полтавская битва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ткрыл первый российский университет в Москве.</a:t>
            </a:r>
            <a:r>
              <a:rPr b="0" lang="ru-RU" sz="2000" spc="-1" strike="noStrike">
                <a:solidFill>
                  <a:srgbClr val="7200e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4" descr="мозаика Полт"/>
          <p:cNvPicPr/>
          <p:nvPr/>
        </p:nvPicPr>
        <p:blipFill>
          <a:blip r:embed="rId1"/>
          <a:stretch/>
        </p:blipFill>
        <p:spPr>
          <a:xfrm>
            <a:off x="395280" y="1413000"/>
            <a:ext cx="3598920" cy="4751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мозаика Пётр 1 Ломоносов"/>
          <p:cNvPicPr/>
          <p:nvPr/>
        </p:nvPicPr>
        <p:blipFill>
          <a:blip r:embed="rId2"/>
          <a:stretch/>
        </p:blipFill>
        <p:spPr>
          <a:xfrm>
            <a:off x="5076720" y="1484280"/>
            <a:ext cx="3745080" cy="475128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6"/>
          <p:cNvSpPr/>
          <p:nvPr/>
        </p:nvSpPr>
        <p:spPr>
          <a:xfrm>
            <a:off x="401040" y="623664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озаика «Полтавская битва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5292720" y="62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озаика «Пётр 1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моносов 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"/>
          <p:cNvSpPr/>
          <p:nvPr/>
        </p:nvSpPr>
        <p:spPr>
          <a:xfrm>
            <a:off x="250920" y="1263240"/>
            <a:ext cx="4465440" cy="11912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Мышь некогда, любя святыню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ставила прелестной мир,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Ушла в глубокую пустыню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Засевшись вся в галланской сыр.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3059280" y="3091320"/>
            <a:ext cx="5725800" cy="36601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Случились вместе два Астр</a:t>
            </a:r>
            <a:r>
              <a:rPr b="1" lang="ru-RU" sz="1800" spc="-1" strike="noStrike">
                <a:solidFill>
                  <a:srgbClr val="eaeaea"/>
                </a:solidFill>
                <a:latin typeface="Arial Unicode MS"/>
              </a:rPr>
              <a:t>о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нома в пиру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И спорили весьма между собой в жару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дин твердил: земля, вертясь, круг Солнца ходит;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Другой, что Солнце все с собой планеты водит: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дин Коперник был, другой слыл Птолемей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Тут повар спор решил усмешкою своей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Хозяин спрашивал: "Ты звезд теченье знаешь?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Скажи, как ты о сем сомненье рассуждаешь?"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н дал такой ответ: "Что в том Коперник прав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Я правду докажу, на Солнце не бывав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Кто видел простака из поваров такова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Который бы вертел очаг кругом жаркова?"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62" name="Picture 9" descr="0000000013"/>
          <p:cNvPicPr/>
          <p:nvPr/>
        </p:nvPicPr>
        <p:blipFill>
          <a:blip r:embed="rId1"/>
          <a:stretch/>
        </p:blipFill>
        <p:spPr>
          <a:xfrm>
            <a:off x="179280" y="2781360"/>
            <a:ext cx="2870280" cy="3355920"/>
          </a:xfrm>
          <a:prstGeom prst="rect">
            <a:avLst/>
          </a:prstGeom>
          <a:ln w="0">
            <a:noFill/>
          </a:ln>
        </p:spPr>
      </p:pic>
      <p:sp>
        <p:nvSpPr>
          <p:cNvPr id="763" name="TextBox 6"/>
          <p:cNvSpPr/>
          <p:nvPr/>
        </p:nvSpPr>
        <p:spPr>
          <a:xfrm>
            <a:off x="5940360" y="260280"/>
            <a:ext cx="2519280" cy="28371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Услышали мухи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Медовые дух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Прилетевши сели,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В радости запели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Егда стали яст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Попали в напасти,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Увязли-бо ноги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Ах, плачут убоги: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Меду полизал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А сами пропал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7:47:25Z</dcterms:created>
  <dc:creator>Катя</dc:creator>
  <dc:description/>
  <dc:language>en-US</dc:language>
  <cp:lastModifiedBy>xli</cp:lastModifiedBy>
  <dcterms:modified xsi:type="dcterms:W3CDTF">2011-11-23T08:03:56Z</dcterms:modified>
  <cp:revision>18</cp:revision>
  <dc:subject/>
  <dc:title>М. В. ЛОМОНОСОВ —   ВЕЛИКИЙ СЫН РОССИИ.</dc:title>
</cp:coreProperties>
</file>