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6AE-AB59-4D83-AFFB-96EB6500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926F-0B5A-448C-9111-823DB441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9BCB-6E27-4CD8-9A45-3A0373C4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09A-3679-41F2-95C0-BF8B29D4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977-0249-4ABD-958E-49F3C597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1FA-CFE5-4BE4-A73E-D81FCA31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C3C6-6773-4A9C-A138-6C534E8E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061-0918-4F08-94E6-FE8B91D6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E956-0FC7-4AD4-99B8-6904E40C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902-B566-4AEC-840E-A442FE5D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F2E6-B288-4A8D-A447-1481872E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697F-CC6E-412A-A5B1-0EAAF687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5418-318D-4274-9638-8EECE4B9E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  <a:ea typeface="Tahoma"/>
              </a:rPr>
              <a:t>Проблемы Мирового оке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сканирование0001"/>
          <p:cNvPicPr/>
          <p:nvPr/>
        </p:nvPicPr>
        <p:blipFill>
          <a:blip r:embed="rId2"/>
          <a:stretch/>
        </p:blipFill>
        <p:spPr>
          <a:xfrm>
            <a:off x="806400" y="2924280"/>
            <a:ext cx="2619360" cy="3457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3714840" y="3786120"/>
            <a:ext cx="414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09800" y="4149720"/>
            <a:ext cx="34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а ученица 12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ксимова Мар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Софронова В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4800" y="189000"/>
            <a:ext cx="831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ниципальное специальное (коррекционное)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обучающихся, воспитанников с ограниченными возможностями здоров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ециальная (коррекционная) общеобразовательная школа-интерна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и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Советска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18720" y="640080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етск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75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Tahoma"/>
                <a:ea typeface="Tahoma"/>
              </a:rPr>
              <a:t>Кладбище подводных лод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подлодка2"/>
          <p:cNvPicPr/>
          <p:nvPr/>
        </p:nvPicPr>
        <p:blipFill>
          <a:blip r:embed="rId2"/>
          <a:stretch/>
        </p:blipFill>
        <p:spPr>
          <a:xfrm>
            <a:off x="826920" y="1571760"/>
            <a:ext cx="7620120" cy="491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20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ahoma"/>
                <a:ea typeface="Tahoma"/>
              </a:rPr>
              <a:t>Расположение затонувших подводных лод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кладбище"/>
          <p:cNvPicPr/>
          <p:nvPr/>
        </p:nvPicPr>
        <p:blipFill>
          <a:blip r:embed="rId2"/>
          <a:stretch/>
        </p:blipFill>
        <p:spPr>
          <a:xfrm>
            <a:off x="1476360" y="1698480"/>
            <a:ext cx="6191280" cy="5061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8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подлодка"/>
          <p:cNvPicPr/>
          <p:nvPr/>
        </p:nvPicPr>
        <p:blipFill>
          <a:blip r:embed="rId2"/>
          <a:stretch/>
        </p:blipFill>
        <p:spPr>
          <a:xfrm>
            <a:off x="4716360" y="260280"/>
            <a:ext cx="4216680" cy="633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Снаряды"/>
          <p:cNvPicPr/>
          <p:nvPr/>
        </p:nvPicPr>
        <p:blipFill>
          <a:blip r:embed="rId3"/>
          <a:stretch/>
        </p:blipFill>
        <p:spPr>
          <a:xfrm>
            <a:off x="324000" y="2349360"/>
            <a:ext cx="4103640" cy="4292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179280" y="189000"/>
            <a:ext cx="4321440" cy="20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Tahoma"/>
                <a:ea typeface="Tahoma"/>
              </a:rPr>
              <a:t>Крупнейшее в мире кладбище подводных лодок находится на морском дне у японского порта Нагасаки. Затонувшие атомные подводные лодки загрязняют Океан своим топливом – радиоактивными элемен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Tahoma"/>
                <a:ea typeface="Tahoma"/>
              </a:rPr>
              <a:t>Решение пробл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Создание международного контроля за промысловой деятельностью в Оке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Образование международного механизма охраны морск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Принятие ряда международных соглашений, ограничивающих ее загряз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Tahoma"/>
                <a:ea typeface="Tahoma"/>
              </a:rPr>
              <a:t>Что надо понять и осозн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2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Проблемы мирового океана – это проблемы и экологические, и экономические, и технические, и социальные одновременно. От того, насколько разумно человек их разрешит, зависит его будущ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Экологические проблемы Океана настолько остры, что пора от установления диагноза переходить к лечению «пациента», иначе он может умере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А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мертвый Океан – это мертвая план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20"/>
                            </p:stCondLst>
                            <p:childTnLst>
                              <p:par>
                                <p:cTn id="3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46"/>
          <p:cNvGrpSpPr/>
          <p:nvPr/>
        </p:nvGrpSpPr>
        <p:grpSpPr>
          <a:xfrm>
            <a:off x="120600" y="476280"/>
            <a:ext cx="8626680" cy="4552560"/>
            <a:chOff x="120600" y="476280"/>
            <a:chExt cx="8626680" cy="4552560"/>
          </a:xfrm>
        </p:grpSpPr>
        <p:sp>
          <p:nvSpPr>
            <p:cNvPr id="49" name="Text Box 4"/>
            <p:cNvSpPr/>
            <p:nvPr/>
          </p:nvSpPr>
          <p:spPr>
            <a:xfrm>
              <a:off x="3059280" y="476280"/>
              <a:ext cx="302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сурсы мирового океа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9"/>
            <p:cNvSpPr/>
            <p:nvPr/>
          </p:nvSpPr>
          <p:spPr>
            <a:xfrm>
              <a:off x="5435640" y="1268280"/>
              <a:ext cx="16574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иологические ресур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1"/>
            <p:cNvSpPr/>
            <p:nvPr/>
          </p:nvSpPr>
          <p:spPr>
            <a:xfrm>
              <a:off x="179280" y="1268280"/>
              <a:ext cx="15130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рская во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2"/>
            <p:cNvSpPr/>
            <p:nvPr/>
          </p:nvSpPr>
          <p:spPr>
            <a:xfrm>
              <a:off x="1908000" y="1268280"/>
              <a:ext cx="15116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инеральные ресурсы д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3"/>
            <p:cNvSpPr/>
            <p:nvPr/>
          </p:nvSpPr>
          <p:spPr>
            <a:xfrm>
              <a:off x="3635280" y="1268280"/>
              <a:ext cx="158436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Энергетические ресур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7236000" y="1268280"/>
              <a:ext cx="151128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креационные ресур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 flipH="1">
              <a:off x="971280" y="62064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971640" y="620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>
              <a:off x="2484360" y="620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8"/>
            <p:cNvSpPr/>
            <p:nvPr/>
          </p:nvSpPr>
          <p:spPr>
            <a:xfrm>
              <a:off x="4427640" y="836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>
              <a:off x="6084720" y="620640"/>
              <a:ext cx="18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>
              <a:off x="7956720" y="620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>
              <a:off x="6516720" y="620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22"/>
            <p:cNvSpPr/>
            <p:nvPr/>
          </p:nvSpPr>
          <p:spPr>
            <a:xfrm>
              <a:off x="149400" y="2421000"/>
              <a:ext cx="118260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обыча химических эле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3"/>
            <p:cNvSpPr/>
            <p:nvPr/>
          </p:nvSpPr>
          <p:spPr>
            <a:xfrm>
              <a:off x="136440" y="3645000"/>
              <a:ext cx="12668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прес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4"/>
            <p:cNvSpPr/>
            <p:nvPr/>
          </p:nvSpPr>
          <p:spPr>
            <a:xfrm>
              <a:off x="120600" y="4508640"/>
              <a:ext cx="14270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ранспортные ресур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5"/>
            <p:cNvSpPr/>
            <p:nvPr/>
          </p:nvSpPr>
          <p:spPr>
            <a:xfrm>
              <a:off x="1692360" y="1557360"/>
              <a:ext cx="0" cy="31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6"/>
            <p:cNvSpPr/>
            <p:nvPr/>
          </p:nvSpPr>
          <p:spPr>
            <a:xfrm flipH="1">
              <a:off x="1547640" y="4724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7"/>
            <p:cNvSpPr/>
            <p:nvPr/>
          </p:nvSpPr>
          <p:spPr>
            <a:xfrm flipH="1">
              <a:off x="1402920" y="37893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8"/>
            <p:cNvSpPr/>
            <p:nvPr/>
          </p:nvSpPr>
          <p:spPr>
            <a:xfrm flipH="1">
              <a:off x="1331640" y="27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9"/>
            <p:cNvSpPr/>
            <p:nvPr/>
          </p:nvSpPr>
          <p:spPr>
            <a:xfrm>
              <a:off x="1908000" y="2421000"/>
              <a:ext cx="115272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обыча нефти и га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0"/>
            <p:cNvSpPr/>
            <p:nvPr/>
          </p:nvSpPr>
          <p:spPr>
            <a:xfrm>
              <a:off x="1908000" y="3573360"/>
              <a:ext cx="1224000" cy="9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обыча твердых полезных ископаем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>
              <a:off x="3419640" y="1773360"/>
              <a:ext cx="0" cy="23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2"/>
            <p:cNvSpPr/>
            <p:nvPr/>
          </p:nvSpPr>
          <p:spPr>
            <a:xfrm flipH="1">
              <a:off x="3131640" y="407664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3"/>
            <p:cNvSpPr/>
            <p:nvPr/>
          </p:nvSpPr>
          <p:spPr>
            <a:xfrm flipH="1">
              <a:off x="3058920" y="27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34"/>
            <p:cNvSpPr/>
            <p:nvPr/>
          </p:nvSpPr>
          <p:spPr>
            <a:xfrm>
              <a:off x="3635280" y="2421000"/>
              <a:ext cx="115272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Энергия теч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5"/>
            <p:cNvSpPr/>
            <p:nvPr/>
          </p:nvSpPr>
          <p:spPr>
            <a:xfrm>
              <a:off x="3635280" y="3429000"/>
              <a:ext cx="115272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Энергия приливов и отлив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7"/>
            <p:cNvSpPr/>
            <p:nvPr/>
          </p:nvSpPr>
          <p:spPr>
            <a:xfrm>
              <a:off x="5219640" y="177336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 flipH="1">
              <a:off x="4787640" y="3789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9"/>
            <p:cNvSpPr/>
            <p:nvPr/>
          </p:nvSpPr>
          <p:spPr>
            <a:xfrm flipH="1">
              <a:off x="4787640" y="2708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0"/>
            <p:cNvSpPr/>
            <p:nvPr/>
          </p:nvSpPr>
          <p:spPr>
            <a:xfrm>
              <a:off x="5435640" y="2421000"/>
              <a:ext cx="115236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Животные организ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41"/>
            <p:cNvSpPr/>
            <p:nvPr/>
          </p:nvSpPr>
          <p:spPr>
            <a:xfrm>
              <a:off x="5435640" y="3357720"/>
              <a:ext cx="14414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астительные организ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42"/>
            <p:cNvSpPr/>
            <p:nvPr/>
          </p:nvSpPr>
          <p:spPr>
            <a:xfrm>
              <a:off x="7093080" y="177336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43"/>
            <p:cNvSpPr/>
            <p:nvPr/>
          </p:nvSpPr>
          <p:spPr>
            <a:xfrm flipH="1">
              <a:off x="6877080" y="3645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44"/>
            <p:cNvSpPr/>
            <p:nvPr/>
          </p:nvSpPr>
          <p:spPr>
            <a:xfrm flipH="1">
              <a:off x="6587640" y="263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Tahoma"/>
                <a:ea typeface="Tahoma"/>
              </a:rPr>
              <a:t>Значение Мирового оке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176720" cy="458784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в Океане зародилась жиз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Океан регулятор температуры и производитель кислор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использование Океана как транспортного, минерально-ресурсного и биоресурсного источ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море2"/>
          <p:cNvPicPr/>
          <p:nvPr/>
        </p:nvPicPr>
        <p:blipFill>
          <a:blip r:embed="rId2"/>
          <a:stretch/>
        </p:blipFill>
        <p:spPr>
          <a:xfrm>
            <a:off x="4162320" y="1197000"/>
            <a:ext cx="4667400" cy="5472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5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5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5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75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Tahoma"/>
                <a:ea typeface="Tahoma"/>
              </a:rPr>
              <a:t>Проблемы Мирового оке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4176720" cy="470844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опасное загрязнение Океана; снижение его биологической продуктив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освоение богатых минеральных и энергетических ресур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достижение справедливого распределения ресур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добыча других видов сырья в глубоководных районах Мирового океана (железо-марганцевые конкреции, содержащие до 30 различных мет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Нефтевышка"/>
          <p:cNvPicPr/>
          <p:nvPr/>
        </p:nvPicPr>
        <p:blipFill>
          <a:blip r:embed="rId2"/>
          <a:stretch/>
        </p:blipFill>
        <p:spPr>
          <a:xfrm>
            <a:off x="4572000" y="1571760"/>
            <a:ext cx="4290840" cy="5070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2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Tahoma"/>
                <a:ea typeface="Tahoma"/>
              </a:rPr>
              <a:t>Проблемы Мирового оке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82904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растет добыча и переработка биологических ресурсов Океа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без ущерба для биологического равновесия  -  способен  давать 180-200 млн. т морепродуктов в год (если разумно использовать эти богат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plankton_net_300"/>
          <p:cNvPicPr/>
          <p:nvPr/>
        </p:nvPicPr>
        <p:blipFill>
          <a:blip r:embed="rId2"/>
          <a:stretch/>
        </p:blipFill>
        <p:spPr>
          <a:xfrm>
            <a:off x="4849920" y="1571760"/>
            <a:ext cx="3803400" cy="4908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  <a:ea typeface="Tahoma"/>
              </a:rPr>
              <a:t>Тревожные фа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560" y="1600200"/>
            <a:ext cx="8643960" cy="4997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попадает более 1 млн. т нефти, отходы промышленности и городов (в том числе тяжелые металлы и радиоактивные отход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нечистоты туристических судов выбрасываются в море без очистки (вдоль Лазурного берега Средиземного моря летом проходит более 10 тыс. судов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катастрофическое сокращение улова (в 70-х гг. улов анчоусов сократился в 5 раз (берег Перу,Атланьтика); к концу ХХ в мировые уловы стабилизировались - 95-100 млн. т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на ¼ акватории Балтики уничтожена всякая биологическая 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Загрязнение океана радиоактивными веществами от АЭС «Фокусима» Япо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Tahoma"/>
                <a:ea typeface="Tahoma"/>
              </a:rPr>
              <a:t>Нефтедобы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Нефтевышка2"/>
          <p:cNvPicPr/>
          <p:nvPr/>
        </p:nvPicPr>
        <p:blipFill>
          <a:blip r:embed="rId2"/>
          <a:stretch/>
        </p:blipFill>
        <p:spPr>
          <a:xfrm>
            <a:off x="1403280" y="1413000"/>
            <a:ext cx="6337440" cy="5224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8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250920" y="189000"/>
            <a:ext cx="4680000" cy="2288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При добыче и перевозке нефти в результате халатности нефть попадает в открытый океан, где несет гибель всему жив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Киты"/>
          <p:cNvPicPr/>
          <p:nvPr/>
        </p:nvPicPr>
        <p:blipFill>
          <a:blip r:embed="rId2"/>
          <a:stretch/>
        </p:blipFill>
        <p:spPr>
          <a:xfrm>
            <a:off x="5148360" y="333360"/>
            <a:ext cx="3671640" cy="2585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Танкер"/>
          <p:cNvPicPr/>
          <p:nvPr/>
        </p:nvPicPr>
        <p:blipFill>
          <a:blip r:embed="rId3"/>
          <a:stretch/>
        </p:blipFill>
        <p:spPr>
          <a:xfrm>
            <a:off x="0" y="2401920"/>
            <a:ext cx="5940360" cy="4456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сканирование0002"/>
          <p:cNvPicPr/>
          <p:nvPr/>
        </p:nvPicPr>
        <p:blipFill>
          <a:blip r:embed="rId2"/>
          <a:stretch/>
        </p:blipFill>
        <p:spPr>
          <a:xfrm>
            <a:off x="4510080" y="0"/>
            <a:ext cx="4633920" cy="3638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киты2"/>
          <p:cNvPicPr/>
          <p:nvPr/>
        </p:nvPicPr>
        <p:blipFill>
          <a:blip r:embed="rId3"/>
          <a:stretch/>
        </p:blipFill>
        <p:spPr>
          <a:xfrm>
            <a:off x="0" y="2976480"/>
            <a:ext cx="5076720" cy="3868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5435640" y="4653000"/>
            <a:ext cx="3529080" cy="155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Этому киту  повезло – его вовремя обнаружили и сумели оказать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4941720"/>
            <a:ext cx="1512720" cy="648000"/>
          </a:xfrm>
          <a:prstGeom prst="leftArrow">
            <a:avLst>
              <a:gd name="adj1" fmla="val 50000"/>
              <a:gd name="adj2" fmla="val 58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24000" y="1268280"/>
            <a:ext cx="396072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Этот кит погиб из-за разлива нефти                  с танк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1484280"/>
            <a:ext cx="1152360" cy="647640"/>
          </a:xfrm>
          <a:prstGeom prst="rightArrow">
            <a:avLst>
              <a:gd name="adj1" fmla="val 50000"/>
              <a:gd name="adj2" fmla="val 444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4:09:45Z</dcterms:created>
  <dc:creator>Елена</dc:creator>
  <dc:description/>
  <dc:language>en-US</dc:language>
  <cp:lastModifiedBy>Admin</cp:lastModifiedBy>
  <dcterms:modified xsi:type="dcterms:W3CDTF">2011-04-26T08:58:37Z</dcterms:modified>
  <cp:revision>14</cp:revision>
  <dc:subject/>
  <dc:title>Проблемы Мирового океана</dc:title>
</cp:coreProperties>
</file>