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1F5-B917-42C4-8C7B-CA29EDF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0BE-5FF8-4AD7-B041-F37523ED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252-DD73-450E-950F-0B45F426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092-C655-42E3-ACC7-3975737F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A48-4180-4209-BCE7-A12E361D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36E-64BC-410D-BAB4-8F9B4B7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CC2-DD4C-4275-9166-DE0A719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F40-7343-41F0-8AA7-3BD20B32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3DE-AED6-4B3C-9B17-0D970C3A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84A-2D15-4448-87E3-85F398A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078-7615-4F8E-A878-3566941B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4ED-82E7-4573-A855-1C9076F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C6F6-7965-4E47-B877-F439FBFE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Tahoma"/>
              </a:rPr>
              <a:t>Проблемы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канирование0001"/>
          <p:cNvPicPr/>
          <p:nvPr/>
        </p:nvPicPr>
        <p:blipFill>
          <a:blip r:embed="rId2"/>
          <a:stretch/>
        </p:blipFill>
        <p:spPr>
          <a:xfrm>
            <a:off x="806400" y="2924280"/>
            <a:ext cx="2619360" cy="3457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714840" y="3786120"/>
            <a:ext cx="41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9800" y="4149720"/>
            <a:ext cx="34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ученица 1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ова Ма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Софронова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4800" y="189000"/>
            <a:ext cx="83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специальное (коррекционное)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бучающихся, воспитанников с ограниченными возможностями здоров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ециальная (коррекционная) общеобразовательная школа-интерна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и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Советска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18720" y="640080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етск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75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Кладбище подводных лод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одлодка2"/>
          <p:cNvPicPr/>
          <p:nvPr/>
        </p:nvPicPr>
        <p:blipFill>
          <a:blip r:embed="rId2"/>
          <a:stretch/>
        </p:blipFill>
        <p:spPr>
          <a:xfrm>
            <a:off x="826920" y="1571760"/>
            <a:ext cx="7620120" cy="491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2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ahoma"/>
                <a:ea typeface="Tahoma"/>
              </a:rPr>
              <a:t>Расположение затонувших подводных ло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кладбище"/>
          <p:cNvPicPr/>
          <p:nvPr/>
        </p:nvPicPr>
        <p:blipFill>
          <a:blip r:embed="rId2"/>
          <a:stretch/>
        </p:blipFill>
        <p:spPr>
          <a:xfrm>
            <a:off x="1476360" y="1698480"/>
            <a:ext cx="61912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подлодка"/>
          <p:cNvPicPr/>
          <p:nvPr/>
        </p:nvPicPr>
        <p:blipFill>
          <a:blip r:embed="rId2"/>
          <a:stretch/>
        </p:blipFill>
        <p:spPr>
          <a:xfrm>
            <a:off x="4716360" y="260280"/>
            <a:ext cx="4216680" cy="633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Снаряды"/>
          <p:cNvPicPr/>
          <p:nvPr/>
        </p:nvPicPr>
        <p:blipFill>
          <a:blip r:embed="rId3"/>
          <a:stretch/>
        </p:blipFill>
        <p:spPr>
          <a:xfrm>
            <a:off x="324000" y="2349360"/>
            <a:ext cx="4103640" cy="4292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79280" y="189000"/>
            <a:ext cx="432144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ahoma"/>
                <a:ea typeface="Tahoma"/>
              </a:rPr>
              <a:t>Крупнейшее в мире кладбище подводных лодок находится на морском дне у японского порта Нагасаки. Затонувшие атомные подводные лодки загрязняют Океан своим топливом – радиоактивными эле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Решение проб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Создание международного контроля за промысловой деятельностью в Оке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Образование международного механизма охраны морск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ринятие ряда международных соглашений, ограничивающих ее загряз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Что надо понять и осозн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ы мирового океана – это проблемы и экологические, и экономические, и технические, и социальные одновременно. От того, насколько разумно человек их разрешит, зависит его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Экологические проблемы Океана настолько остры, что пора от установления диагноза переходить к лечению «пациента», иначе он может умер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А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мертвый Океан – это мертвая план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2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6"/>
          <p:cNvGrpSpPr/>
          <p:nvPr/>
        </p:nvGrpSpPr>
        <p:grpSpPr>
          <a:xfrm>
            <a:off x="120600" y="476280"/>
            <a:ext cx="8626680" cy="4552560"/>
            <a:chOff x="120600" y="476280"/>
            <a:chExt cx="8626680" cy="4552560"/>
          </a:xfrm>
        </p:grpSpPr>
        <p:sp>
          <p:nvSpPr>
            <p:cNvPr id="49" name="Text Box 4"/>
            <p:cNvSpPr/>
            <p:nvPr/>
          </p:nvSpPr>
          <p:spPr>
            <a:xfrm>
              <a:off x="3059280" y="476280"/>
              <a:ext cx="3025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сурсы мирового океа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5435640" y="1268280"/>
              <a:ext cx="1657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иологически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179280" y="1268280"/>
              <a:ext cx="151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ская во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2"/>
            <p:cNvSpPr/>
            <p:nvPr/>
          </p:nvSpPr>
          <p:spPr>
            <a:xfrm>
              <a:off x="1908000" y="1268280"/>
              <a:ext cx="1511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инеральные ресурсы д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>
              <a:off x="3635280" y="1268280"/>
              <a:ext cx="1584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нергетически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7236000" y="1268280"/>
              <a:ext cx="15112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реационны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>
              <a:off x="971280" y="62064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97164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248436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4427640" y="836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084720" y="620640"/>
              <a:ext cx="18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795672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516720" y="620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2"/>
            <p:cNvSpPr/>
            <p:nvPr/>
          </p:nvSpPr>
          <p:spPr>
            <a:xfrm>
              <a:off x="149400" y="2421000"/>
              <a:ext cx="11826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быча химических эле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3"/>
            <p:cNvSpPr/>
            <p:nvPr/>
          </p:nvSpPr>
          <p:spPr>
            <a:xfrm>
              <a:off x="136440" y="3645000"/>
              <a:ext cx="12668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с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4"/>
            <p:cNvSpPr/>
            <p:nvPr/>
          </p:nvSpPr>
          <p:spPr>
            <a:xfrm>
              <a:off x="120600" y="4508640"/>
              <a:ext cx="14270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ранспортные 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1692360" y="1557360"/>
              <a:ext cx="0" cy="31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 flipH="1">
              <a:off x="1547640" y="47242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7"/>
            <p:cNvSpPr/>
            <p:nvPr/>
          </p:nvSpPr>
          <p:spPr>
            <a:xfrm flipH="1">
              <a:off x="1402920" y="3789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8"/>
            <p:cNvSpPr/>
            <p:nvPr/>
          </p:nvSpPr>
          <p:spPr>
            <a:xfrm flipH="1">
              <a:off x="133164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9"/>
            <p:cNvSpPr/>
            <p:nvPr/>
          </p:nvSpPr>
          <p:spPr>
            <a:xfrm>
              <a:off x="1908000" y="2421000"/>
              <a:ext cx="11527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быча нефти и г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0"/>
            <p:cNvSpPr/>
            <p:nvPr/>
          </p:nvSpPr>
          <p:spPr>
            <a:xfrm>
              <a:off x="1908000" y="3573360"/>
              <a:ext cx="122400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быча твердых полезных ископаем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3419640" y="1773360"/>
              <a:ext cx="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3131640" y="40766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3"/>
            <p:cNvSpPr/>
            <p:nvPr/>
          </p:nvSpPr>
          <p:spPr>
            <a:xfrm flipH="1">
              <a:off x="3058920" y="278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4"/>
            <p:cNvSpPr/>
            <p:nvPr/>
          </p:nvSpPr>
          <p:spPr>
            <a:xfrm>
              <a:off x="3635280" y="2421000"/>
              <a:ext cx="11527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нергия теч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>
              <a:off x="3635280" y="3429000"/>
              <a:ext cx="115272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нергия приливов и отлив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7"/>
            <p:cNvSpPr/>
            <p:nvPr/>
          </p:nvSpPr>
          <p:spPr>
            <a:xfrm>
              <a:off x="5219640" y="177336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 flipH="1">
              <a:off x="4787640" y="378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9"/>
            <p:cNvSpPr/>
            <p:nvPr/>
          </p:nvSpPr>
          <p:spPr>
            <a:xfrm flipH="1">
              <a:off x="4787640" y="2708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0"/>
            <p:cNvSpPr/>
            <p:nvPr/>
          </p:nvSpPr>
          <p:spPr>
            <a:xfrm>
              <a:off x="5435640" y="2421000"/>
              <a:ext cx="1152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Животные орган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1"/>
            <p:cNvSpPr/>
            <p:nvPr/>
          </p:nvSpPr>
          <p:spPr>
            <a:xfrm>
              <a:off x="5435640" y="3357720"/>
              <a:ext cx="1441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стительные организ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2"/>
            <p:cNvSpPr/>
            <p:nvPr/>
          </p:nvSpPr>
          <p:spPr>
            <a:xfrm>
              <a:off x="7093080" y="17733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3"/>
            <p:cNvSpPr/>
            <p:nvPr/>
          </p:nvSpPr>
          <p:spPr>
            <a:xfrm flipH="1">
              <a:off x="6877080" y="3645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4"/>
            <p:cNvSpPr/>
            <p:nvPr/>
          </p:nvSpPr>
          <p:spPr>
            <a:xfrm flipH="1">
              <a:off x="6587640" y="2637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Значение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176720" cy="458784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в Океане зародилась жиз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кеан регулятор температуры и производитель кисл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спользование Океана как транспортного, минерально-ресурсного и биоресурсного исто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море2"/>
          <p:cNvPicPr/>
          <p:nvPr/>
        </p:nvPicPr>
        <p:blipFill>
          <a:blip r:embed="rId2"/>
          <a:stretch/>
        </p:blipFill>
        <p:spPr>
          <a:xfrm>
            <a:off x="4162320" y="1197000"/>
            <a:ext cx="4667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75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ы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176720" cy="470844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пасное загрязнение Океана; снижение его биологической продуктив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своение богатых минеральных и энергетических ресур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достижение справедливого распределения рес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добыча других видов сырья в глубоководных районах Мирового океана (железо-марганцевые конкреции, содержащие до 30 различных мет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Нефтевышка"/>
          <p:cNvPicPr/>
          <p:nvPr/>
        </p:nvPicPr>
        <p:blipFill>
          <a:blip r:embed="rId2"/>
          <a:stretch/>
        </p:blipFill>
        <p:spPr>
          <a:xfrm>
            <a:off x="4572000" y="1571760"/>
            <a:ext cx="4290840" cy="5070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2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ы Мирового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82904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растет добыча и переработка биологических ресурсов Оке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без ущерба для биологического равновесия  -  способен  давать 180-200 млн. т морепродуктов в год (если разумно использовать эти богат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lankton_net_300"/>
          <p:cNvPicPr/>
          <p:nvPr/>
        </p:nvPicPr>
        <p:blipFill>
          <a:blip r:embed="rId2"/>
          <a:stretch/>
        </p:blipFill>
        <p:spPr>
          <a:xfrm>
            <a:off x="4849920" y="1571760"/>
            <a:ext cx="3803400" cy="4908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  <a:ea typeface="Tahoma"/>
              </a:rPr>
              <a:t>Тревож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8643960" cy="4997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опадает более 1 млн. т нефти, отходы промышленности и городов (в том числе тяжелые металлы и радиоактивные отхо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нечистоты туристических судов выбрасываются в море без очистки (вдоль Лазурного берега Средиземного моря летом проходит более 10 тыс. суд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катастрофическое сокращение улова (в 70-х гг. улов анчоусов сократился в 5 раз (берег Перу,Атланьтика); к концу ХХ в мировые уловы стабилизировались - 95-100 млн. т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на ¼ акватории Балтики уничтожена всякая биологическая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грязнение океана радиоактивными веществами от АЭС «Фокусима» Яп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ahoma"/>
                <a:ea typeface="Tahoma"/>
              </a:rPr>
              <a:t>Нефтедобы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Нефтевышка2"/>
          <p:cNvPicPr/>
          <p:nvPr/>
        </p:nvPicPr>
        <p:blipFill>
          <a:blip r:embed="rId2"/>
          <a:stretch/>
        </p:blipFill>
        <p:spPr>
          <a:xfrm>
            <a:off x="1403280" y="1413000"/>
            <a:ext cx="6337440" cy="522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8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250920" y="189000"/>
            <a:ext cx="468000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ри добыче и перевозке нефти в результате халатности нефть попадает в открытый океан, где несет гибель всему жив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Киты"/>
          <p:cNvPicPr/>
          <p:nvPr/>
        </p:nvPicPr>
        <p:blipFill>
          <a:blip r:embed="rId2"/>
          <a:stretch/>
        </p:blipFill>
        <p:spPr>
          <a:xfrm>
            <a:off x="5148360" y="333360"/>
            <a:ext cx="3671640" cy="25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Танкер"/>
          <p:cNvPicPr/>
          <p:nvPr/>
        </p:nvPicPr>
        <p:blipFill>
          <a:blip r:embed="rId3"/>
          <a:stretch/>
        </p:blipFill>
        <p:spPr>
          <a:xfrm>
            <a:off x="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4510080" y="0"/>
            <a:ext cx="463392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иты2"/>
          <p:cNvPicPr/>
          <p:nvPr/>
        </p:nvPicPr>
        <p:blipFill>
          <a:blip r:embed="rId3"/>
          <a:stretch/>
        </p:blipFill>
        <p:spPr>
          <a:xfrm>
            <a:off x="0" y="2976480"/>
            <a:ext cx="5076720" cy="3868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5435640" y="4653000"/>
            <a:ext cx="3529080" cy="1557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Этому киту  повезло – его вовремя обнаружили и сумели оказать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4941720"/>
            <a:ext cx="1512720" cy="648000"/>
          </a:xfrm>
          <a:prstGeom prst="leftArrow">
            <a:avLst>
              <a:gd name="adj1" fmla="val 50000"/>
              <a:gd name="adj2" fmla="val 58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1268280"/>
            <a:ext cx="396072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Этот кит погиб из-за разлива нефти                  с танк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48428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4:09:45Z</dcterms:created>
  <dc:creator>Елена</dc:creator>
  <dc:description/>
  <dc:language>en-US</dc:language>
  <cp:lastModifiedBy>Admin</cp:lastModifiedBy>
  <dcterms:modified xsi:type="dcterms:W3CDTF">2011-04-26T08:58:37Z</dcterms:modified>
  <cp:revision>14</cp:revision>
  <dc:subject/>
  <dc:title>Проблемы Мирового океана</dc:title>
</cp:coreProperties>
</file>