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8E2-8149-4D9B-9D95-A4E90FA8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65C-7226-4882-B8D4-C22F1464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FD0-6A9E-4C64-995E-CEFCB3F9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298-4D40-42C2-A447-7496A2A7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98AC-C87E-468A-A4DB-297D2F43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BC4B-3B9C-4FD1-BBE7-5A996419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7BB6-9742-4DB4-B958-399100D5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46B0-7B1B-4788-8CDD-86008E8A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F5B4-2CE5-4F24-8ED0-F107942D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E6F5-52CA-428E-8772-7A9BC636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BBAD-366B-4C47-B7A4-0B4F8262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4FF-E212-4B3E-AF8E-E26F3D3B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2AD4-D25D-47B7-AD48-CF30957C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1480-B4C6-4386-8F86-0065ED26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09B4-A81B-427E-A9BA-FB4DAD24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1A58-DAF3-4B56-B389-D0507FB7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F956-0089-455F-B512-9EC28023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008-4EE7-4A92-B614-C5DB6CAD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50E-BF6C-44AE-AE9E-96D49940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BD0-BC07-40F3-A3BA-8C9BDAAA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9E5-1425-4E57-8E22-3AE495A8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E92-C8A1-4029-90EA-E40A0541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75F-EDA9-4442-8148-43000F34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637-E2E9-4D2F-82CE-CB7D944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B017B6-F3AB-4957-B735-88D229EE09B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7240" cy="6850080"/>
            <a:chOff x="0" y="0"/>
            <a:chExt cx="9147240" cy="685008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868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1360" cy="6850080"/>
              <a:chOff x="455760" y="0"/>
              <a:chExt cx="8091360" cy="685008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608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452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404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016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320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6856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164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3976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044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696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39320" cy="2492280"/>
              <a:chOff x="0" y="622440"/>
              <a:chExt cx="9139320" cy="249228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4B2BA4-D935-4176-A803-DD956E84A852}" type="slidenum">
              <a: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3962160"/>
            <a:ext cx="4572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фронова Валентина Георгиевна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географии и биолог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колы-интернат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ид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. Советска Кировской облас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76920" y="3733920"/>
            <a:ext cx="4120920" cy="2993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6480" y="685800"/>
            <a:ext cx="742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бота с текстом учебн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к средство форм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бщеучебных умений и навы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 детей с нарушенным слух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Виды работы с учебником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 логический анализ текст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. Прочитать содержание учебной статьи и выделить главную мысль- это закономерность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) закономерность-это устойчивая взаимосвязь, она раскрывает зависимос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)зависимость можно определить по слову зависит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)тренировка-игра кто лучше и быстрее (похвала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.Читают текст учебника и предлагают свой вариант закономерностей, лучший вариант записывают в тетрадь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 Прочитать текст учебника и выделить логические части, где мысль заверше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4 Озаглавить каждую из логических частей, выявить закономерности, найти термин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5 Прочитать текст учебника, выписать новые понятия (незнакомые), дать их определен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6 Прочитать определение и предложить определить учащимся, что это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7 Отредактировать определение и откорректировать ег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 Прочитать текст учебника и составить план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 Найти в учебнике примеры, подтверждающие закономерности и придумать свои подобные пример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0 Сравнить два явления или объекта природы по  тексту учебника, сделать запись в тетрад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1 Прочитать текст учебника и выдвинуть свою гипотез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ормы работы с учебником позволяют вырабатывать навыки самостоятельно добывать знания, умения задавать вопросы и находить на них ответы, различным образом оформлять и применять свои зн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ча образования в школе состоит не только в том, чтобы дать ученикам теоретические и практические зна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азличных областях, но и очень важно, научить их добывать эти знания самостоятельно. Помощником в этой работе может служить школьный учебни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начение учебника</a:t>
            </a:r>
            <a:br>
              <a:rPr sz="44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Обеспечивает определенный минимум знаний (базисный уровень стандарта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Служит для закрепления и повторения объяснений учителя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Служит для самостоятельного приобретения знани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Обеспечивает работу в школе и дома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  работы с учебник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ть детей учиться, убедить их, что учебник- это их помощ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учить детей к самостоятельной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епление изученного на уроке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ирование у учащихся учебных навыков, приемов работы с учебнико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аправления работы с учебником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с учебником с помощью учите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стоятельная работа учащихся с материалом учебник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бота по ознакомлению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 учебник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знакомление с учебником (автор учебника, год издания, форзац, оглавление, обозначение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дания по содержанию параграф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Почему пункт так назыв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Как найти главные слова в параграф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Что выделено цветом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Где найти значение новых слов, если их определения нет в параграф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Что поясняет рисунок, карт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Чем заканчивается параграф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Что нового узнали в параграфе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ормирование навыков и умен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делать анализ содержания текста, рисунка в текст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Уметь выделить главное в текст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равнивать, делать обобщения, выводы по тексту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оставлять по тексту план рассказ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оставлять вопросы к тексту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ести словарь географических терминов  по тем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ыполнять схемы, таблицы, графики по тексту учебник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Готовить сообщения, писать конспекты, сочинени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абота над рефератами по определенной тем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оставлять карточки-консультанты по тем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Формирование умения охватывать текст как целостность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Устанавливать логическую связь и зависимость между сведениями, изложенными в параграфе учебник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идактические условия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ля работы с учебник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Наличие у учащихся знаний, позволяющих понять цель задания, его содержание и последовательность выполн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Присутствие в содержании задания нового материала, придающего заданию исследовательское направление, вызывающего познавательный интерес учащихся и требующего самостоятельного реш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Необходимость фиксации результатов самостоятельной работы в записях, рисунках, чертежах, схем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Работа с учебником должна сочетаться с другими видами самостоятельной работы на уро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истема работы над темой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«Обучение работе над учебным текстом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Работа с учебником после объяснения нового материал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Чтение текста учителем с выделением главных мысле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Чтение текста учителем и составление плана прочитанног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Составление учителем образца ответа по составленному план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Ответ учащихся по собственному план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Чтение текста учащимися и разбиение его на составные час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Чтение учащимися текста и самостоятельное составление плана прочитанного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Виды работы по получению теоретических знаний из текста учебни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Прочитать текст учебной статьи и прокомментировать содержание учебного материал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Прочитать содержание учебной статьи и выделить главно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Прочитать текст, найти сведения, подтверждающие что… (многократно повторяется содержание материала, записывается самое главно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Прочитать текст учебной статьи и составить перечень важных терминов (фактов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Прочитать текст учебника и сконструировать вопросы с вопросительными словами: Что такое? Какие? Где? Сколько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Прочитать текст учебника и ответить на вопросы учите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Найти в тексте учебника ответы на вопросы учителя, заранее написанные на доске или в конце текста учебни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После объяснения материала учителем, найти в тексте учебника, что не объяснил учител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9.Прочитать текст учебной статьи и заполнить таблицу, предложенную учителе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.Прочитать текст учебника и заполнить схему «паучок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2T05:25:3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