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F97-C747-40CE-92F8-E406ACBB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FF9-B24D-4B27-BB00-096CEA26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E9D-A11F-437A-91D4-62B9B742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637-979D-422A-82EC-251F8660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AF2B-73FA-4064-A4F5-03BA5611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E113-A704-49BF-B33F-AA4C71B8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EA75-1043-48CE-ADD5-C12939FE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935B-621F-47A2-806A-5EB42567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3D3F-5DA9-4934-8A3D-1C8DBC1E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6D6B-10BD-48A5-B51E-2121BF51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ADF9-F1FF-42D6-82E5-9288BC9F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0E4-E846-4EEF-B281-B374E026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9580-0A55-4941-B79B-3645F48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B55E-F7F3-4F8E-A6B1-EEFBD8E2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15E5-5FCD-4320-A92F-3B5DC0A7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5545-54D3-456D-9BB3-3D811984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4A6C-4B3A-40EB-B536-2887F526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BC9-0505-4F77-8403-11EDEC23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1BD-1F76-451C-B025-E8B738E2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B8C-4105-431C-8CF4-A0B89DB0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2E1-7D80-43FD-9073-96C8E6A5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BD8-8E1D-426D-BD17-71A68DF5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095-23A6-4541-83CD-C12FEB57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F31-1AB4-4DC2-B97D-EBCA841A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BB515C-069D-4CAD-8B6D-7197AC33D99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7240" cy="6850080"/>
            <a:chOff x="0" y="0"/>
            <a:chExt cx="9147240" cy="685008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868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1360" cy="6850080"/>
              <a:chOff x="455760" y="0"/>
              <a:chExt cx="8091360" cy="685008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608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452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404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016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320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6856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164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3976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044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696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39320" cy="2492280"/>
              <a:chOff x="0" y="622440"/>
              <a:chExt cx="9139320" cy="249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666E2E-C864-4971-A26E-370764CCB5DF}" type="slidenum">
              <a:rPr b="0" lang="ru-RU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3962160"/>
            <a:ext cx="4572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фронова Валентина Георгиевна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географии и биолог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колы-интернат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ид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 Советска Кировской облас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76920" y="3733920"/>
            <a:ext cx="4120920" cy="2993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6480" y="685800"/>
            <a:ext cx="742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бота с текстом учебн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к средство форм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щеучебных умений и навы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 детей с нарушенным слух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Виды работы с учебником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 логический анализ текст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. Прочитать содержание учебной статьи и выделить главную мысль- это закономерность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) закономерность-это устойчивая взаимосвязь, она раскрывает зависимос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)зависимость можно определить по слову зависит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)тренировка-игра кто лучше и быстрее (похвала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.Читают текст учебника и предлагают свой вариант закономерностей, лучший вариант записывают в тетрадь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 Прочитать текст учебника и выделить логические части, где мысль заверше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 Озаглавить каждую из логических частей, выявить закономерности, найти термин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5 Прочитать текст учебника, выписать новые понятия (незнакомые), дать их определен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6 Прочитать определение и предложить определить учащимся, что это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7 Отредактировать определение и откорректировать ег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 Прочитать текст учебника и составить план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 Найти в учебнике примеры, подтверждающие закономерности и придумать свои подобные примеры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0 Сравнить два явления или объекта природы по  тексту учебника, сделать запись в тетрад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1 Прочитать текст учебника и выдвинуть свою гипотез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ормы работы с учебником позволяют вырабатывать навыки самостоятельно добывать знания, умения задавать вопросы и находить на них ответы, различным образом оформлять и применять свои зн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ча образования в школе состоит не только в том, чтобы дать ученикам теоретические и практические зна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азличных областях, но и очень важно, научить их добывать эти знания самостоятельно. Помощником в этой работе может служить школьный учебни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начение учебника</a:t>
            </a:r>
            <a:br>
              <a:rPr sz="44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Обеспечивает определенный минимум знаний (базисный уровень стандарта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Служит для закрепления и повторения объяснений учителя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Служит для самостоятельного приобретения знани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Обеспечивает работу в школе и дом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  работы с учебник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ть детей учиться, убедить их, что учебник- это их помощ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ить детей к самостоятельной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епление изученного на уроке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ирование у учащихся учебных навыков, приемов работы с учебнико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аправления работы с учебником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с учебником с помощью учите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стоятельная работа учащихся с материалом учебни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бота по ознакомлению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 учебник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знакомление с учебником (автор учебника, год издания, форзац, оглавление, обозначение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дания по содержанию параграф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Почему пункт так назыв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Как найти главные слова в параграф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Что выделено цветом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Где найти значение новых слов, если их определения нет в параграф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 Что поясняет рисунок, карт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Чем заканчивается параграф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Что нового узнали в параграфе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ирование навыков и ум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делать анализ содержания текста, рисунка в текст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Уметь выделить главное в текст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равнивать, делать обобщения, выводы по текст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ставлять по тексту план рассказ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ставлять вопросы к тексту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ести словарь географических терминов  по тем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Выполнять схемы, таблицы, графики по тексту учебник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Готовить сообщения, писать конспекты, сочинени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Работа над рефератами по определенной тем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Составлять карточки-консультанты по теме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ормирование умения охватывать текст как целостность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Устанавливать логическую связь и зависимость между сведениями, изложенными в параграфе учебник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идактические условия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ля работы с учебник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Наличие у учащихся знаний, позволяющих понять цель задания, его содержание и 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Присутствие в содержании задания нового материала, придающего заданию исследовательское направление, вызывающего познавательный интерес учащихся и требующего самостоятельного реш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Необходимость фиксации результатов самостоятельной работы в записях, рисунках, чертежах, схем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Работа с учебником должна сочетаться с другими видами самостоятельной работы на уро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истема работы над темой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Обучение работе над учебным текстом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Работа с учебником после объяснения нового материа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Чтение текста учителем с выделением главных мысл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Чтение текста учителем и составление плана прочитанно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Составление учителем образца ответа по составленному план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Ответ учащихся по собственному план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Чтение текста учащимися и разбиение его на составные част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.Чтение учащимися текста и самостоятельное составление плана прочитанног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Виды работы по получению теоретических знаний из текста учебник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Прочитать текст учебной статьи и прокомментировать содержание учебного материал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Прочитать содержание учебной статьи и выделить главно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Прочитать текст, найти сведения, подтверждающие что… (многократно повторяется содержание материала, записывается самое главно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Прочитать текст учебной статьи и составить перечень важных терминов (фактов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Прочитать текст учебника и сконструировать вопросы с вопросительными словами: Что такое? Какие? Где? Сколько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Прочитать текст учебника и ответить на вопросы учите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Найти в тексте учебника ответы на вопросы учителя, заранее написанные на доске или в конце текста учебни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После объяснения материала учителем, найти в тексте учебника, что не объяснил учите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Прочитать текст учебной статьи и заполнить таблицу, предложенную учителе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Прочитать текст учебника и заполнить схему «паучок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2T05:25:3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