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B89B-DDBB-43B4-9900-88F45622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FBAE-A28D-446B-A39B-0D0414CF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D636-640F-40EC-9043-CBFD0915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7FA4-C302-450E-AC3D-BBB44F89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570B-2F34-460B-A2DB-40140EC0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8366-786E-4DCD-BEF6-3E140CB9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1875-5F95-445D-AD08-DDBAB5B3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1B77-FC33-4A0E-8192-2AC92D61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57DB-325C-4B8D-A7D0-10BEA485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33A0-EEDE-4E20-8003-A4BF8D31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81D6-5059-4B1F-8FB5-3C2D9A26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954A-5991-49B8-B3F8-FED8BF63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7B56-5AEA-4562-9953-F7A93D745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560" y="1916280"/>
            <a:ext cx="900108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ГЛОБАЛЬНАЯ ПРОБЛЕМА ЧЕЛОВЕЧЕСТВА.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«ПРОДОВОЛЬСТВЕННАЯ ПРОБЛЕМ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9"/>
          <p:cNvPicPr/>
          <p:nvPr/>
        </p:nvPicPr>
        <p:blipFill>
          <a:blip r:embed="rId2"/>
          <a:stretch/>
        </p:blipFill>
        <p:spPr>
          <a:xfrm>
            <a:off x="611280" y="3573360"/>
            <a:ext cx="3525840" cy="302436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6496200" y="366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11160" y="4800600"/>
            <a:ext cx="327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 ученика 12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гурцов Влади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– Софронова В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26028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специальное (коррекционное) образовательное учреждение для обучающихся, воспитанник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граниченными возможностями здоровья специальная (коррекционная) общеобразовательная школа-интерна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ид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Советска Кир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3"/>
          <p:cNvSpPr/>
          <p:nvPr/>
        </p:nvSpPr>
        <p:spPr>
          <a:xfrm>
            <a:off x="142920" y="29592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Старинная мудрость гласи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«Человек ест, чтобы жить, а не живёт, чтобы ес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7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4897440" cy="395784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pic>
        <p:nvPicPr>
          <p:cNvPr id="48" name="Picture 18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3108600" cy="531180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Количество пищи, необходимое человеку для нормальной жизни и деятельности, зависит от пола, возраста, веса, роста, от характера и условий труда, быта, от климатических особенностей терри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2"/>
          <a:stretch/>
        </p:blipFill>
        <p:spPr>
          <a:xfrm>
            <a:off x="2643120" y="2714760"/>
            <a:ext cx="35290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57440" y="285480"/>
            <a:ext cx="4545000" cy="61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Ученые считают, что медицинская норма калорийности потребляемой пищи должна быть не меньше 2300-2600 ккал и 70-100 г белка в сутки. Но в настоящее время, по данным ООН, почти 2/3 человечества проживает в странах, где ощущается постоянная нехватка проду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"/>
          <p:cNvPicPr/>
          <p:nvPr/>
        </p:nvPicPr>
        <p:blipFill>
          <a:blip r:embed="rId2"/>
          <a:stretch/>
        </p:blipFill>
        <p:spPr>
          <a:xfrm>
            <a:off x="857160" y="1357200"/>
            <a:ext cx="3202200" cy="475308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Для стран Севера явление голода и недоедания в целом уже не характерно. Эти страны ныне производят и потребляют более ¾ мирового продовольствия, хотя в них проживает менее 15% населения Зем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PH02058U"/>
          <p:cNvPicPr/>
          <p:nvPr/>
        </p:nvPicPr>
        <p:blipFill>
          <a:blip r:embed="rId2"/>
          <a:stretch/>
        </p:blipFill>
        <p:spPr>
          <a:xfrm>
            <a:off x="1643040" y="1785960"/>
            <a:ext cx="5400720" cy="357660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55" name="Rectangle 8"/>
          <p:cNvSpPr/>
          <p:nvPr/>
        </p:nvSpPr>
        <p:spPr>
          <a:xfrm>
            <a:off x="0" y="5373720"/>
            <a:ext cx="892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В большинстве развитых стран средняя калорийность питания превышает 3000 ккал/сутки. Напротив, в этих странах становится всё больше переедающих, имеющих излишнюю массу т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67708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В странах же Юга, несмотря на заметный рост средней калорийности питания  в последние десятилетия, этот показатель едва дотягивает до медицинской нормы, а в Африке к югу от Сахары составляет всего 2000 ккал/сутки.</a:t>
            </a:r>
            <a:br>
              <a:rPr sz="2400"/>
            </a:br>
            <a:r>
              <a:rPr b="1" i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Человечество должно полнее использовать ресурсы растениеводства, животноводства и рыболов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3"/>
          <p:cNvPicPr/>
          <p:nvPr/>
        </p:nvPicPr>
        <p:blipFill>
          <a:blip r:embed="rId2"/>
          <a:stretch/>
        </p:blipFill>
        <p:spPr>
          <a:xfrm>
            <a:off x="2571840" y="3143160"/>
            <a:ext cx="4035240" cy="34527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  <a:ea typeface="Tahoma"/>
              </a:rPr>
              <a:t>Экстенсивный путь  ведения сельского хозяйства </a:t>
            </a:r>
            <a:r>
              <a:rPr b="1" i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заключается в дальнейшем расширении пахотных, пастбищ и рыбопромысловых угодий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Площадь пригодных для сельскохозяйственной обработки земель на нашей планете составляет 3,2-3,4 млрд га, из которых  пока пользуется менее половины. Основные резервы таких земель находятся в Африке южнее Сахары и в Латинской Амер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Интенсивный путь:  </a:t>
            </a:r>
            <a:r>
              <a:rPr b="1" i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повышение  биологической продуктивности  существующих угодий, биотехнология использования новых, высокоурожайных сортов и новых методов обработки почвы, дальнейшее развитие механизации, химизации, а также мелиораци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GORA038"/>
          <p:cNvPicPr/>
          <p:nvPr/>
        </p:nvPicPr>
        <p:blipFill>
          <a:blip r:embed="rId2"/>
          <a:stretch/>
        </p:blipFill>
        <p:spPr>
          <a:xfrm>
            <a:off x="2286000" y="3000240"/>
            <a:ext cx="40719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Интенсивный путь является главным путём решения  продовольственной проблемы челове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554040" y="1600200"/>
            <a:ext cx="38448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3"/>
          <a:stretch/>
        </p:blipFill>
        <p:spPr>
          <a:xfrm>
            <a:off x="4648320" y="1932120"/>
            <a:ext cx="40384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8T04:56:40Z</dcterms:created>
  <dc:creator>Елена</dc:creator>
  <dc:description/>
  <dc:language>en-US</dc:language>
  <cp:lastModifiedBy>XPUSER</cp:lastModifiedBy>
  <dcterms:modified xsi:type="dcterms:W3CDTF">2004-09-29T20:17:20Z</dcterms:modified>
  <cp:revision>25</cp:revision>
  <dc:subject/>
  <dc:title>Продов проблема</dc:title>
</cp:coreProperties>
</file>