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71F3-D07A-4132-89EA-C018CEF9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48A-780E-4ABE-A8BA-F1FF28AF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CA2-DDA5-43BE-B0E1-47F89187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9D0-EC39-42A0-9001-D0EE8B24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F1A7-4126-4FBF-844A-B64F1A50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642-60FC-4288-8098-60DB3030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946-1959-4E46-94C7-92FCE822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E22-2515-4333-8B90-0FE63245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0E1-0E66-4A43-8B0F-80CEE121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4C92-F173-4DCB-9EA1-32B9334F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9D6D-BB23-4C1F-942B-2EBF6863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E0C6-7134-49F4-BADE-08920103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6878-D2C8-44A9-B7AD-4422F420B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560" y="1916280"/>
            <a:ext cx="90010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ГЛОБАЛЬНАЯ ПРОБЛЕМА ЧЕЛОВЕЧЕСТВА.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«ПРОДОВОЛЬСТВЕННАЯ ПРОБЛЕМ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9"/>
          <p:cNvPicPr/>
          <p:nvPr/>
        </p:nvPicPr>
        <p:blipFill>
          <a:blip r:embed="rId2"/>
          <a:stretch/>
        </p:blipFill>
        <p:spPr>
          <a:xfrm>
            <a:off x="611280" y="3573360"/>
            <a:ext cx="3525840" cy="302436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649620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11160" y="4800600"/>
            <a:ext cx="327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 ученика 12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гурцов Влади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– Софронова В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26028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специальное (коррекционное) образовательное учреждение для обучающихся, воспитанник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граниченными возможностями здоровья специальная (коррекционная) общеобразовательная школа-интерна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ид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Советска Кир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142920" y="29592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Старинная мудрость гласи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«Человек ест, чтобы жить, а не живёт, чтобы ес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897440" cy="395784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pic>
        <p:nvPicPr>
          <p:cNvPr id="48" name="Picture 18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08600" cy="531180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Количество пищи, необходимое человеку для нормальной жизни и деятельности, зависит от пола, возраста, веса, роста, от характера и условий труда, быта, от климатических особенностей терр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2643120" y="2714760"/>
            <a:ext cx="35290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57440" y="285480"/>
            <a:ext cx="454500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Ученые считают, что медицинская норма калорийности потребляемой пищи должна быть не меньше 2300-2600 ккал и 70-100 г белка в сутки. Но в настоящее время, по данным ООН, почти 2/3 человечества проживает в странах, где ощущается постоянная нехватка проду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857160" y="1357200"/>
            <a:ext cx="3202200" cy="475308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Для стран Севера явление голода и недоедания в целом уже не характерно. Эти страны ныне производят и потребляют более ¾ мирового продовольствия, хотя в них проживает менее 15% населения Зем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H02058U"/>
          <p:cNvPicPr/>
          <p:nvPr/>
        </p:nvPicPr>
        <p:blipFill>
          <a:blip r:embed="rId2"/>
          <a:stretch/>
        </p:blipFill>
        <p:spPr>
          <a:xfrm>
            <a:off x="1643040" y="1785960"/>
            <a:ext cx="5400720" cy="357660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55" name="Rectangle 8"/>
          <p:cNvSpPr/>
          <p:nvPr/>
        </p:nvSpPr>
        <p:spPr>
          <a:xfrm>
            <a:off x="0" y="5373720"/>
            <a:ext cx="892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В большинстве развитых стран средняя калорийность питания превышает 3000 ккал/сутки. Напротив, в этих странах становится всё больше переедающих, имеющих излишнюю массу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67708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В странах же Юга, несмотря на заметный рост средней калорийности питания  в последние десятилетия, этот показатель едва дотягивает до медицинской нормы, а в Африке к югу от Сахары составляет всего 2000 ккал/сутки.</a:t>
            </a:r>
            <a:br>
              <a:rPr sz="2400"/>
            </a:b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Человечество должно полнее использовать ресурсы растениеводства, животноводства и рыболов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3"/>
          <p:cNvPicPr/>
          <p:nvPr/>
        </p:nvPicPr>
        <p:blipFill>
          <a:blip r:embed="rId2"/>
          <a:stretch/>
        </p:blipFill>
        <p:spPr>
          <a:xfrm>
            <a:off x="2571840" y="3143160"/>
            <a:ext cx="4035240" cy="34527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  <a:ea typeface="Tahoma"/>
              </a:rPr>
              <a:t>Экстенсивный путь  ведения сельского хозяйства </a:t>
            </a: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заключается в дальнейшем расширении пахотных, пастбищ и рыбопромысловых угодий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Площадь пригодных для сельскохозяйственной обработки земель на нашей планете составляет 3,2-3,4 млрд га, из которых  пока пользуется менее половины. Основные резервы таких земель находятся в Африке южнее Сахары и в Латинской Амер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Интенсивный путь:  </a:t>
            </a: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повышение  биологической продуктивности  существующих угодий, биотехнология использования новых, высокоурожайных сортов и новых методов обработки почвы, дальнейшее развитие механизации, химизации, а также мелиораци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GORA038"/>
          <p:cNvPicPr/>
          <p:nvPr/>
        </p:nvPicPr>
        <p:blipFill>
          <a:blip r:embed="rId2"/>
          <a:stretch/>
        </p:blipFill>
        <p:spPr>
          <a:xfrm>
            <a:off x="2286000" y="3000240"/>
            <a:ext cx="40719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Интенсивный путь является главным путём решения  продовольственной проблемы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554040" y="1600200"/>
            <a:ext cx="38448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3"/>
          <a:stretch/>
        </p:blipFill>
        <p:spPr>
          <a:xfrm>
            <a:off x="4648320" y="1932120"/>
            <a:ext cx="40384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04:56:40Z</dcterms:created>
  <dc:creator>Елена</dc:creator>
  <dc:description/>
  <dc:language>en-US</dc:language>
  <cp:lastModifiedBy>XPUSER</cp:lastModifiedBy>
  <dcterms:modified xsi:type="dcterms:W3CDTF">2004-09-29T20:17:20Z</dcterms:modified>
  <cp:revision>25</cp:revision>
  <dc:subject/>
  <dc:title>Продов проблема</dc:title>
</cp:coreProperties>
</file>