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BE86-A54C-495E-876E-D1A9E15CE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AB8D-204C-4193-800B-94ED1C4C5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EA48-62EA-49A6-A5FE-E6A3FFA98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4E57-6765-4B50-BFA2-5AC9FB054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0316-C5C3-4D69-95A2-80E4FB0D2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615E-2AA9-4D22-997B-F594E12A1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F83A-0C1E-4950-8F48-04AA1D9AD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3272-DF35-43BF-809F-3E3D4E2BD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A15C-AA85-43F5-8FAE-67652A8B1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4AA5-3BEF-4866-8DC2-23C74ABF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454B-820C-41DE-9F2D-CCFB5DD6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A899-1A7B-4242-99C7-4D637FC3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D9FE8-0F1E-432D-A8BE-B6C43E58CB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251460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актическое задание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«Лицо России в МГРТ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Цель: освоить методику работы со статистическими данными, умение строить и анализировать диаграммы и граф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2133720" y="304920"/>
            <a:ext cx="4572000" cy="642600"/>
          </a:xfrm>
          <a:prstGeom prst="rect">
            <a:avLst/>
          </a:prstGeom>
          <a:solidFill>
            <a:srgbClr val="9ed3d7"/>
          </a:solidFill>
          <a:ln w="9360">
            <a:solidFill>
              <a:srgbClr val="9ed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рс эконом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ктические задания для 10-11кла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2520" y="456840"/>
            <a:ext cx="3962520" cy="609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адание №1: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стройте столбчатую диаграмму первой десятки стран мира                по объему ВВП                  (трлн.$)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асштаб: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1 см – 1трлн. 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rcRect l="15624" t="15625" r="55893" b="10418"/>
          <a:stretch/>
        </p:blipFill>
        <p:spPr>
          <a:xfrm>
            <a:off x="0" y="0"/>
            <a:ext cx="495288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Диаграмма 1" descr=""/>
          <p:cNvPicPr/>
          <p:nvPr/>
        </p:nvPicPr>
        <p:blipFill>
          <a:blip r:embed="rId1"/>
          <a:stretch/>
        </p:blipFill>
        <p:spPr>
          <a:xfrm>
            <a:off x="378000" y="835200"/>
            <a:ext cx="8388000" cy="54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оварная структура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экспорта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России, 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04920" y="160020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овольственные товары и с.х сырье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неральное сырье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65,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имич. продукция, иск.каучук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5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жевенное сырье, пушнина, изделия из них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0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ревесина, целлюлоза, бумага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кстиль, обувь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0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аллы, драг. камни и изделия из них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6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шины, оборудование, транспортные средства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5,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чие товары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762120" y="5638680"/>
            <a:ext cx="769608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стройте круговую диаграмму структур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кспорта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             учитывая, что 1% равен 3,6 граду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152280" y="6019920"/>
            <a:ext cx="22860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Е №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rcRect l="29690" t="40625" r="17968" b="15625"/>
          <a:stretch/>
        </p:blipFill>
        <p:spPr>
          <a:xfrm>
            <a:off x="0" y="457200"/>
            <a:ext cx="9144000" cy="6095880"/>
          </a:xfrm>
          <a:prstGeom prst="rect">
            <a:avLst/>
          </a:prstGeom>
          <a:ln w="28440">
            <a:solidFill>
              <a:srgbClr val="19194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оварная структура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импорта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России, 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2824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овольственные товары и с.х сырье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5,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неральные продукты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имич. продукция, лекарства   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5,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жевенное сырье, пушнина, изделия из них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0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делия из древесины, бумаги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,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кстиль, обувь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аллы, драг. камни и изделия из них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7,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шины, оборудование, транспортные средства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47,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чие товары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762120" y="5638680"/>
            <a:ext cx="769608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стройте круговую диаграмму структур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порта,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       учитывая, что 1% равен 3,6 граду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152280" y="6019920"/>
            <a:ext cx="22860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Е №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ВП на душу населения (по паритету покупательской способности), 2005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юксембург 70014 долларов на 1 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тар 6874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рвегия 47551           Бруней 474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вейт 44982               США 416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нгапур 4147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рландия 38058          Макао  3725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нконг  35680 ……   Россия 11861 (51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152280" y="6019920"/>
            <a:ext cx="22860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Е №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2514600" y="5867280"/>
            <a:ext cx="647712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стройте линейные диаграммы ППС стран мира. Масштаб: в 1 см – 10 000 долларов на 1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Диаграмма 1" descr=""/>
          <p:cNvPicPr/>
          <p:nvPr/>
        </p:nvPicPr>
        <p:blipFill>
          <a:blip r:embed="rId1"/>
          <a:stretch/>
        </p:blipFill>
        <p:spPr>
          <a:xfrm>
            <a:off x="450720" y="755640"/>
            <a:ext cx="846792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11-23T17:18:24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