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D9D-5699-42DD-9034-6CCB0A49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F5F-E1EF-45EE-9F15-A2C51B99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3BCA-47BC-4015-9B46-FB1BA4A4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858-80B2-4ED1-8AA9-E99A062E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1D9-C90D-4715-BC71-5844D0AC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7C7-9036-4208-B0A4-1BBEE3C2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81D-3299-4449-BF74-CC36BBF6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8A5C-4787-4409-BCD1-3D5A3A02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059-66FE-477F-B8AC-00888603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D24-239B-4959-9BA6-9D27DA75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8C91-97DA-4286-AA52-9B0381A8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52D-AE0E-46E2-89E7-EA9946CF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5360-4F24-4FDF-9034-A2CD2BD0E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5146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«Лицо России в МГР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ль: освоить методику работы со статистическими данными, умение строить и анализировать диаграммы и граф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133720" y="304920"/>
            <a:ext cx="4572000" cy="642600"/>
          </a:xfrm>
          <a:prstGeom prst="rect">
            <a:avLst/>
          </a:prstGeom>
          <a:solidFill>
            <a:srgbClr val="9ed3d7"/>
          </a:solidFill>
          <a:ln w="9360">
            <a:solidFill>
              <a:srgbClr val="9e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с эконом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задания для 10-11кл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2520" y="456840"/>
            <a:ext cx="396252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1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ройте столбчатую диаграмму первой десятки стран мира                по объему ВВП                  (трлн.$)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сштаб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1 см – 1трлн.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rcRect l="15624" t="15625" r="55893" b="10418"/>
          <a:stretch/>
        </p:blipFill>
        <p:spPr>
          <a:xfrm>
            <a:off x="0" y="0"/>
            <a:ext cx="49528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Диаграмма 1" descr=""/>
          <p:cNvPicPr/>
          <p:nvPr/>
        </p:nvPicPr>
        <p:blipFill>
          <a:blip r:embed="rId1"/>
          <a:stretch/>
        </p:blipFill>
        <p:spPr>
          <a:xfrm>
            <a:off x="378000" y="835200"/>
            <a:ext cx="8388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оварная структура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кспорт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России,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вольственные товары и с.х сырь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еральное сырье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5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ч. продукция, иск.каучук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жевенное сырье, пушнина, изделия из них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есина, целлюлоза, бумага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иль, обувь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ы, драг. камни и изделия из них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6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ы, оборудование, транспортные средст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ие товары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62120" y="5638680"/>
            <a:ext cx="7696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ройте круговую диаграмму структур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орт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           учитывая, что 1% равен 3,6 град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52280" y="6019920"/>
            <a:ext cx="228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29690" t="40625" r="17968" b="15625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28440">
            <a:solidFill>
              <a:srgbClr val="1919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оварная структура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мпорт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России,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вольственные товары и с.х сырь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5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еральные продукты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ч. продукция, лекарства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5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жевенное сырье, пушнина, изделия из них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делия из древесины, бумаги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иль, обувь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ы, драг. камни и изделия из них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ы, оборудование, транспортные средст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7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ие товары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762120" y="5638680"/>
            <a:ext cx="7696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ройте круговую диаграмму структур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порта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учитывая, что 1% равен 3,6 град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52280" y="6019920"/>
            <a:ext cx="228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П на душу населения (по паритету покупательской способности), 2005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ксембург 70014 долларов на 1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тар 687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вегия 47551           Бруней 474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вейт 44982               США 416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гапур 414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ландия 38058          Макао  372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нконг  35680 ……   Россия 11861 (51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152280" y="6019920"/>
            <a:ext cx="2286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514600" y="5867280"/>
            <a:ext cx="647712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стройте линейные диаграммы ППС стран мира. Масштаб: в 1 см – 10 000 долларов на 1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Диаграмма 1" descr=""/>
          <p:cNvPicPr/>
          <p:nvPr/>
        </p:nvPicPr>
        <p:blipFill>
          <a:blip r:embed="rId1"/>
          <a:stretch/>
        </p:blipFill>
        <p:spPr>
          <a:xfrm>
            <a:off x="450720" y="755640"/>
            <a:ext cx="84679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23T17:18:2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