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5DA-DBDD-427D-9EAC-29F1D02D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2E7-BACC-44B3-8778-603B0855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46F-F52B-4050-9197-570ED689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3CA-D729-4C2A-9EE6-D7E8648F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E43-FFC2-45A2-8A2F-D8089D17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6BC-03DC-414D-AC68-6AC2B4C3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3F2-872F-4F7D-848E-9225706F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176-38BE-4F01-B57D-F7AAFFAB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487-7391-4C6A-93F4-623A74EA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C7F-EAC9-433E-9C11-F45DE4E3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7C4-FA29-4D34-B36F-9399944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A30-2931-46A0-BE8A-F1E8F359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A607-D36B-4557-AF51-817CA838ED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019680" cy="2162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733920" y="2057400"/>
            <a:ext cx="515772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 нәрсә?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олар нәрсәләр?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ичә?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195800" y="472428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Башлангыч сыйныф укучылары өч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962520" y="6094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858000" y="3200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5334120" y="28195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3733920" y="3429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2209680" y="29718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685800" y="3429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3491280" y="187308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у нәрс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040280" y="510552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Нич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C900439819[1]"/>
          <p:cNvPicPr/>
          <p:nvPr/>
        </p:nvPicPr>
        <p:blipFill>
          <a:blip r:embed="rId1"/>
          <a:stretch/>
        </p:blipFill>
        <p:spPr>
          <a:xfrm>
            <a:off x="3505320" y="228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352680" y="28195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3735360" y="198108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китап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354120" y="51055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китап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650120" y="5105520"/>
            <a:ext cx="9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ла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354120" y="5715000"/>
            <a:ext cx="21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Өч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 китап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P900175372[1]"/>
          <p:cNvPicPr/>
          <p:nvPr/>
        </p:nvPicPr>
        <p:blipFill>
          <a:blip r:embed="rId1"/>
          <a:stretch/>
        </p:blipFill>
        <p:spPr>
          <a:xfrm>
            <a:off x="3124080" y="2590920"/>
            <a:ext cx="3657600" cy="2425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735360" y="51055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Дәфт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6280" y="510552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л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582360" y="579132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Дүрт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 дәфт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3962520" y="1981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024080" y="17971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Дәфт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714760" cy="168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733920" y="3808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719160" y="21016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Акб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414240" y="476892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Акбур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802400" y="4800600"/>
            <a:ext cx="9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ла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261960" y="5530680"/>
            <a:ext cx="28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Дүрт</a:t>
            </a:r>
            <a:r>
              <a:rPr b="1" lang="tt-RU" sz="36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акбур</a:t>
            </a:r>
            <a:r>
              <a:rPr b="1" lang="tt-RU" sz="3600" spc="-1" strike="noStrike">
                <a:solidFill>
                  <a:srgbClr val="00cc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3809880" y="68580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3659760" y="190512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етерге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491640" y="469260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етерге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336280" y="472428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л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284640" y="5410080"/>
            <a:ext cx="31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Дүрт 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етерге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3888360" y="18288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Калә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583800" y="54100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Калә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954680" y="5410080"/>
            <a:ext cx="9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н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415320" y="5987880"/>
            <a:ext cx="25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Биш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 калә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3429000" y="30492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6324480" y="3048120"/>
            <a:ext cx="2143080" cy="2133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3872520" y="2330280"/>
            <a:ext cx="15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Тәрәз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07120" y="5257800"/>
            <a:ext cx="15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Тәрәз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4879080" y="525780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л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354840" y="5791320"/>
            <a:ext cx="21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Өч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 тәрәз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038480" y="60948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101772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4343400" y="2743200"/>
            <a:ext cx="89388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2514600" y="2819520"/>
            <a:ext cx="136044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3735720" y="182880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у нәрс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3888000" y="441972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Нич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5" descr=""/>
          <p:cNvPicPr/>
          <p:nvPr/>
        </p:nvPicPr>
        <p:blipFill>
          <a:blip r:embed="rId1"/>
          <a:srcRect l="0" t="20006" r="0" b="13327"/>
          <a:stretch/>
        </p:blipFill>
        <p:spPr>
          <a:xfrm>
            <a:off x="4038480" y="3808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6" descr=""/>
          <p:cNvPicPr/>
          <p:nvPr/>
        </p:nvPicPr>
        <p:blipFill>
          <a:blip r:embed="rId2"/>
          <a:srcRect l="0" t="20006" r="0" b="13327"/>
          <a:stretch/>
        </p:blipFill>
        <p:spPr>
          <a:xfrm>
            <a:off x="6858000" y="3352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7" descr=""/>
          <p:cNvPicPr/>
          <p:nvPr/>
        </p:nvPicPr>
        <p:blipFill>
          <a:blip r:embed="rId3"/>
          <a:srcRect l="0" t="20006" r="0" b="13327"/>
          <a:stretch/>
        </p:blipFill>
        <p:spPr>
          <a:xfrm>
            <a:off x="5334120" y="2514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8" descr=""/>
          <p:cNvPicPr/>
          <p:nvPr/>
        </p:nvPicPr>
        <p:blipFill>
          <a:blip r:embed="rId4"/>
          <a:srcRect l="0" t="20006" r="0" b="13327"/>
          <a:stretch/>
        </p:blipFill>
        <p:spPr>
          <a:xfrm>
            <a:off x="3809880" y="3581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9" descr=""/>
          <p:cNvPicPr/>
          <p:nvPr/>
        </p:nvPicPr>
        <p:blipFill>
          <a:blip r:embed="rId5"/>
          <a:srcRect l="0" t="20006" r="0" b="13327"/>
          <a:stretch/>
        </p:blipFill>
        <p:spPr>
          <a:xfrm>
            <a:off x="2286000" y="3048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0" descr=""/>
          <p:cNvPicPr/>
          <p:nvPr/>
        </p:nvPicPr>
        <p:blipFill>
          <a:blip r:embed="rId6"/>
          <a:srcRect l="0" t="20006" r="0" b="13327"/>
          <a:stretch/>
        </p:blipFill>
        <p:spPr>
          <a:xfrm>
            <a:off x="762120" y="358128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1"/>
          <p:cNvSpPr/>
          <p:nvPr/>
        </p:nvSpPr>
        <p:spPr>
          <a:xfrm>
            <a:off x="3735720" y="190512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у нәрс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2"/>
          <p:cNvSpPr/>
          <p:nvPr/>
        </p:nvSpPr>
        <p:spPr>
          <a:xfrm>
            <a:off x="3567240" y="568332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Нич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хметшина</cp:lastModifiedBy>
  <dcterms:modified xsi:type="dcterms:W3CDTF">2011-11-15T05:39:4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