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C4E9-B381-40D9-AD7F-E03685B7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4DB-376E-4EAC-9CEE-C0D8C56D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2CC-2CFA-4571-8952-464193F1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D6F-E3A6-43E7-90CA-750CE078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A08D-0362-42AA-BA48-51D76777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8ED-E721-4543-8DB5-B1C29FA5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DD05-663F-40BB-9D4C-4930DC7F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DA3-3DB3-4C92-9F9C-44F4B207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B11A-5C76-4766-BF88-A241FA37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5FF2-49A0-4353-A115-0FBD6278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F19-DAFA-445F-AE75-C9DAF860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226B-51BF-45E8-95AD-BC3A07B1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3BE6-B671-4392-A4E3-BD8BF02039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3019680" cy="216216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3733920" y="2057400"/>
            <a:ext cx="515772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у нәрсә?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олар нәрсәләр?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ичә?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4195800" y="472428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Башлангыч сыйныф укучылары өче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3962520" y="6094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6858000" y="32004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5334120" y="28195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3733920" y="3429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5"/>
          <a:stretch/>
        </p:blipFill>
        <p:spPr>
          <a:xfrm>
            <a:off x="2209680" y="297180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6"/>
          <a:stretch/>
        </p:blipFill>
        <p:spPr>
          <a:xfrm>
            <a:off x="685800" y="342900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3491280" y="1873080"/>
            <a:ext cx="21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Бу нәрсә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4040280" y="510552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Ничә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MC900439819[1]"/>
          <p:cNvPicPr/>
          <p:nvPr/>
        </p:nvPicPr>
        <p:blipFill>
          <a:blip r:embed="rId1"/>
          <a:stretch/>
        </p:blipFill>
        <p:spPr>
          <a:xfrm>
            <a:off x="3505320" y="2286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352680" y="28195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3735360" y="198108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китап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3354120" y="51055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китап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650120" y="5105520"/>
            <a:ext cx="9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3300"/>
                </a:solidFill>
                <a:latin typeface="Times New Roman"/>
              </a:rPr>
              <a:t>ла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354120" y="5715000"/>
            <a:ext cx="21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ff"/>
                </a:solidFill>
                <a:latin typeface="Times New Roman"/>
              </a:rPr>
              <a:t>Өч</a:t>
            </a: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 китап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P900175372[1]"/>
          <p:cNvPicPr/>
          <p:nvPr/>
        </p:nvPicPr>
        <p:blipFill>
          <a:blip r:embed="rId1"/>
          <a:stretch/>
        </p:blipFill>
        <p:spPr>
          <a:xfrm>
            <a:off x="3124080" y="2590920"/>
            <a:ext cx="3657600" cy="2425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735360" y="510552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Дәфтә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6280" y="510552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3300"/>
                </a:solidFill>
                <a:latin typeface="Times New Roman"/>
              </a:rPr>
              <a:t>лә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582360" y="579132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ff"/>
                </a:solidFill>
                <a:latin typeface="Times New Roman"/>
              </a:rPr>
              <a:t>Дүрт</a:t>
            </a: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 дәфтә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4114800" y="2286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3962520" y="1981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024080" y="179712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Дәфтә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200400" y="2971800"/>
            <a:ext cx="2714760" cy="1685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3733920" y="3808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719160" y="21016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Акбу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414240" y="476892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Акбур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4802400" y="4800600"/>
            <a:ext cx="9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3300"/>
                </a:solidFill>
                <a:latin typeface="Times New Roman"/>
              </a:rPr>
              <a:t>ла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261960" y="5530680"/>
            <a:ext cx="28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ff"/>
                </a:solidFill>
                <a:latin typeface="Times New Roman"/>
              </a:rPr>
              <a:t>Дүрт</a:t>
            </a:r>
            <a:r>
              <a:rPr b="1" lang="tt-RU" sz="3600" spc="-1" strike="noStrike">
                <a:solidFill>
                  <a:srgbClr val="00cc00"/>
                </a:solidFill>
                <a:latin typeface="Times New Roman"/>
              </a:rPr>
              <a:t>  </a:t>
            </a: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акбур</a:t>
            </a:r>
            <a:r>
              <a:rPr b="1" lang="tt-RU" sz="3600" spc="-1" strike="noStrike">
                <a:solidFill>
                  <a:srgbClr val="00cc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3276720" y="281952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3809880" y="68580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3659760" y="190512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бетерге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3491640" y="469260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бетерге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5336280" y="472428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3300"/>
                </a:solidFill>
                <a:latin typeface="Times New Roman"/>
              </a:rPr>
              <a:t>лә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284640" y="5410080"/>
            <a:ext cx="31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ff"/>
                </a:solidFill>
                <a:latin typeface="Times New Roman"/>
              </a:rPr>
              <a:t>Дүрт </a:t>
            </a: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бетерге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200400" y="24382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3733920" y="30492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3888360" y="18288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Калә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583800" y="54100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Калә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4954680" y="5410080"/>
            <a:ext cx="9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3300"/>
                </a:solidFill>
                <a:latin typeface="Times New Roman"/>
              </a:rPr>
              <a:t>нә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3415320" y="5987880"/>
            <a:ext cx="250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ff"/>
                </a:solidFill>
                <a:latin typeface="Times New Roman"/>
              </a:rPr>
              <a:t>Биш</a:t>
            </a: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 калә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3429000" y="304920"/>
            <a:ext cx="2143080" cy="2133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3505320" y="3048120"/>
            <a:ext cx="2143080" cy="2133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2143080" cy="213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4"/>
          <a:stretch/>
        </p:blipFill>
        <p:spPr>
          <a:xfrm>
            <a:off x="6324480" y="3048120"/>
            <a:ext cx="2143080" cy="2133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1"/>
          <p:cNvSpPr/>
          <p:nvPr/>
        </p:nvSpPr>
        <p:spPr>
          <a:xfrm>
            <a:off x="3872520" y="2330280"/>
            <a:ext cx="15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Тәрәз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507120" y="5257800"/>
            <a:ext cx="15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Тәрәз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4879080" y="525780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3300"/>
                </a:solidFill>
                <a:latin typeface="Times New Roman"/>
              </a:rPr>
              <a:t>лә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3354840" y="5791320"/>
            <a:ext cx="21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ff"/>
                </a:solidFill>
                <a:latin typeface="Times New Roman"/>
              </a:rPr>
              <a:t>Өч</a:t>
            </a: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 тәрәз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038480" y="609480"/>
            <a:ext cx="133380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5867280" y="2819520"/>
            <a:ext cx="101772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4343400" y="2743200"/>
            <a:ext cx="89388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4"/>
          <a:stretch/>
        </p:blipFill>
        <p:spPr>
          <a:xfrm>
            <a:off x="2514600" y="2819520"/>
            <a:ext cx="1360440" cy="1371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3735720" y="1828800"/>
            <a:ext cx="21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Бу нәрсә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3888000" y="441972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Ничә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5" descr=""/>
          <p:cNvPicPr/>
          <p:nvPr/>
        </p:nvPicPr>
        <p:blipFill>
          <a:blip r:embed="rId1"/>
          <a:srcRect l="0" t="20006" r="0" b="13327"/>
          <a:stretch/>
        </p:blipFill>
        <p:spPr>
          <a:xfrm>
            <a:off x="4038480" y="3808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6" descr=""/>
          <p:cNvPicPr/>
          <p:nvPr/>
        </p:nvPicPr>
        <p:blipFill>
          <a:blip r:embed="rId2"/>
          <a:srcRect l="0" t="20006" r="0" b="13327"/>
          <a:stretch/>
        </p:blipFill>
        <p:spPr>
          <a:xfrm>
            <a:off x="6858000" y="33526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7" descr=""/>
          <p:cNvPicPr/>
          <p:nvPr/>
        </p:nvPicPr>
        <p:blipFill>
          <a:blip r:embed="rId3"/>
          <a:srcRect l="0" t="20006" r="0" b="13327"/>
          <a:stretch/>
        </p:blipFill>
        <p:spPr>
          <a:xfrm>
            <a:off x="5334120" y="25146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8" descr=""/>
          <p:cNvPicPr/>
          <p:nvPr/>
        </p:nvPicPr>
        <p:blipFill>
          <a:blip r:embed="rId4"/>
          <a:srcRect l="0" t="20006" r="0" b="13327"/>
          <a:stretch/>
        </p:blipFill>
        <p:spPr>
          <a:xfrm>
            <a:off x="3809880" y="35812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9" descr=""/>
          <p:cNvPicPr/>
          <p:nvPr/>
        </p:nvPicPr>
        <p:blipFill>
          <a:blip r:embed="rId5"/>
          <a:srcRect l="0" t="20006" r="0" b="13327"/>
          <a:stretch/>
        </p:blipFill>
        <p:spPr>
          <a:xfrm>
            <a:off x="2286000" y="30481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0" descr=""/>
          <p:cNvPicPr/>
          <p:nvPr/>
        </p:nvPicPr>
        <p:blipFill>
          <a:blip r:embed="rId6"/>
          <a:srcRect l="0" t="20006" r="0" b="13327"/>
          <a:stretch/>
        </p:blipFill>
        <p:spPr>
          <a:xfrm>
            <a:off x="762120" y="358128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1"/>
          <p:cNvSpPr/>
          <p:nvPr/>
        </p:nvSpPr>
        <p:spPr>
          <a:xfrm>
            <a:off x="3735720" y="1905120"/>
            <a:ext cx="21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Бу нәрсә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72"/>
          <p:cNvSpPr/>
          <p:nvPr/>
        </p:nvSpPr>
        <p:spPr>
          <a:xfrm>
            <a:off x="3567240" y="568332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ffff"/>
                </a:solidFill>
                <a:latin typeface="Times New Roman"/>
              </a:rPr>
              <a:t>Ничә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хметшина</cp:lastModifiedBy>
  <dcterms:modified xsi:type="dcterms:W3CDTF">2011-11-15T05:39:4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