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A6D-2347-401B-92BB-7B500038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DED-7C01-4BF2-B6B9-813484A9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729-41CC-4C11-AB75-2075B6C3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79B-5964-416A-860C-ABDC1711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083-A875-42A2-8FEA-CA92412C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B94-222E-44D9-B6A2-17B410EA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57C-3AE6-4DF9-AB33-D5051AAB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6F6-4F79-44CE-B849-0D3571C7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3BD-9AD4-4B91-BA71-303A4C4C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909-5654-4A83-B236-D2864275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B34-B53F-4179-9F05-E1E6DCEE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E51-E290-41C4-A003-E02C7D55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77DF-9544-4638-B77E-066674BEBA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одительское собр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200" y="1714680"/>
            <a:ext cx="8715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«Семья – глаза в глаза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ТЕМА: 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заимоотношение в семье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286240" y="471492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л. руководитель 2 «А»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ронкова Г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643040" y="2858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МОУ «Средняя общеобразовательная школа №1 г.Михайлов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357720" y="62866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1-2012 учебный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LOGO050"/>
          <p:cNvPicPr/>
          <p:nvPr/>
        </p:nvPicPr>
        <p:blipFill>
          <a:blip r:embed="rId1"/>
          <a:stretch/>
        </p:blipFill>
        <p:spPr>
          <a:xfrm>
            <a:off x="5715000" y="2857680"/>
            <a:ext cx="3246480" cy="3219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ка родител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9680" y="1213920"/>
            <a:ext cx="84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азговаривайте с ребенко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оворите о своей любв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оверяйте ребенк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е сравнивайте ни с ке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братитесь к специалист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азвивайте чувство собственного достоинств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пользуйте свой авторит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Решение родительского собр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взаимооткрытыми друг к друг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ть психологическую поддерж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относиться к друг друг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000"/>
                            </p:stCondLst>
                            <p:childTnLst>
                              <p:par>
                                <p:cTn id="4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гра – тест «Какой вы родител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раз тебе повторят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ветуй мне пожалуй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наю, чтобы я без тебя делал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кого ты такой уродился?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у тебя замечательные друзь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на кого ты похож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твое врем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оя опора и помощница(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что за друзья у тебя?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ты только думаешь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ты у меня умниц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ы как считаешь, сынок (доченька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сех дети как дети, а т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080" indent="-44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ты у меня сообразительный (ая)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500"/>
                            </p:stCondLst>
                            <p:childTnLst>
                              <p:par>
                                <p:cTn id="4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500"/>
                            </p:stCondLst>
                            <p:childTnLst>
                              <p:par>
                                <p:cTn id="4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7500"/>
                            </p:stCondLst>
                            <p:childTnLst>
                              <p:par>
                                <p:cTn id="4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500"/>
                            </p:stCondLst>
                            <p:childTnLst>
                              <p:par>
                                <p:cTn id="4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9500"/>
                            </p:stCondLst>
                            <p:childTnLst>
                              <p:par>
                                <p:cTn id="5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8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80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люч к тес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004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–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–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–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500"/>
                            </p:stCondLst>
                            <p:childTnLst>
                              <p:par>
                                <p:cTn id="5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500"/>
                            </p:stCondLst>
                            <p:childTnLst>
                              <p:par>
                                <p:cTn id="5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0"/>
                            </p:stCondLst>
                            <p:childTnLst>
                              <p:par>
                                <p:cTn id="5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5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7000"/>
                            </p:stCondLst>
                            <p:childTnLst>
                              <p:par>
                                <p:cTn id="6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13880" y="428400"/>
            <a:ext cx="61153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ой, какой я е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 счастлив, что я зд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быть маленьки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ыть больш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быть толст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ыть худ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это неваж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какой я ес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 счастлив, что я зд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Облако"/>
          <p:cNvPicPr/>
          <p:nvPr/>
        </p:nvPicPr>
        <p:blipFill>
          <a:blip r:embed="rId1"/>
          <a:stretch/>
        </p:blipFill>
        <p:spPr>
          <a:xfrm>
            <a:off x="5072040" y="37861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дители должны любить своего   ребенка, таким, какой он есть, а не таким, каким он мог быть»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715000" y="342900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онт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колыбель духовного рождения челове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часть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thumb_Img_404[1]"/>
          <p:cNvPicPr/>
          <p:nvPr/>
        </p:nvPicPr>
        <p:blipFill>
          <a:blip r:embed="rId1"/>
          <a:stretch/>
        </p:blipFill>
        <p:spPr>
          <a:xfrm>
            <a:off x="5786280" y="3500280"/>
            <a:ext cx="3029040" cy="29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, которые мешают обща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позиции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м душевное состояние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й жизненный опы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ологическая поддержк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оцесс, в котором взрослый сосредотачивается на позитивных сторонах и преимуществах ребен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ать ребенка – значит верить в н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2161739[1]"/>
          <p:cNvPicPr/>
          <p:nvPr/>
        </p:nvPicPr>
        <p:blipFill>
          <a:blip r:embed="rId1"/>
          <a:stretch/>
        </p:blipFill>
        <p:spPr>
          <a:xfrm>
            <a:off x="2928960" y="2143080"/>
            <a:ext cx="3389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75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«Дети никогда не поступают так, как мы велим поступать; они поступают, как поступаем мы сам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6286680" y="4357800"/>
            <a:ext cx="185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Л.Х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76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Правила общен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основ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уваж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5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95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60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75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40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58:26Z</dcterms:created>
  <dc:creator>Людмила</dc:creator>
  <dc:description/>
  <dc:language>en-US</dc:language>
  <cp:lastModifiedBy>Людмила</cp:lastModifiedBy>
  <dcterms:modified xsi:type="dcterms:W3CDTF">2011-10-25T14:11:08Z</dcterms:modified>
  <cp:revision>8</cp:revision>
  <dc:subject/>
  <dc:title>Родительское собрание</dc:title>
</cp:coreProperties>
</file>