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C16-B59E-4133-BC50-07C02DB1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DBA-5BD5-4B57-95AA-56839B3A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01CD-7A91-41AD-82FB-08E7950E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E80-D555-4577-881C-BF48137C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7255-2ECF-4680-8727-5F4C8340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610-EF79-4B6D-9020-30B90E70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80B-1E0E-4E35-BFF7-82C3ED5F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D5B-97EB-4FD3-A715-423421D8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1DF-9C02-4CDA-93FE-117C90A0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7602-41B1-4FCF-A77F-78166B6A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9B0-F47C-471B-ADAC-D12197C1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CDE-392B-4032-B7C1-347FCF14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3DB2-4087-42D4-89A3-BE4419D629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одительское собр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4200" y="1714680"/>
            <a:ext cx="8715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«Семья – глаза в глаза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ТЕМА: </a:t>
            </a: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Взаимоотношение в семье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286240" y="471492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л. руководитель 2 «А»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ронкова Г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643040" y="28584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МОУ «Средняя общеобразовательная школа №1 г.Михайлов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357720" y="62866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11-2012 учебный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LOGO050"/>
          <p:cNvPicPr/>
          <p:nvPr/>
        </p:nvPicPr>
        <p:blipFill>
          <a:blip r:embed="rId1"/>
          <a:stretch/>
        </p:blipFill>
        <p:spPr>
          <a:xfrm>
            <a:off x="5715000" y="2857680"/>
            <a:ext cx="3246480" cy="3219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ка родител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99680" y="1213920"/>
            <a:ext cx="8472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разговаривайте с ребенко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говорите о своей любв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доверяйте ребенку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е сравнивайте ни с ке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братитесь к специалисту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развивайте чувство собственного достоинств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спользуйте свой авторит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Решение родительского собр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взаимооткрытыми друг к друг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ть психологическую поддерж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 относиться к друг друг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6000"/>
                            </p:stCondLst>
                            <p:childTnLst>
                              <p:par>
                                <p:cTn id="4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гра – тест «Какой вы родител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 тебе повторять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ветуй мне пожалуй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наю, чтобы я без тебя делал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кого ты такой уродился?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у тебя замечательные друзь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на кого ты похож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 твое врем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оя опора и помощница(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что за друзья у тебя?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ты только думаешь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ты у меня умниц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ы как считаешь, сынок (доченька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сех дети как дети, а т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ты у меня сообразительный (ая)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500"/>
                            </p:stCondLst>
                            <p:childTnLst>
                              <p:par>
                                <p:cTn id="4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500"/>
                            </p:stCondLst>
                            <p:childTnLst>
                              <p:par>
                                <p:cTn id="4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500"/>
                            </p:stCondLst>
                            <p:childTnLst>
                              <p:par>
                                <p:cTn id="4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8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7500"/>
                            </p:stCondLst>
                            <p:childTnLst>
                              <p:par>
                                <p:cTn id="4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8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500"/>
                            </p:stCondLst>
                            <p:childTnLst>
                              <p:par>
                                <p:cTn id="4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8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9500"/>
                            </p:stCondLst>
                            <p:childTnLst>
                              <p:par>
                                <p:cTn id="5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8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8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800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800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люч к тес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004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–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–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–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–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–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–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–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500"/>
                            </p:stCondLst>
                            <p:childTnLst>
                              <p:par>
                                <p:cTn id="5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4000"/>
                            </p:stCondLst>
                            <p:childTnLst>
                              <p:par>
                                <p:cTn id="5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4500"/>
                            </p:stCondLst>
                            <p:childTnLst>
                              <p:par>
                                <p:cTn id="5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0"/>
                            </p:stCondLst>
                            <p:childTnLst>
                              <p:par>
                                <p:cTn id="5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500"/>
                            </p:stCondLst>
                            <p:childTnLst>
                              <p:par>
                                <p:cTn id="5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6500"/>
                            </p:stCondLst>
                            <p:childTnLst>
                              <p:par>
                                <p:cTn id="6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7000"/>
                            </p:stCondLst>
                            <p:childTnLst>
                              <p:par>
                                <p:cTn id="6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13880" y="428400"/>
            <a:ext cx="61153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ой, какой я е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я счастлив, что я зд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быть маленьки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быть больш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быть толст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быть худ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это неваж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, какой я ес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я счастлив, что я зд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Облако"/>
          <p:cNvPicPr/>
          <p:nvPr/>
        </p:nvPicPr>
        <p:blipFill>
          <a:blip r:embed="rId1"/>
          <a:stretch/>
        </p:blipFill>
        <p:spPr>
          <a:xfrm>
            <a:off x="5072040" y="378612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дители должны любить своего   ребенка, таким, какой он есть, а не таким, каким он мог быть»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715000" y="342900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онт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я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колыбель духовного рождения челове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счасть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thumb_Img_404[1]"/>
          <p:cNvPicPr/>
          <p:nvPr/>
        </p:nvPicPr>
        <p:blipFill>
          <a:blip r:embed="rId1"/>
          <a:stretch/>
        </p:blipFill>
        <p:spPr>
          <a:xfrm>
            <a:off x="5786280" y="3500280"/>
            <a:ext cx="3029040" cy="29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, которые мешают общать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е позиции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читываем душевное состояние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й жизненный опы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сихологическая поддержка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оцесс, в котором взрослый сосредотачивается на позитивных сторонах и преимуществах ребен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ать ребенка – значит верить в н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2161739[1]"/>
          <p:cNvPicPr/>
          <p:nvPr/>
        </p:nvPicPr>
        <p:blipFill>
          <a:blip r:embed="rId1"/>
          <a:stretch/>
        </p:blipFill>
        <p:spPr>
          <a:xfrm>
            <a:off x="2928960" y="2143080"/>
            <a:ext cx="3389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75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«Дети никогда не поступают так, как мы велим поступать; они поступают, как поступаем мы сам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6286680" y="4357800"/>
            <a:ext cx="185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Л.Х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876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Правила общен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к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основени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уваж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150"/>
                            </p:stCondLst>
                            <p:childTnLst>
                              <p:par>
                                <p:cTn id="2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950"/>
                            </p:stCondLst>
                            <p:childTnLst>
                              <p:par>
                                <p:cTn id="2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600"/>
                            </p:stCondLst>
                            <p:childTnLst>
                              <p:par>
                                <p:cTn id="2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750"/>
                            </p:stCondLst>
                            <p:childTnLst>
                              <p:par>
                                <p:cTn id="2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400"/>
                            </p:stCondLst>
                            <p:childTnLst>
                              <p:par>
                                <p:cTn id="2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58:26Z</dcterms:created>
  <dc:creator>Людмила</dc:creator>
  <dc:description/>
  <dc:language>en-US</dc:language>
  <cp:lastModifiedBy>Людмила</cp:lastModifiedBy>
  <dcterms:modified xsi:type="dcterms:W3CDTF">2011-10-25T14:11:08Z</dcterms:modified>
  <cp:revision>8</cp:revision>
  <dc:subject/>
  <dc:title>Родительское собрание</dc:title>
</cp:coreProperties>
</file>