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422-FD9B-4A3A-BC33-0EE1283D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197-8B37-41D1-9832-124AE6C8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B1C-7281-40A9-AE7B-3C65DB10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6B3-B070-4495-8F35-152E7FFD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501D-D140-48A6-A06B-30D4EC69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1DB9-CDBB-4D07-B0B7-DF295B0B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911-6ECE-4C1A-BCE3-CDE24855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A4B6-23C9-4B38-856A-7947641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FB7E-C89A-47B4-9FEA-31522A3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5FA4-123A-4527-A37B-F3FDB609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5B5-0D26-4D04-B45E-02FE0B5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0DD-0849-40AA-AEE5-EF98E9A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E394-771E-4A99-9A2C-DB257505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7BE3-EA21-4DB7-8EDE-0CA41B28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003-4A6D-4AA7-8A0B-2711CE4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121D-8314-4D7E-934D-B189CEBB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684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820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9560" y="3925800"/>
            <a:ext cx="264852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1DB6-311A-4C33-9A34-A5B5D62A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C19-15D2-4AA4-97C7-81DBD28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6B9-5479-4F26-BE2D-266C234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13A-3B52-4594-B8A3-C1C1B567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440" y="-487800"/>
            <a:ext cx="824076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B60-93A0-4CBB-966C-5A3A04EE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5B3-3C1E-4916-B6BD-C07C132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92580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13F-DCFC-4932-BAB2-46B460C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25800"/>
            <a:ext cx="8226360" cy="21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C64-8F40-4CC1-BFA1-4E05D54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560" y="-289440"/>
            <a:ext cx="3105360" cy="7142400"/>
            <a:chOff x="-304560" y="-289440"/>
            <a:chExt cx="3105360" cy="7142400"/>
          </a:xfrm>
        </p:grpSpPr>
        <p:sp>
          <p:nvSpPr>
            <p:cNvPr id="1" name=""/>
            <p:cNvSpPr/>
            <p:nvPr/>
          </p:nvSpPr>
          <p:spPr>
            <a:xfrm>
              <a:off x="-87480" y="5132160"/>
              <a:ext cx="768600" cy="1305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82800" y="3740760"/>
              <a:ext cx="1147320" cy="898560"/>
              <a:chOff x="-82800" y="3740760"/>
              <a:chExt cx="1147320" cy="89856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15120" y="3763440"/>
                <a:ext cx="281520" cy="338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191880" y="4221360"/>
                <a:ext cx="484560" cy="281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654480" y="4031640"/>
                <a:ext cx="506160" cy="1407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400" y="2641320"/>
              <a:ext cx="1157040" cy="125064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304560" y="2267640"/>
              <a:ext cx="3105360" cy="3425400"/>
              <a:chOff x="-304560" y="2267640"/>
              <a:chExt cx="3105360" cy="342540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24200" y="2374920"/>
                <a:ext cx="1081080" cy="10976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190440" y="2532960"/>
                <a:ext cx="902880" cy="111744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92160" y="2764080"/>
                <a:ext cx="317880" cy="5637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677520" y="3575880"/>
                <a:ext cx="291240" cy="33444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589680" y="3642840"/>
                <a:ext cx="69120" cy="19584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502200" y="3239640"/>
                <a:ext cx="2298600" cy="2453400"/>
                <a:chOff x="502200" y="3239640"/>
                <a:chExt cx="2298600" cy="24534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965880" y="3172320"/>
                  <a:ext cx="721800" cy="148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28840" y="4636080"/>
                  <a:ext cx="163800" cy="6087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534760" y="5488200"/>
                  <a:ext cx="299880" cy="9900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307800" y="6090840"/>
              <a:ext cx="950040" cy="759960"/>
              <a:chOff x="307800" y="6090840"/>
              <a:chExt cx="950040" cy="75996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5880" y="6090120"/>
                <a:ext cx="23436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659160" y="6499440"/>
                <a:ext cx="40392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207360" y="6375960"/>
                <a:ext cx="423000" cy="123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99440" y="1595160"/>
              <a:ext cx="876600" cy="777600"/>
              <a:chOff x="199440" y="1595160"/>
              <a:chExt cx="876600" cy="77760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3720" y="1563840"/>
                <a:ext cx="228960" cy="3294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617760" y="2022480"/>
                <a:ext cx="395640" cy="273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85320" y="2077920"/>
                <a:ext cx="414000" cy="136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192240"/>
              <a:ext cx="558720" cy="593640"/>
              <a:chOff x="1252440" y="-192240"/>
              <a:chExt cx="558720" cy="59364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192240"/>
                <a:ext cx="174600" cy="221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840" y="-85680"/>
                <a:ext cx="301320" cy="181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309960"/>
                <a:ext cx="314280" cy="9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1920" y="-39240"/>
              <a:ext cx="1138320" cy="122976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7160" y="5361840"/>
              <a:ext cx="212760" cy="26892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56760" y="5669640"/>
              <a:ext cx="104760" cy="655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480" y="6514920"/>
              <a:ext cx="189000" cy="3380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83080"/>
              <a:ext cx="209520" cy="2059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52480"/>
              <a:ext cx="72720" cy="13680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093280"/>
              <a:ext cx="807840" cy="12038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43920" y="473400"/>
              <a:ext cx="558720" cy="3960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17520" y="1038600"/>
              <a:ext cx="270000" cy="1836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60040" y="272520"/>
              <a:ext cx="236520" cy="2577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800" y="981360"/>
              <a:ext cx="98640" cy="154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79120" y="564120"/>
              <a:ext cx="114120" cy="62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253520"/>
              <a:ext cx="583920" cy="105768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4040" y="-58320"/>
              <a:ext cx="1311120" cy="111564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-487800"/>
            <a:ext cx="824076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962BB-2466-4CA2-BD84-0EF4C7555606}" type="slidenum">
              <a:rPr b="0" lang="ru-RU" sz="18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60120" y="-853560"/>
            <a:ext cx="9769680" cy="7708320"/>
            <a:chOff x="-60120" y="-853560"/>
            <a:chExt cx="9769680" cy="7708320"/>
          </a:xfrm>
        </p:grpSpPr>
        <p:grpSp>
          <p:nvGrpSpPr>
            <p:cNvPr id="85" name=""/>
            <p:cNvGrpSpPr/>
            <p:nvPr/>
          </p:nvGrpSpPr>
          <p:grpSpPr>
            <a:xfrm>
              <a:off x="4225320" y="-853560"/>
              <a:ext cx="5484240" cy="7093080"/>
              <a:chOff x="4225320" y="-853560"/>
              <a:chExt cx="5484240" cy="709308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5888160" y="-339120"/>
                <a:ext cx="3475440" cy="2634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7266240" y="1466640"/>
                <a:ext cx="1487160" cy="93924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6289200" y="2172960"/>
                <a:ext cx="718920" cy="4384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6988320" y="24840"/>
                <a:ext cx="635760" cy="6120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6828120" y="2230560"/>
                <a:ext cx="264240" cy="367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6801840" y="660600"/>
                <a:ext cx="307440" cy="1555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4824360" y="2548800"/>
                <a:ext cx="857520" cy="36540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-7920" y="3109680"/>
              <a:ext cx="511920" cy="102744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7520" y="2000160"/>
              <a:ext cx="2004120" cy="242892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9600" y="4143240"/>
              <a:ext cx="1274040" cy="72576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391760" y="4535280"/>
              <a:ext cx="561600" cy="7333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28680" y="4730760"/>
              <a:ext cx="134640" cy="4316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7600" y="5195880"/>
              <a:ext cx="1762200" cy="165888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25360" y="767880"/>
              <a:ext cx="1542600" cy="1561680"/>
              <a:chOff x="3825360" y="767880"/>
              <a:chExt cx="1542600" cy="1561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510800" y="773280"/>
                <a:ext cx="334080" cy="6289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701960" y="1416600"/>
                <a:ext cx="573840" cy="51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3808080" y="1877760"/>
                <a:ext cx="599760" cy="263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582880" y="259920"/>
              <a:ext cx="1058040" cy="1005840"/>
              <a:chOff x="5582880" y="259920"/>
              <a:chExt cx="1058040" cy="100584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714280" y="874080"/>
                <a:ext cx="211680" cy="426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654520" y="487800"/>
                <a:ext cx="367560" cy="3528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293160" y="382680"/>
                <a:ext cx="385560" cy="177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02160" y="5019480"/>
              <a:ext cx="1303920" cy="1305000"/>
              <a:chOff x="902160" y="5019480"/>
              <a:chExt cx="1303920" cy="130500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1785960" y="5414400"/>
                <a:ext cx="290520" cy="52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185480" y="5784480"/>
                <a:ext cx="495720" cy="4330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914760" y="5155560"/>
                <a:ext cx="518400" cy="2192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2360" y="297360"/>
              <a:ext cx="2052720" cy="1405800"/>
              <a:chOff x="72360" y="297360"/>
              <a:chExt cx="2052720" cy="14058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29640" y="1063440"/>
                <a:ext cx="434160" cy="642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852480" y="474480"/>
                <a:ext cx="747360" cy="534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51840" y="1111320"/>
                <a:ext cx="780840" cy="27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267320" y="3539160"/>
              <a:ext cx="1370880" cy="1838880"/>
              <a:chOff x="7267320" y="3539160"/>
              <a:chExt cx="1370880" cy="18388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329240" y="4735800"/>
                <a:ext cx="420480" cy="602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867800" y="4391280"/>
                <a:ext cx="723240" cy="500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507440" y="3620520"/>
                <a:ext cx="754200" cy="254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00800" y="3240"/>
              <a:ext cx="1370880" cy="140328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404160" y="164520"/>
              <a:ext cx="1081440" cy="9381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48560" y="1364040"/>
              <a:ext cx="521640" cy="4381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508560" y="1284840"/>
              <a:ext cx="192240" cy="3668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6400" y="0"/>
              <a:ext cx="194040" cy="18900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29000" y="1965960"/>
              <a:ext cx="623520" cy="364824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39600" y="2933640"/>
              <a:ext cx="54000" cy="20628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C58EDB-CCA2-4F2E-8148-935DECA0DBC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560" y="596880"/>
            <a:ext cx="618948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5_&#1084;&#1072;&#1103;" TargetMode="External"/><Relationship Id="rId2" Type="http://schemas.openxmlformats.org/officeDocument/2006/relationships/hyperlink" Target="http://ru.wikipedia.org/wiki/1891_&#1075;&#1086;&#1076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&#1041;&#1091;&#1083;&#1075;&#1072;&#1082;&#1086;&#1074;,_&#1040;&#1092;&#1072;&#1085;&#1072;&#1089;&#1080;&#1081;_&#1048;&#1074;&#1072;&#1085;&#1086;&#1074;&#1080;&#1095;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09_&#1075;&#1086;&#1076;" TargetMode="External"/><Relationship Id="rId2" Type="http://schemas.openxmlformats.org/officeDocument/2006/relationships/hyperlink" Target="http://ru.wikipedia.org/wiki/&#1050;&#1080;&#1077;&#1074;&#1089;&#1082;&#1080;&#1081;_&#1084;&#1077;&#1076;&#1080;&#1094;&#1080;&#1085;&#1089;&#1082;&#1080;&#1081;_&#1080;&#1085;&#1089;&#1090;&#1080;&#1090;&#1091;&#1090;" TargetMode="External"/><Relationship Id="rId3" Type="http://schemas.openxmlformats.org/officeDocument/2006/relationships/hyperlink" Target="http://ru.wikipedia.org/wiki/&#1050;&#1080;&#1077;&#1074;&#1089;&#1082;&#1080;&#1081;_&#1085;&#1072;&#1094;&#1080;&#1086;&#1085;&#1072;&#1083;&#1100;&#1085;&#1099;&#1081;_&#1091;&#1085;&#1080;&#1074;&#1077;&#1088;&#1089;&#1080;&#1090;&#1077;&#1090;_&#1080;&#1084;&#1077;&#1085;&#1080;_&#1058;&#1072;&#1088;&#1072;&#1089;&#1072;_&#1064;&#1077;&#1074;&#1095;&#1077;&#1085;&#1082;&#1086;" TargetMode="External"/><Relationship Id="rId4" Type="http://schemas.openxmlformats.org/officeDocument/2006/relationships/hyperlink" Target="http://ru.wikipedia.org/wiki/1916_&#1075;&#1086;&#1076;" TargetMode="External"/><Relationship Id="rId5" Type="http://schemas.openxmlformats.org/officeDocument/2006/relationships/hyperlink" Target="http://ru.wikipedia.org/wiki/&#1051;&#1077;&#1082;&#1072;&#1088;&#1100;" TargetMode="External"/><Relationship Id="rId6" Type="http://schemas.openxmlformats.org/officeDocument/2006/relationships/hyperlink" Target="http://ru.wikipedia.org/wiki/1913_&#1075;&#1086;&#1076;" TargetMode="External"/><Relationship Id="rId7" Type="http://schemas.openxmlformats.org/officeDocument/2006/relationships/hyperlink" Target="http://ru.wikipedia.org/w/index.php?title=&#1051;&#1072;&#1087;&#1087;&#1072;,_&#1058;&#1072;&#1090;&#1100;&#1103;&#1085;&#1072;_&#1053;&#1080;&#1082;&#1086;&#1083;&#1072;&#1077;&#1074;&#1085;&#1072;&amp;action=edit&amp;redlink=1" TargetMode="External"/><Relationship Id="rId8" Type="http://schemas.openxmlformats.org/officeDocument/2006/relationships/hyperlink" Target="http://ru.wikipedia.org/w/index.php?title=&#1051;&#1072;&#1087;&#1087;&#1072;,_&#1058;&#1072;&#1090;&#1100;&#1103;&#1085;&#1072;_&#1053;&#1080;&#1082;&#1086;&#1083;&#1072;&#1077;&#1074;&#1085;&#1072;&amp;action=edit&amp;redlink=1" TargetMode="External"/><Relationship Id="rId9" Type="http://schemas.openxmlformats.org/officeDocument/2006/relationships/hyperlink" Target="http://ru.wikipedia.org/wiki/&#1055;&#1077;&#1088;&#1074;&#1072;&#1103;_&#1084;&#1080;&#1088;&#1086;&#1074;&#1072;&#1103;_&#1074;&#1086;&#1081;&#1085;&#1072;" TargetMode="External"/><Relationship Id="rId10" Type="http://schemas.openxmlformats.org/officeDocument/2006/relationships/hyperlink" Target="http://ru.wikipedia.org/wiki/&#1053;&#1080;&#1082;&#1086;&#1083;&#1100;&#1089;&#1082;&#1086;&#1077;_(&#1057;&#1099;&#1095;&#1105;&#1074;&#1089;&#1082;&#1080;&#1081;_&#1088;&#1072;&#1081;&#1086;&#1085;_&#1057;&#1084;&#1086;&#1083;&#1077;&#1085;&#1089;&#1082;&#1086;&#1081;_&#1086;&#1073;&#1083;&#1072;&#1089;&#1090;&#1080;)" TargetMode="External"/><Relationship Id="rId11" Type="http://schemas.openxmlformats.org/officeDocument/2006/relationships/hyperlink" Target="http://ru.wikipedia.org/wiki/&#1042;&#1103;&#1079;&#1100;&#1084;&#1072;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23_&#1075;&#1086;&#1076;" TargetMode="External"/><Relationship Id="rId2" Type="http://schemas.openxmlformats.org/officeDocument/2006/relationships/hyperlink" Target="http://ru.wikipedia.org/wiki/&#1057;&#1086;&#1102;&#1079;_&#1087;&#1080;&#1089;&#1072;&#1090;&#1077;&#1083;&#1077;&#1081;" TargetMode="External"/><Relationship Id="rId3" Type="http://schemas.openxmlformats.org/officeDocument/2006/relationships/hyperlink" Target="http://ru.wikipedia.org/wiki/1926_&#1075;&#1086;&#1076;" TargetMode="External"/><Relationship Id="rId4" Type="http://schemas.openxmlformats.org/officeDocument/2006/relationships/hyperlink" Target="http://ru.wikipedia.org/wiki/&#1052;&#1061;&#1040;&#1058;" TargetMode="External"/><Relationship Id="rId5" Type="http://schemas.openxmlformats.org/officeDocument/2006/relationships/hyperlink" Target="http://ru.wikipedia.org/wiki/&#1057;&#1090;&#1072;&#1083;&#1080;&#1085;,_&#1048;&#1086;&#1089;&#1080;&#1092;_&#1042;&#1080;&#1089;&#1089;&#1072;&#1088;&#1080;&#1086;&#1085;&#1086;&#1074;&#1080;&#1095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0_&#1075;&#1086;&#1076;" TargetMode="External"/><Relationship Id="rId2" Type="http://schemas.openxmlformats.org/officeDocument/2006/relationships/hyperlink" Target="http://ru.wikipedia.org/wiki/1940_&#1075;&#1086;&#1076;" TargetMode="External"/><Relationship Id="rId3" Type="http://schemas.openxmlformats.org/officeDocument/2006/relationships/hyperlink" Target="http://ru.wikipedia.org/wiki/10_&#1084;&#1072;&#1088;&#1090;&#1072;" TargetMode="External"/><Relationship Id="rId4" Type="http://schemas.openxmlformats.org/officeDocument/2006/relationships/hyperlink" Target="http://ru.wikipedia.org/wiki/11_&#1084;&#1072;&#1088;&#1090;&#1072;" TargetMode="External"/><Relationship Id="rId5" Type="http://schemas.openxmlformats.org/officeDocument/2006/relationships/hyperlink" Target="http://ru.wikipedia.org/wiki/&#1052;&#1077;&#1088;&#1082;&#1091;&#1088;&#1086;&#1074;,_&#1057;&#1077;&#1088;&#1075;&#1077;&#1081;_&#1044;&#1084;&#1080;&#1090;&#1088;&#1080;&#1077;&#1074;&#1080;&#1095;" TargetMode="External"/><Relationship Id="rId6" Type="http://schemas.openxmlformats.org/officeDocument/2006/relationships/hyperlink" Target="http://ru.wikipedia.org/wiki/&#1055;&#1086;&#1089;&#1084;&#1077;&#1088;&#1090;&#1085;&#1072;&#1103;_&#1084;&#1072;&#1089;&#1082;&#1072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6;&#1074;&#1086;&#1076;&#1077;&#1074;&#1080;&#1095;&#1100;&#1077;_&#1082;&#1083;&#1072;&#1076;&#1073;&#1080;&#1097;&#1077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6160" cy="5297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-144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               </a:t>
            </a: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Михаил Афанасьевич Булгаков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6276960"/>
            <a:ext cx="921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резентация подготовлена Казанцевой Н.Н., учителем МОУ «Рус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кополянская СОШ №2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фессор Преображенск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Филипп Филиппович – известная и уважаемая личность. Это истинный представитель интеллигенции. Он умён, талантлив, предан своему делу. К Преображенскому, работающему дома, на дорогостоящие операции люди записываются в очередь. Автор так говорит об одном из рабочих дней Преображенского: «Двери открывались, сменялись лица, гремели инструменты в шкафу, и Филипп Филиппович работал не покладая рук»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1096920"/>
            <a:ext cx="7201080" cy="5761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309680" y="208080"/>
            <a:ext cx="46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рофессор Преображенски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тношение к Шариков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ждый день Филипп Филиппович с ужасом наблюдал, во что превращается его «детище» - смесь пса Шарика и пьяницы Клима Чугункина. И все больше Преображенский убеждался, что гены пролетариата губительны и что его «гомункул» социально опасен, несет угрозу, прежде всего, самому профессору: «…старый осел Преображенский нарвался на этой операции как третьекурсник»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696360" cy="5156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43120" y="395280"/>
            <a:ext cx="32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Шарико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лиграф Полиграфович Шарик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лиграф Полиграфович не так прост, как может показаться сначала. Он нигде не упускает своей выгоды. Шариков устроился не простым рабочим, а заведующим подотделом по очищению города от бездомных кошек. Интересно его мнение о военной службе: «Я воевать не пойду никуда!.. На учёт возьмусь, а воевать – шиш с маслом»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499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85120" y="20016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Иван Арнольдович Борментал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4720" cy="555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47840" y="2700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93080" cy="5338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66760" y="18900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итата из тек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им Петрович Чугункин, характеристика которого дается предельно коротко: “Профессия — игра на балалайке по трактирам. Маленького роста, плохо сложен. Печень расширена (алкоголь). Причина смерти — удар ножом в сердце в пивной”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ихаил Булгаков родился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3 (15) м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1891 год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Киев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семье профессора Киевской духовной академи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Афанасия Ивановича Булгаков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(1859—1907) и его жены Варвары Михайловны (в девичестве — Покровской) (1869—1922). В семье было семеро детей: Михаил (1891—1940), Вера (1892—1972), Надежда (1893—1971), Варвара (1895—1954), Николай (1898—1966), Иван (1900—1969) и Елена (1902—1954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75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27000"/>
            <a:ext cx="83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Кадр из фильма «Собачье сердце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2160" cy="52214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85960" y="20160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99"/>
                </a:solidFill>
                <a:latin typeface="Arial"/>
              </a:rPr>
              <a:t>Швондер и другие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вондер и друг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Представители новой власти во главе со Швондером громят все старое, занося грязь не только в парадные, но и в общество, так как не имеют никакого представления о морали и нравственности. Их единственную мораль хорошо выражает Шариков – «все поделить». Что поделить? Деньги, имущество, дома, семьи, жизнь?.. Булгаков настаивает на том, что пролетариат начал преобразование не с того конц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Татуировки персонажей «Собачьего сердц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16280" cy="619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067280" y="419040"/>
            <a:ext cx="462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повести профессору Преображенскому удается вернуть вс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 свои места: Шариков снова становится обычной собако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Удастся ли нам когда-нибудь исправить все те ошибк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результаты которых мы до сих пор испытываем на себе?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09 году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ихаил Булгаков закончил киевскую Первую гимназию и поступил н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медицинский факульте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Киевского университет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31 октябр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1916 го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— получил диплом об утверждении «в степени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лекар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 отличием со всеми правами и преимуществами, законами Российской Империи сей степени присвоенными».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</a:rPr>
              <a:t>[1]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1913 году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. Булгаков вступает в свой первый брак —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Татьяной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Лапп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1892—1982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3000" indent="-333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ле начал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Первой мировой войн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М. Булгаков несколько месяцев работает врачом в прифронтовой зоне. Затем направлен на работу в сел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Никольско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моленской губернии, после этого работал врачом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Вязь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23 году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. Булгаков вступает во Всероссийский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Союз писателе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октября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1926 год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о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МХАТ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с большим успехом идёт пьеса «Дни Турбиных». Её постановка разрешена на год, но позже несколько раз продлевалась, поскольку пьеса понравилась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И. Сталину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</a:rPr>
              <a:t>[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1930 год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роизведения М. Булгакова перестают печататься, пьесы изымаются из репертуара театро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400" indent="-3294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 февраля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1940 год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рузья и родные постоянно дежурят у постели М. Булгакова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10 март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1940 года Михаил Афанасьевич Булгаков скончалс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11 марта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остоялась гражданская панихида в здании Союза Советских писателей. Перед панихидой московский скульптор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С. Д. Меркуров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снимает с лица М. Булгакова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посмертную маск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ография писа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. Булгаков похоронен 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Новодевичьем кладбищ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На его могиле, по ходатайству его жены Е. С. Булгаковой, был установлен камень, прозванный «голгофой», который ранее лежал на могиле Н. В. Гогол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амень с могилы Гого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удьба повести «Собачье сердц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весть была написана в 1925 году, но автор так и не дождался ее публикации: рукопись была изъята во время обыска в 1926 году. Читатель увидел ее лишь в 1985 году. </a:t>
            </a:r>
            <a:br>
              <a:rPr sz="3200"/>
            </a:b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2505240" cy="3809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10622" r="0" b="0"/>
          <a:stretch/>
        </p:blipFill>
        <p:spPr>
          <a:xfrm>
            <a:off x="6372360" y="0"/>
            <a:ext cx="2447640" cy="3405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12560" t="7540" r="11829" b="13087"/>
          <a:stretch/>
        </p:blipFill>
        <p:spPr>
          <a:xfrm>
            <a:off x="3059280" y="0"/>
            <a:ext cx="2911320" cy="407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84360" y="3048120"/>
            <a:ext cx="378144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rcRect l="15889" t="7881" r="15889" b="4649"/>
          <a:stretch/>
        </p:blipFill>
        <p:spPr>
          <a:xfrm>
            <a:off x="4716360" y="3213000"/>
            <a:ext cx="35719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03:56:07Z</dcterms:created>
  <dc:creator>учебный</dc:creator>
  <dc:description/>
  <dc:language>en-US</dc:language>
  <cp:lastModifiedBy>учебный</cp:lastModifiedBy>
  <dcterms:modified xsi:type="dcterms:W3CDTF">2010-09-18T02:01:20Z</dcterms:modified>
  <cp:revision>25</cp:revision>
  <dc:subject/>
  <dc:title>Слайд 1</dc:title>
</cp:coreProperties>
</file>