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31EF-B38A-4AF7-B013-B02DE13D3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440" y="-487800"/>
            <a:ext cx="824076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925800"/>
            <a:ext cx="8226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2FED-73B5-49AB-B638-C11BC45BB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440" y="-487800"/>
            <a:ext cx="824076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925800"/>
            <a:ext cx="4014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2440" y="3925800"/>
            <a:ext cx="4014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FD4B-482E-4D68-B19D-5CC6AD745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440" y="-487800"/>
            <a:ext cx="824076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925800"/>
            <a:ext cx="264852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8200" y="3925800"/>
            <a:ext cx="264852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19560" y="3925800"/>
            <a:ext cx="264852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F10D-8DCC-4D07-BAD8-2AF55F177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B111A-F3E1-40CD-8E33-40F7D6742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440" y="-487800"/>
            <a:ext cx="824076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60EEE-0ABD-4F56-B357-60E50E679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440" y="-487800"/>
            <a:ext cx="824076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CFC38-0E14-4B18-BD48-B1C97F239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440" y="-487800"/>
            <a:ext cx="824076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91E6D-C693-4F55-B546-248D7C818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440" y="-487800"/>
            <a:ext cx="824076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7591E-4E43-4088-A93F-A6D25F3D2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440" y="-487800"/>
            <a:ext cx="8240760" cy="88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504D7-2D3D-4CE3-A822-80E6B22A5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440" y="-487800"/>
            <a:ext cx="824076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3925800"/>
            <a:ext cx="4014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0B289-7F77-4F46-A3D2-2B7332EF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440" y="-487800"/>
            <a:ext cx="824076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8EA9-CAC5-4383-BEAA-C7134E1BB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440" y="-487800"/>
            <a:ext cx="824076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2440" y="3925800"/>
            <a:ext cx="4014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ABBC3-AE55-47DC-A9AA-839BEDA3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440" y="-487800"/>
            <a:ext cx="824076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6840" y="3925800"/>
            <a:ext cx="8226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C36B1-F194-4157-9AE2-F7E1C64F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440" y="-487800"/>
            <a:ext cx="824076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6840" y="3925800"/>
            <a:ext cx="8226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3B251-4733-4904-9D7C-E9B41752B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440" y="-487800"/>
            <a:ext cx="824076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6840" y="3925800"/>
            <a:ext cx="4014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2440" y="3925800"/>
            <a:ext cx="4014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15FAB-8A89-4ACA-9315-46F77D13C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440" y="-487800"/>
            <a:ext cx="824076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6840" y="3925800"/>
            <a:ext cx="264852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8200" y="3925800"/>
            <a:ext cx="264852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19560" y="3925800"/>
            <a:ext cx="264852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DA8F7-D374-41B6-9C36-A93442EB4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440" y="-487800"/>
            <a:ext cx="824076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622E-8B83-458E-94BB-F4EF328D0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440" y="-487800"/>
            <a:ext cx="824076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5865-CED7-4894-947D-0C5F3C9FA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440" y="-487800"/>
            <a:ext cx="824076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37AA-1610-414E-AC9F-FEA27A50A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440" y="-487800"/>
            <a:ext cx="8240760" cy="88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DFA1-4D1E-4D0E-ADBB-6498D617A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440" y="-487800"/>
            <a:ext cx="824076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925800"/>
            <a:ext cx="4014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906E-03A0-4D0A-89C2-9BA117E3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440" y="-487800"/>
            <a:ext cx="824076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2440" y="3925800"/>
            <a:ext cx="4014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2540-5B6A-4C86-8882-EDA4FADD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440" y="-487800"/>
            <a:ext cx="824076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925800"/>
            <a:ext cx="8226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35D0-DCE8-4558-B468-8929FDE5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04560" y="-289440"/>
            <a:ext cx="3105360" cy="7142400"/>
            <a:chOff x="-304560" y="-289440"/>
            <a:chExt cx="3105360" cy="7142400"/>
          </a:xfrm>
        </p:grpSpPr>
        <p:sp>
          <p:nvSpPr>
            <p:cNvPr id="1" name=""/>
            <p:cNvSpPr/>
            <p:nvPr/>
          </p:nvSpPr>
          <p:spPr>
            <a:xfrm>
              <a:off x="-87480" y="5132160"/>
              <a:ext cx="768600" cy="13053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-82800" y="3740760"/>
              <a:ext cx="1147320" cy="898560"/>
              <a:chOff x="-82800" y="3740760"/>
              <a:chExt cx="1147320" cy="898560"/>
            </a:xfrm>
          </p:grpSpPr>
          <p:sp>
            <p:nvSpPr>
              <p:cNvPr id="3" name=""/>
              <p:cNvSpPr/>
              <p:nvPr/>
            </p:nvSpPr>
            <p:spPr>
              <a:xfrm flipH="1" rot="14940000">
                <a:off x="-15120" y="3763440"/>
                <a:ext cx="281520" cy="3387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40000">
                <a:off x="191880" y="4221360"/>
                <a:ext cx="484560" cy="281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40000">
                <a:off x="654480" y="4031640"/>
                <a:ext cx="506160" cy="1407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68400" y="2641320"/>
              <a:ext cx="1157040" cy="12506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304560" y="2267640"/>
              <a:ext cx="3105360" cy="3425400"/>
              <a:chOff x="-304560" y="2267640"/>
              <a:chExt cx="3105360" cy="3425400"/>
            </a:xfrm>
          </p:grpSpPr>
          <p:sp>
            <p:nvSpPr>
              <p:cNvPr id="8" name=""/>
              <p:cNvSpPr/>
              <p:nvPr/>
            </p:nvSpPr>
            <p:spPr>
              <a:xfrm flipH="1" rot="780000">
                <a:off x="124200" y="2374920"/>
                <a:ext cx="1081080" cy="109764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0000">
                <a:off x="-190440" y="2532960"/>
                <a:ext cx="902880" cy="111744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0000">
                <a:off x="92160" y="2764080"/>
                <a:ext cx="317880" cy="5637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0000">
                <a:off x="677520" y="3575880"/>
                <a:ext cx="291240" cy="33444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0000">
                <a:off x="589680" y="3642840"/>
                <a:ext cx="69120" cy="19584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502200" y="3239640"/>
                <a:ext cx="2298600" cy="2453400"/>
                <a:chOff x="502200" y="3239640"/>
                <a:chExt cx="2298600" cy="245340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40000">
                  <a:off x="965880" y="3172320"/>
                  <a:ext cx="721800" cy="14857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40000">
                  <a:off x="2328840" y="4636080"/>
                  <a:ext cx="163800" cy="6087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40000">
                  <a:off x="2534760" y="5488200"/>
                  <a:ext cx="299880" cy="9900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307800" y="6090840"/>
              <a:ext cx="950040" cy="759960"/>
              <a:chOff x="307800" y="6090840"/>
              <a:chExt cx="950040" cy="759960"/>
            </a:xfrm>
          </p:grpSpPr>
          <p:sp>
            <p:nvSpPr>
              <p:cNvPr id="18" name=""/>
              <p:cNvSpPr/>
              <p:nvPr/>
            </p:nvSpPr>
            <p:spPr>
              <a:xfrm rot="6240000">
                <a:off x="965880" y="6090120"/>
                <a:ext cx="234360" cy="301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0000">
                <a:off x="659160" y="6499440"/>
                <a:ext cx="403920" cy="249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0000">
                <a:off x="207360" y="6375960"/>
                <a:ext cx="423000" cy="1238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199440" y="1595160"/>
              <a:ext cx="876600" cy="777600"/>
              <a:chOff x="199440" y="1595160"/>
              <a:chExt cx="876600" cy="777600"/>
            </a:xfrm>
          </p:grpSpPr>
          <p:sp>
            <p:nvSpPr>
              <p:cNvPr id="22" name=""/>
              <p:cNvSpPr/>
              <p:nvPr/>
            </p:nvSpPr>
            <p:spPr>
              <a:xfrm rot="4980000">
                <a:off x="783720" y="1563840"/>
                <a:ext cx="228960" cy="3294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4980000">
                <a:off x="617760" y="2022480"/>
                <a:ext cx="395640" cy="273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4980000">
                <a:off x="85320" y="2077920"/>
                <a:ext cx="414000" cy="136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52440" y="-192240"/>
              <a:ext cx="558720" cy="593640"/>
              <a:chOff x="1252440" y="-192240"/>
              <a:chExt cx="558720" cy="593640"/>
            </a:xfrm>
          </p:grpSpPr>
          <p:sp>
            <p:nvSpPr>
              <p:cNvPr id="26" name=""/>
              <p:cNvSpPr/>
              <p:nvPr/>
            </p:nvSpPr>
            <p:spPr>
              <a:xfrm>
                <a:off x="1252440" y="-192240"/>
                <a:ext cx="174600" cy="2217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09840" y="-85680"/>
                <a:ext cx="301320" cy="1818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47920" y="309960"/>
                <a:ext cx="314280" cy="914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61920" y="-39240"/>
              <a:ext cx="1138320" cy="122976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40000">
              <a:off x="317160" y="5361840"/>
              <a:ext cx="212760" cy="26892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40000">
              <a:off x="356760" y="5669640"/>
              <a:ext cx="104760" cy="655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-60480" y="6514920"/>
              <a:ext cx="189000" cy="3380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-79200" y="6283080"/>
              <a:ext cx="209520" cy="2059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-79200" y="6252480"/>
              <a:ext cx="7272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-79200" y="5093280"/>
              <a:ext cx="807840" cy="120384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60000">
              <a:off x="-43920" y="473400"/>
              <a:ext cx="558720" cy="3960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60000">
              <a:off x="317520" y="1038600"/>
              <a:ext cx="270000" cy="1836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60000">
              <a:off x="860040" y="272520"/>
              <a:ext cx="236520" cy="257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60000">
              <a:off x="307800" y="981360"/>
              <a:ext cx="98640" cy="15444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60000">
              <a:off x="879120" y="564120"/>
              <a:ext cx="114120" cy="626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-79200" y="1253520"/>
              <a:ext cx="583920" cy="105768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60000">
              <a:off x="14040" y="-58320"/>
              <a:ext cx="1311120" cy="111564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440" y="-487800"/>
            <a:ext cx="824076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04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3480"/>
            <a:ext cx="21304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4B9CAA-9FD4-464F-BBC2-5B598FB90004}" type="slidenum">
              <a:rPr b="0" lang="ru-RU" sz="18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60120" y="-853560"/>
            <a:ext cx="9769680" cy="7708320"/>
            <a:chOff x="-60120" y="-853560"/>
            <a:chExt cx="9769680" cy="7708320"/>
          </a:xfrm>
        </p:grpSpPr>
        <p:grpSp>
          <p:nvGrpSpPr>
            <p:cNvPr id="85" name=""/>
            <p:cNvGrpSpPr/>
            <p:nvPr/>
          </p:nvGrpSpPr>
          <p:grpSpPr>
            <a:xfrm>
              <a:off x="4225320" y="-853560"/>
              <a:ext cx="5484240" cy="7093080"/>
              <a:chOff x="4225320" y="-853560"/>
              <a:chExt cx="5484240" cy="7093080"/>
            </a:xfrm>
          </p:grpSpPr>
          <p:sp>
            <p:nvSpPr>
              <p:cNvPr id="86" name=""/>
              <p:cNvSpPr/>
              <p:nvPr/>
            </p:nvSpPr>
            <p:spPr>
              <a:xfrm flipV="1" rot="12000000">
                <a:off x="5888160" y="-339120"/>
                <a:ext cx="3475440" cy="263484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2000000">
                <a:off x="7266240" y="1466640"/>
                <a:ext cx="1487160" cy="93924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2000000">
                <a:off x="6289200" y="2172960"/>
                <a:ext cx="718920" cy="4384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2000000">
                <a:off x="6988320" y="24840"/>
                <a:ext cx="635760" cy="6120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2000000">
                <a:off x="6828120" y="2230560"/>
                <a:ext cx="264240" cy="367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2000000">
                <a:off x="6801840" y="660600"/>
                <a:ext cx="307440" cy="1555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2000000">
                <a:off x="4824360" y="2548800"/>
                <a:ext cx="857520" cy="36540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60000">
              <a:off x="-7920" y="3109680"/>
              <a:ext cx="511920" cy="102744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7520" y="2000160"/>
              <a:ext cx="2004120" cy="242892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-39600" y="4143240"/>
              <a:ext cx="1274040" cy="72576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60000">
              <a:off x="1391760" y="4535280"/>
              <a:ext cx="561600" cy="73332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60000">
              <a:off x="1228680" y="4730760"/>
              <a:ext cx="134640" cy="43164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57600" y="5195880"/>
              <a:ext cx="1762200" cy="165888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3825360" y="767880"/>
              <a:ext cx="1542600" cy="1561680"/>
              <a:chOff x="3825360" y="767880"/>
              <a:chExt cx="1542600" cy="1561680"/>
            </a:xfrm>
          </p:grpSpPr>
          <p:sp>
            <p:nvSpPr>
              <p:cNvPr id="100" name=""/>
              <p:cNvSpPr/>
              <p:nvPr/>
            </p:nvSpPr>
            <p:spPr>
              <a:xfrm rot="3240000">
                <a:off x="4510800" y="773280"/>
                <a:ext cx="334080" cy="6289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40000">
                <a:off x="4701960" y="1416600"/>
                <a:ext cx="573840" cy="519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40000">
                <a:off x="3808080" y="1877760"/>
                <a:ext cx="599760" cy="2635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582880" y="259920"/>
              <a:ext cx="1058040" cy="1005840"/>
              <a:chOff x="5582880" y="259920"/>
              <a:chExt cx="1058040" cy="1005840"/>
            </a:xfrm>
          </p:grpSpPr>
          <p:sp>
            <p:nvSpPr>
              <p:cNvPr id="104" name=""/>
              <p:cNvSpPr/>
              <p:nvPr/>
            </p:nvSpPr>
            <p:spPr>
              <a:xfrm rot="14880000">
                <a:off x="5714280" y="874080"/>
                <a:ext cx="211680" cy="426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880000">
                <a:off x="5654520" y="487800"/>
                <a:ext cx="367560" cy="3528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880000">
                <a:off x="6293160" y="382680"/>
                <a:ext cx="385560" cy="1778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02160" y="5019480"/>
              <a:ext cx="1303920" cy="1305000"/>
              <a:chOff x="902160" y="5019480"/>
              <a:chExt cx="1303920" cy="1305000"/>
            </a:xfrm>
          </p:grpSpPr>
          <p:sp>
            <p:nvSpPr>
              <p:cNvPr id="108" name=""/>
              <p:cNvSpPr/>
              <p:nvPr/>
            </p:nvSpPr>
            <p:spPr>
              <a:xfrm rot="8520000">
                <a:off x="1785960" y="5414400"/>
                <a:ext cx="290520" cy="5205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0000">
                <a:off x="1185480" y="5784480"/>
                <a:ext cx="495720" cy="4330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0000">
                <a:off x="914760" y="5155560"/>
                <a:ext cx="518400" cy="2192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72360" y="297360"/>
              <a:ext cx="2052720" cy="1405800"/>
              <a:chOff x="72360" y="297360"/>
              <a:chExt cx="2052720" cy="1405800"/>
            </a:xfrm>
          </p:grpSpPr>
          <p:sp>
            <p:nvSpPr>
              <p:cNvPr id="112" name=""/>
              <p:cNvSpPr/>
              <p:nvPr/>
            </p:nvSpPr>
            <p:spPr>
              <a:xfrm flipH="1" rot="4140000">
                <a:off x="1529640" y="1063440"/>
                <a:ext cx="434160" cy="642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40000">
                <a:off x="852480" y="474480"/>
                <a:ext cx="747360" cy="534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40000">
                <a:off x="-51840" y="1111320"/>
                <a:ext cx="780840" cy="2714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267320" y="3539160"/>
              <a:ext cx="1370880" cy="1838880"/>
              <a:chOff x="7267320" y="3539160"/>
              <a:chExt cx="1370880" cy="1838880"/>
            </a:xfrm>
          </p:grpSpPr>
          <p:sp>
            <p:nvSpPr>
              <p:cNvPr id="116" name=""/>
              <p:cNvSpPr/>
              <p:nvPr/>
            </p:nvSpPr>
            <p:spPr>
              <a:xfrm flipH="1" rot="10020000">
                <a:off x="7329240" y="4735800"/>
                <a:ext cx="420480" cy="602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20000">
                <a:off x="7867800" y="4391280"/>
                <a:ext cx="723240" cy="500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20000">
                <a:off x="7507440" y="3620520"/>
                <a:ext cx="754200" cy="2545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00800" y="3240"/>
              <a:ext cx="1370880" cy="140328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40000">
              <a:off x="3404160" y="164520"/>
              <a:ext cx="1081440" cy="93816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40000">
              <a:off x="3148560" y="1364040"/>
              <a:ext cx="521640" cy="4381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40000">
              <a:off x="3508560" y="1284840"/>
              <a:ext cx="192240" cy="36684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16400" y="0"/>
              <a:ext cx="194040" cy="18900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40000">
              <a:off x="3429000" y="1965960"/>
              <a:ext cx="623520" cy="364824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-39600" y="2933640"/>
              <a:ext cx="54000" cy="20628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3080" y="6243480"/>
            <a:ext cx="21304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EE004DF-F818-4FA1-B31A-1A059E7E88A0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560" y="596880"/>
            <a:ext cx="6189480" cy="35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5_&#1084;&#1072;&#1103;" TargetMode="External"/><Relationship Id="rId2" Type="http://schemas.openxmlformats.org/officeDocument/2006/relationships/hyperlink" Target="http://ru.wikipedia.org/wiki/1891_&#1075;&#1086;&#1076;" TargetMode="External"/><Relationship Id="rId3" Type="http://schemas.openxmlformats.org/officeDocument/2006/relationships/hyperlink" Target="http://ru.wikipedia.org/wiki/&#1050;&#1080;&#1077;&#1074;" TargetMode="External"/><Relationship Id="rId4" Type="http://schemas.openxmlformats.org/officeDocument/2006/relationships/hyperlink" Target="http://ru.wikipedia.org/wiki/&#1041;&#1091;&#1083;&#1075;&#1072;&#1082;&#1086;&#1074;,_&#1040;&#1092;&#1072;&#1085;&#1072;&#1089;&#1080;&#1081;_&#1048;&#1074;&#1072;&#1085;&#1086;&#1074;&#1080;&#1095;" TargetMode="External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909_&#1075;&#1086;&#1076;" TargetMode="External"/><Relationship Id="rId2" Type="http://schemas.openxmlformats.org/officeDocument/2006/relationships/hyperlink" Target="http://ru.wikipedia.org/wiki/&#1050;&#1080;&#1077;&#1074;&#1089;&#1082;&#1080;&#1081;_&#1084;&#1077;&#1076;&#1080;&#1094;&#1080;&#1085;&#1089;&#1082;&#1080;&#1081;_&#1080;&#1085;&#1089;&#1090;&#1080;&#1090;&#1091;&#1090;" TargetMode="External"/><Relationship Id="rId3" Type="http://schemas.openxmlformats.org/officeDocument/2006/relationships/hyperlink" Target="http://ru.wikipedia.org/wiki/&#1050;&#1080;&#1077;&#1074;&#1089;&#1082;&#1080;&#1081;_&#1085;&#1072;&#1094;&#1080;&#1086;&#1085;&#1072;&#1083;&#1100;&#1085;&#1099;&#1081;_&#1091;&#1085;&#1080;&#1074;&#1077;&#1088;&#1089;&#1080;&#1090;&#1077;&#1090;_&#1080;&#1084;&#1077;&#1085;&#1080;_&#1058;&#1072;&#1088;&#1072;&#1089;&#1072;_&#1064;&#1077;&#1074;&#1095;&#1077;&#1085;&#1082;&#1086;" TargetMode="External"/><Relationship Id="rId4" Type="http://schemas.openxmlformats.org/officeDocument/2006/relationships/hyperlink" Target="http://ru.wikipedia.org/wiki/1916_&#1075;&#1086;&#1076;" TargetMode="External"/><Relationship Id="rId5" Type="http://schemas.openxmlformats.org/officeDocument/2006/relationships/hyperlink" Target="http://ru.wikipedia.org/wiki/&#1051;&#1077;&#1082;&#1072;&#1088;&#1100;" TargetMode="External"/><Relationship Id="rId6" Type="http://schemas.openxmlformats.org/officeDocument/2006/relationships/hyperlink" Target="http://ru.wikipedia.org/wiki/1913_&#1075;&#1086;&#1076;" TargetMode="External"/><Relationship Id="rId7" Type="http://schemas.openxmlformats.org/officeDocument/2006/relationships/hyperlink" Target="http://ru.wikipedia.org/w/index.php?title=&#1051;&#1072;&#1087;&#1087;&#1072;,_&#1058;&#1072;&#1090;&#1100;&#1103;&#1085;&#1072;_&#1053;&#1080;&#1082;&#1086;&#1083;&#1072;&#1077;&#1074;&#1085;&#1072;&amp;action=edit&amp;redlink=1" TargetMode="External"/><Relationship Id="rId8" Type="http://schemas.openxmlformats.org/officeDocument/2006/relationships/hyperlink" Target="http://ru.wikipedia.org/w/index.php?title=&#1051;&#1072;&#1087;&#1087;&#1072;,_&#1058;&#1072;&#1090;&#1100;&#1103;&#1085;&#1072;_&#1053;&#1080;&#1082;&#1086;&#1083;&#1072;&#1077;&#1074;&#1085;&#1072;&amp;action=edit&amp;redlink=1" TargetMode="External"/><Relationship Id="rId9" Type="http://schemas.openxmlformats.org/officeDocument/2006/relationships/hyperlink" Target="http://ru.wikipedia.org/wiki/&#1055;&#1077;&#1088;&#1074;&#1072;&#1103;_&#1084;&#1080;&#1088;&#1086;&#1074;&#1072;&#1103;_&#1074;&#1086;&#1081;&#1085;&#1072;" TargetMode="External"/><Relationship Id="rId10" Type="http://schemas.openxmlformats.org/officeDocument/2006/relationships/hyperlink" Target="http://ru.wikipedia.org/wiki/&#1053;&#1080;&#1082;&#1086;&#1083;&#1100;&#1089;&#1082;&#1086;&#1077;_(&#1057;&#1099;&#1095;&#1105;&#1074;&#1089;&#1082;&#1080;&#1081;_&#1088;&#1072;&#1081;&#1086;&#1085;_&#1057;&#1084;&#1086;&#1083;&#1077;&#1085;&#1089;&#1082;&#1086;&#1081;_&#1086;&#1073;&#1083;&#1072;&#1089;&#1090;&#1080;)" TargetMode="External"/><Relationship Id="rId11" Type="http://schemas.openxmlformats.org/officeDocument/2006/relationships/hyperlink" Target="http://ru.wikipedia.org/wiki/&#1042;&#1103;&#1079;&#1100;&#1084;&#1072;" TargetMode="External"/><Relationship Id="rId1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923_&#1075;&#1086;&#1076;" TargetMode="External"/><Relationship Id="rId2" Type="http://schemas.openxmlformats.org/officeDocument/2006/relationships/hyperlink" Target="http://ru.wikipedia.org/wiki/&#1057;&#1086;&#1102;&#1079;_&#1087;&#1080;&#1089;&#1072;&#1090;&#1077;&#1083;&#1077;&#1081;" TargetMode="External"/><Relationship Id="rId3" Type="http://schemas.openxmlformats.org/officeDocument/2006/relationships/hyperlink" Target="http://ru.wikipedia.org/wiki/1926_&#1075;&#1086;&#1076;" TargetMode="External"/><Relationship Id="rId4" Type="http://schemas.openxmlformats.org/officeDocument/2006/relationships/hyperlink" Target="http://ru.wikipedia.org/wiki/&#1052;&#1061;&#1040;&#1058;" TargetMode="External"/><Relationship Id="rId5" Type="http://schemas.openxmlformats.org/officeDocument/2006/relationships/hyperlink" Target="http://ru.wikipedia.org/wiki/&#1057;&#1090;&#1072;&#1083;&#1080;&#1085;,_&#1048;&#1086;&#1089;&#1080;&#1092;_&#1042;&#1080;&#1089;&#1089;&#1072;&#1088;&#1080;&#1086;&#1085;&#1086;&#1074;&#1080;&#1095;" TargetMode="Externa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930_&#1075;&#1086;&#1076;" TargetMode="External"/><Relationship Id="rId2" Type="http://schemas.openxmlformats.org/officeDocument/2006/relationships/hyperlink" Target="http://ru.wikipedia.org/wiki/1940_&#1075;&#1086;&#1076;" TargetMode="External"/><Relationship Id="rId3" Type="http://schemas.openxmlformats.org/officeDocument/2006/relationships/hyperlink" Target="http://ru.wikipedia.org/wiki/10_&#1084;&#1072;&#1088;&#1090;&#1072;" TargetMode="External"/><Relationship Id="rId4" Type="http://schemas.openxmlformats.org/officeDocument/2006/relationships/hyperlink" Target="http://ru.wikipedia.org/wiki/11_&#1084;&#1072;&#1088;&#1090;&#1072;" TargetMode="External"/><Relationship Id="rId5" Type="http://schemas.openxmlformats.org/officeDocument/2006/relationships/hyperlink" Target="http://ru.wikipedia.org/wiki/&#1052;&#1077;&#1088;&#1082;&#1091;&#1088;&#1086;&#1074;,_&#1057;&#1077;&#1088;&#1075;&#1077;&#1081;_&#1044;&#1084;&#1080;&#1090;&#1088;&#1080;&#1077;&#1074;&#1080;&#1095;" TargetMode="External"/><Relationship Id="rId6" Type="http://schemas.openxmlformats.org/officeDocument/2006/relationships/hyperlink" Target="http://ru.wikipedia.org/wiki/&#1055;&#1086;&#1089;&#1084;&#1077;&#1088;&#1090;&#1085;&#1072;&#1103;_&#1084;&#1072;&#1089;&#1082;&#1072;" TargetMode="External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3;&#1086;&#1074;&#1086;&#1076;&#1077;&#1074;&#1080;&#1095;&#1100;&#1077;_&#1082;&#1083;&#1072;&#1076;&#1073;&#1080;&#1097;&#1077;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8066160" cy="52974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0" y="-14400"/>
            <a:ext cx="93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                      </a:t>
            </a:r>
            <a:r>
              <a:rPr b="0" lang="ru-RU" sz="3600" spc="-1" strike="noStrike">
                <a:solidFill>
                  <a:srgbClr val="006699"/>
                </a:solidFill>
                <a:latin typeface="Arial"/>
              </a:rPr>
              <a:t>Михаил Афанасьевич Булгаков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42920" y="6276960"/>
            <a:ext cx="921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Презентация подготовлена Казанцевой Н.Н., учителем МОУ «Рус-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скополянская СОШ №2»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Профессор Преображенский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Филипп Филиппович – известная и уважаемая личность. Это истинный представитель интеллигенции. Он умён, талантлив, предан своему делу. К Преображенскому, работающему дома, на дорогостоящие операции люди записываются в очередь. Автор так говорит об одном из рабочих дней Преображенского: «Двери открывались, сменялись лица, гремели инструменты в шкафу, и Филипп Филиппович работал не покладая рук». </a:t>
            </a:r>
            <a:br>
              <a:rPr sz="2400"/>
            </a:b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116000" y="1096920"/>
            <a:ext cx="7201080" cy="57610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309680" y="208080"/>
            <a:ext cx="46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                    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Профессор Преображенский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Отношение к Шарикову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Каждый день Филипп Филиппович с ужасом наблюдал, во что превращается его «детище» - смесь пса Шарика и пьяницы Клима Чугункина. И все больше Преображенский убеждался, что гены пролетариата губительны и что его «гомункул» социально опасен, несет угрозу, прежде всего, самому профессору: «…старый осел Преображенский нарвался на этой операции как третьекурсник». </a:t>
            </a:r>
            <a:br>
              <a:rPr sz="2800"/>
            </a:b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187280" y="1484280"/>
            <a:ext cx="6696360" cy="51562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743120" y="395280"/>
            <a:ext cx="325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006699"/>
                </a:solidFill>
                <a:latin typeface="Arial"/>
              </a:rPr>
              <a:t>Шариков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Полиграф Полиграфович Шариков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олиграф Полиграфович не так прост, как может показаться сначала. Он нигде не упускает своей выгоды. Шариков устроился не простым рабочим, а заведующим подотделом по очищению города от бездомных кошек. Интересно его мнение о военной службе: «Я воевать не пойду никуда!.. На учёт возьмусь, а воевать – шиш с маслом». </a:t>
            </a:r>
            <a:br>
              <a:rPr sz="2800"/>
            </a:b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7272360" cy="54990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185120" y="200160"/>
            <a:ext cx="58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       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Иван Арнольдович Борменталь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8064720" cy="55530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347840" y="27000"/>
            <a:ext cx="710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Кадр из фильма «Собачье сердце»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7993080" cy="53388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166760" y="189000"/>
            <a:ext cx="761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Кадр из фильма «Собачье сердце»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Цитата из текст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лим Петрович Чугункин, характеристика которого дается предельно коротко: “Профессия — игра на балалайке по трактирам. Маленького роста, плохо сложен. Печень расширена (алкоголь). Причина смерти — удар ножом в сердце в пивной”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Кадр из фильма «Собачье сердце»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6193080" cy="46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Биография писател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Михаил Булгаков родился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3 (15) мая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1891 года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в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Киеве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в семье профессора Киевской духовной академии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Афанасия Ивановича Булгакова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(1859—1907) и его жены Варвары Михайловны (в девичестве — Покровской) (1869—1922). В семье было семеро детей: Михаил (1891—1940), Вера (1892—1972), Надежда (1893—1971), Варвара (1895—1954), Николай (1898—1966), Иван (1900—1969) и Елена (1902—1954)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84360" y="907920"/>
            <a:ext cx="7920000" cy="52754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755640" y="27000"/>
            <a:ext cx="838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Кадр из фильма «Собачье сердце»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82160" cy="52214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885960" y="201600"/>
            <a:ext cx="551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Arial"/>
              </a:rPr>
              <a:t>         </a:t>
            </a:r>
            <a:r>
              <a:rPr b="1" lang="ru-RU" sz="3600" spc="-1" strike="noStrike">
                <a:solidFill>
                  <a:srgbClr val="006699"/>
                </a:solidFill>
                <a:latin typeface="Arial"/>
              </a:rPr>
              <a:t>Швондер и другие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Швондер и други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Представители новой власти во главе со Швондером громят все старое, занося грязь не только в парадные, но и в общество, так как не имеют никакого представления о морали и нравственности. Их единственную мораль хорошо выражает Шариков – «все поделить». Что поделить? Деньги, имущество, дома, семьи, жизнь?.. Булгаков настаивает на том, что пролетариат начал преобразование не с того конца. </a:t>
            </a:r>
            <a:br>
              <a:rPr sz="2400"/>
            </a:b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Татуировки персонажей «Собачьего сердца»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8209080" cy="452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3716280" cy="61912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067280" y="419040"/>
            <a:ext cx="4628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В повести профессору Преображенскому удается вернуть все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на свои места: Шариков снова становится обычной собакой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Удастся ли нам когда-нибудь исправить все те ошибки,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результаты которых мы до сих пор испытываем на себе?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Биография писател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3000" indent="-333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 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1909 году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Михаил Булгаков закончил киевскую Первую гимназию и поступил на 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медицинский факультет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Киевского университета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. 31 октября 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1916 года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 — получил диплом об утверждении «в степени 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Verdana"/>
                <a:hlinkClick r:id="rId5"/>
              </a:rPr>
              <a:t>лекаря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с отличием со всеми правами и преимуществами, законами Российской Империи сей степени присвоенными».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Verdana"/>
              </a:rPr>
              <a:t>[1]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3000" indent="-333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 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1913 году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М. Булгаков вступает в свой первый брак — с 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Verdana"/>
                <a:hlinkClick r:id="rId7"/>
              </a:rPr>
              <a:t>Татьяной 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Verdana"/>
                <a:hlinkClick r:id="rId8"/>
              </a:rPr>
              <a:t>Лаппа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(1892—1982)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3000" indent="-333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осле начала 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Verdana"/>
                <a:hlinkClick r:id="rId9"/>
              </a:rPr>
              <a:t>Первой мировой войны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М. Булгаков несколько месяцев работает врачом в прифронтовой зоне. Затем направлен на работу в село 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Verdana"/>
                <a:hlinkClick r:id="rId10"/>
              </a:rPr>
              <a:t>Никольское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Смоленской губернии, после этого работал врачом в 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Verdana"/>
                <a:hlinkClick r:id="rId11"/>
              </a:rPr>
              <a:t>Вязьме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Биография писател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 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1923 году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М. Булгаков вступает во Всероссийский 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Союз писателей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 октября 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1926 года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во 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МХАТе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с большим успехом идёт пьеса «Дни Турбиных». Её постановка разрешена на год, но позже несколько раз продлевалась, поскольку пьеса понравилась 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Verdana"/>
                <a:hlinkClick r:id="rId5"/>
              </a:rPr>
              <a:t>И. Сталину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.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Verdana"/>
              </a:rPr>
              <a:t>[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Биография писател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29400" indent="-32940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К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1930 году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произведения М. Булгакова перестают печататься, пьесы изымаются из репертуара театров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400" indent="-32940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С февраля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1940 года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друзья и родные постоянно дежурят у постели М. Булгакова.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10 марта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1940 года Михаил Афанасьевич Булгаков скончался.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11 марта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состоялась гражданская панихида в здании Союза Советских писателей. Перед панихидой московский скульптор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Verdana"/>
                <a:hlinkClick r:id="rId5"/>
              </a:rPr>
              <a:t>С. Д. Меркуров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снимает с лица М. Булгакова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посмертную маску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Биография писател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М. Булгаков похоронен на 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Новодевичьем кладбище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. На его могиле, по ходатайству его жены Е. С. Булгаковой, был установлен камень, прозванный «голгофой», который ранее лежал на могиле Н. В. Гоголя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Камень с могилы Гогол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670572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Судьба повести «Собачье сердце»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Повесть была написана в 1925 году, но автор так и не дождался ее публикации: рукопись была изъята во время обыска в 1926 году. Читатель увидел ее лишь в 1985 году. </a:t>
            </a:r>
            <a:br>
              <a:rPr sz="3200"/>
            </a:b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2505240" cy="38098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rcRect l="0" t="10622" r="0" b="0"/>
          <a:stretch/>
        </p:blipFill>
        <p:spPr>
          <a:xfrm>
            <a:off x="6372360" y="0"/>
            <a:ext cx="2447640" cy="34052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rcRect l="12560" t="7540" r="11829" b="13087"/>
          <a:stretch/>
        </p:blipFill>
        <p:spPr>
          <a:xfrm>
            <a:off x="3059280" y="0"/>
            <a:ext cx="2911320" cy="40766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684360" y="3048120"/>
            <a:ext cx="3781440" cy="38098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5"/>
          <a:srcRect l="15889" t="7881" r="15889" b="4649"/>
          <a:stretch/>
        </p:blipFill>
        <p:spPr>
          <a:xfrm>
            <a:off x="4716360" y="3213000"/>
            <a:ext cx="3571920" cy="3456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1T03:56:07Z</dcterms:created>
  <dc:creator>учебный</dc:creator>
  <dc:description/>
  <dc:language>en-US</dc:language>
  <cp:lastModifiedBy>учебный</cp:lastModifiedBy>
  <dcterms:modified xsi:type="dcterms:W3CDTF">2010-09-18T02:01:20Z</dcterms:modified>
  <cp:revision>25</cp:revision>
  <dc:subject/>
  <dc:title>Слайд 1</dc:title>
</cp:coreProperties>
</file>