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89E-8605-4EF4-A222-5CD4E116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E1D-569D-48DD-9D2F-136491F2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D48-28D5-4930-8E4A-3D699407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5EB-1F41-4F03-A0BD-05405E88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6442-EAC3-48EB-9AD6-A734E68C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CD30-4A72-4D29-BAE5-10201611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A274-80D3-44CF-B514-72E50591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2E2F-229A-44A7-9A73-8C9355E0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5C21-0918-4840-8E82-221D29BA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55B0-F24C-4112-A0F8-8C7DC08A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C3BD-F48F-443B-AC1D-57A0D2A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D82-75D6-4F41-B7B1-416DACB5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70A6-8FE7-4307-9DA6-A0D1DD0C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795B-D251-4121-A77A-34783BCE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865F-3B38-4D94-8BF8-C2B7FF03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22A2-57EE-4087-B5E6-906B3B34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1229-B5A4-4C44-B813-8ABDD80B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E98-858F-4671-9F1B-EF01B9E9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C2C-79BA-4E7E-811E-B268E244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5FD-F4D3-40A8-BB9D-47279EBF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9AD-14EF-42D1-B4F0-28E622CD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497-B030-4A8A-A70F-F43B4A9A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719-5BB9-4271-9B95-A81304CD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A05-2351-4F85-8A03-9E449CE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4F6F-AB4D-4E18-BEEF-67C14CBEF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C276-A42E-40DB-941D-EDF159F9F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678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 Bookman Demi"/>
                <a:ea typeface="Times New Roman"/>
              </a:rPr>
              <a:t>Тема</a:t>
            </a:r>
            <a:r>
              <a:rPr b="0" lang="en-US" sz="2400" spc="-1" strike="noStrike">
                <a:solidFill>
                  <a:srgbClr val="000000"/>
                </a:solidFill>
                <a:latin typeface="ITC Bookman Dem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ITC Bookman Demi"/>
                <a:ea typeface="Times New Roman"/>
              </a:rPr>
              <a:t> Индивидуальные средства защиты и порядок пользования и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бные воп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743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значение и классификация средств защ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429000"/>
            <a:ext cx="701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значение, состав комплекта и подготовка к пользованию общевойскового фильтрующего противогаза и респиратора. Порядок выполнения нормативов по ОМП № 1,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5181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значение, состав комплекта и подготовка к пользованию общевойскового защитного комплек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значение и классификация средств защиты.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З) предназначены для сохранения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ности личного состава и обеспечения выполнения боевой задачи в условиях применения противником оружия массового поражения (ОМП), а также в условиях воздействия поражающих сред, возникающих при эксплуатации и повреждениях вооружения и военной техни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19160" y="32763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ства   индивидуальной   защиты   органов   дых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 глаз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 кож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1760" y="26319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8954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 подразделяю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3434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572000"/>
            <a:ext cx="29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нципу защитного действ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4952880"/>
            <a:ext cx="2438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трующ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ирующи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значению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95288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щевойсковы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циальны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Назначение, состав комплекта общевойскового фильтрующего противогаза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7652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войсковые фильтрующие противогаз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ы для защиты органов дыхания, лица и глаз от 0В, РП, Б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971800"/>
            <a:ext cx="723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плект противогаза входя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ка и не запотевающие пленки, а также, в зависимости от типа противогаза, могут входить мембраны переговорного устройства, трикотажный гидрофобный чехол, накладные утеплительные манжеты, водонепроницаемый мешок, крышка фляги с клапаном и бирка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36640" y="301320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057400"/>
            <a:ext cx="72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йств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ивогазов основан на изоляции органов дыхания от окружающей среды и очистке вдыхаемого воздуха от токсичных аэрозолей и паров в фильтрующе-поглощающей систем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419112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00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рхб4" descr=""/>
          <p:cNvPicPr/>
          <p:nvPr/>
        </p:nvPicPr>
        <p:blipFill>
          <a:blip r:embed="rId1"/>
          <a:srcRect l="0" t="0" r="0" b="11038"/>
          <a:stretch/>
        </p:blipFill>
        <p:spPr>
          <a:xfrm>
            <a:off x="1523880" y="4038480"/>
            <a:ext cx="1828800" cy="1930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0512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хб5" descr=""/>
          <p:cNvPicPr/>
          <p:nvPr/>
        </p:nvPicPr>
        <p:blipFill>
          <a:blip r:embed="rId2"/>
          <a:srcRect l="0" t="0" r="0" b="9813"/>
          <a:stretch/>
        </p:blipFill>
        <p:spPr>
          <a:xfrm>
            <a:off x="4495680" y="4038480"/>
            <a:ext cx="3353040" cy="1924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71600" y="6019920"/>
            <a:ext cx="62485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    Подбор масок противогазов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. 2.  Подбор масок противогазов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личине горизонтального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о величине вертикальног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вата головы.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обхвата головы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4419720"/>
            <a:ext cx="7620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и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с 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6. Противогаз ПМК-2:</a:t>
            </a:r>
            <a:br>
              <a:rPr sz="2400"/>
            </a:b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/ — маска МБ-1-80; </a:t>
            </a: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— фильтрующе-поглощающая коробка ЕО.1.15.01 в чехле; 3 —сумка; </a:t>
            </a: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4—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бирка;</a:t>
            </a:r>
            <a:br>
              <a:rPr sz="2000"/>
            </a:b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5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— водонепроницаемый мешок; в — незапотеваю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</a:rPr>
              <a:t>щ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ие пленки; 7 — накладные утеплительные манжеты; </a:t>
            </a:r>
            <a:r>
              <a:rPr b="1" i="1" lang="en-US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— крышка фляги о клапаном; </a:t>
            </a: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9 —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переходники; </a:t>
            </a: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0 —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ешетка; // — заглушка; </a:t>
            </a:r>
            <a:br>
              <a:rPr sz="2000"/>
            </a:b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2 —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вкладыш</a:t>
            </a:r>
            <a:br>
              <a:rPr sz="2000"/>
            </a:b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436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62320" y="417600"/>
            <a:ext cx="571500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221304"/>
                </a:solidFill>
                <a:latin typeface="Times New Roman"/>
              </a:rPr>
              <a:t>                              </a:t>
            </a:r>
            <a:r>
              <a:rPr b="1" lang="en-US" sz="1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Назначение, состав общевойскового защитного комплекта.</a:t>
            </a:r>
            <a:r>
              <a:rPr b="0" lang="en-US" sz="1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</a:t>
            </a:r>
            <a:br>
              <a:rPr sz="1400"/>
            </a:br>
            <a:r>
              <a:rPr b="0" lang="en-US" sz="1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Общевойсковой защитный комплект в сочетании с фильтрующими СИЗК предназначен для защиты кожных по­кровов личного состава от 0В, РП, БА, а также для снижения заражения обмундирования, снаряжения, обуви и индивидуального оружия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14400" y="17524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благовременном надевании ОЗК повышает уровень защищенности кожных покровов от СИЯВ, огне смесей и открытого пламени, а также ослабляет разрушающее действие термических факторов на расположенные под ним предметы экипировк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819520"/>
            <a:ext cx="9144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, устройство, маркировк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9544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4352760" cy="3048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562720" y="3581280"/>
            <a:ext cx="32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щитный плащ ОП-1М; 2 — затяжник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ля спинки; 4 и 7 рамки стальные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ля для большого пальца руки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за­крепки: 8—центральный шпенек: 9 — хлястик; 11—держатели плаща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—чехо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защитного плаща ОП-1М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л для защитных чулок и перчаток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щитные чулки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щитные перчатки БЛ-1М; 16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теплительные вкладыши к защитным перчаткам БЗ-1М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щитные перчатки БЗ-1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щевойсковой комплексный защитный костю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ЗК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стоит из куртки и брюк, защитного белья, головного убора, подшлемника, изготавливаемых из хлопчатобумажной ткани со специальными пропитками и имеет те же рост и размеры, что и летнее обмундировани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стюм защитный сетчатый (КЗС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стоит из куртки и брюк, изготовленных из сетчатой ткани с огнезащитной пропиткой. Костюм надевают поверх обычного или защитного обмундирования. Он изготавливается трех размеров: первый — для военнослужащих ростом до 166 см, второй — от 167 до 178 см, третий — от 179 см и выше.</a:t>
            </a:r>
            <a:br>
              <a:rPr sz="2000"/>
            </a:b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620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ис. З.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Поря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док 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использования общев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ойскового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защитного кома </a:t>
            </a:r>
            <a:r>
              <a:rPr b="1" i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а 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— в виде плаща в рука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ва,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в виде комбинезона; </a:t>
            </a:r>
            <a:r>
              <a:rPr b="1" i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— накидки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760" y="641520"/>
            <a:ext cx="3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4771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543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еспиратор Р-2</a:t>
            </a:r>
            <a:r>
              <a:rPr b="1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-    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предназначен для защиты органов дыхания от    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адиоактивной и грунтовой пыли.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Принцип действия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фильтрующего  респиратора основан на том, что органы дыхания  изолируются от окружающей среды  полумаской, а        вдыхаемый воздух очищается от аэрозолей в пакете фильтрующих материалов.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Респиратор не обогащает вдыхаемый воздух  кислородом, поэтому его можно применять в атмосфере, содержащей не менее 17% кислорода  (по объему). </a:t>
            </a:r>
            <a:r>
              <a:rPr b="1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еспиратор не защищает от токсичных  газов и паров.</a:t>
            </a:r>
            <a:br>
              <a:rPr sz="1600"/>
            </a:br>
            <a:r>
              <a:rPr b="1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Фильтрующая полумаска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респиратора Р-2  изготовлена из трех слоев материалов.  Внешний слой - пенополиуретан защитного  цвета, внутренний                        - воздухонепроницаемая     полиэтиленовая пленка с  вмонтированными двумя   клапанами вдоха.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         Между пенополуретаном и пленкой расположен слой фильтрующего материала из полимерных волокон.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Клапан выдоха размещен в передней части полумаски и закрыт снаружи экраном. Респиратор имеет носовой зажим, предназначенный для поджима полумаски к лицу в области переносицы.</a:t>
            </a:r>
            <a:br>
              <a:rPr sz="1600"/>
            </a:b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спиратор Р-2: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3" name="picture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5867280" cy="3381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34" name=""/>
          <p:cNvSpPr/>
          <p:nvPr/>
        </p:nvSpPr>
        <p:spPr>
          <a:xfrm>
            <a:off x="3124080" y="5181480"/>
            <a:ext cx="4572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ис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Респиратор Р-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675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 — носовой зажим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675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— оголовье с тесемка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675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 —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дыхательный клапан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675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 —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дыхательный клап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09:00:07Z</dcterms:created>
  <dc:creator>s1opk</dc:creator>
  <dc:description/>
  <dc:language>en-US</dc:language>
  <cp:lastModifiedBy>1 опк</cp:lastModifiedBy>
  <dcterms:modified xsi:type="dcterms:W3CDTF">2006-12-08T08:55:00Z</dcterms:modified>
  <cp:revision>11</cp:revision>
  <dc:subject/>
  <dc:title>   Назначение и классификация средств защиты. </dc:title>
</cp:coreProperties>
</file>