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68F-ED5C-4177-A590-FEB21759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A9F-E4B3-4D62-8A0A-C992F6F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AC4-BA12-4306-8F62-6DB8C30B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D3A-439F-49F5-8B1D-BF792B65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AE67-B427-411C-82FD-3A0F4395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5CF7-976F-40F4-8308-371A8AA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970-2F98-4D92-94AB-E679BE23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BFDA-C4E9-4C62-8E48-0A39FFE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116B-A222-4938-B7E5-343A60F4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389-98D0-4A4D-8716-7D2EE1E8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EE79-3829-419C-A8AF-2E21ABD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10B-C324-4170-8652-ECDA29A7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73C-41AE-4407-B481-DE6CDE4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30F-A8F1-4506-95F7-93A8E20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7E7-2B24-418B-9CA6-3B3842C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FC2-ADA6-4C54-98C1-39356757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A986-A8C7-4BEB-BB35-FD94C9A3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3DD-4A0E-4177-8D5A-28C228AC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4E4-040C-4DA3-8178-59C0CECB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DC7-D40E-46CC-BEB6-5ADA7328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C36-A550-403C-BD60-A6A62EE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520-A591-4A1A-889C-5D4FB049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354-C618-4AB0-9207-D3BF2A0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5CB-FFCF-4955-8CA3-0FEE03B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E2B-3461-43B5-9443-4942A1BB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A1C-79D3-4152-9D8C-3A660896F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678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TC Bookman Demi"/>
                <a:ea typeface="Times New Roman"/>
              </a:rPr>
              <a:t>Тема</a:t>
            </a:r>
            <a:r>
              <a:rPr b="0" lang="en-US" sz="2400" spc="-1" strike="noStrike">
                <a:solidFill>
                  <a:srgbClr val="000000"/>
                </a:solidFill>
                <a:latin typeface="ITC Bookman Dem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ITC Bookman Demi"/>
                <a:ea typeface="Times New Roman"/>
              </a:rPr>
              <a:t> Индивидуальные средства защиты и порядок пользования и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бные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743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 и классификация средств защ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42900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, состав комплекта и подготовка к пользованию общевойскового фильтрующего противогаза и респиратора. Порядок выполнения нормативов по ОМП № 1,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181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значение, состав комплекта и подготовка к пользованию общевойскового защитного комплек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 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значение и классификация средств защиты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З) предназначены для сохранен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ости личного состава и обеспечения выполнения боевой задачи в условиях применения противником оружия массового поражения (ОМП), а также в условиях воздействия поражающих сред, возникающих при эксплуатации и повреждениях вооружения и военной техни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19160" y="32763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ства   индивидуальной   защиты   органов   дых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гла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кож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1760" y="26319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8954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подразделяю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3434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572000"/>
            <a:ext cx="29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нципу защитного действ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952880"/>
            <a:ext cx="2438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ирующи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значени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95288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щевойсковы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циальны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Назначение, состав комплекта общевойскового фильтрующего противогаза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7652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войсковые фильтрующие противогаз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ы для защиты органов дыхания, лица и глаз от 0В, РП, Б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971800"/>
            <a:ext cx="723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плект противогаза входя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ка и не запотевающие пленки, а также, в зависимости от типа противогаза, могут входить мембраны переговорного устройства, трикотажный гидрофобный чехол, накладные утеплительные манжеты, водонепроницаемый мешок, крышка фляги с клапаном и бирка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36640" y="30132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057400"/>
            <a:ext cx="72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йств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ивогазов основан на изоляции органов дыхания от окружающей среды и очистке вдыхаемого воздуха от токсичных аэрозолей и паров в фильтрующе-поглощающей систем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41911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00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хб4" descr=""/>
          <p:cNvPicPr/>
          <p:nvPr/>
        </p:nvPicPr>
        <p:blipFill>
          <a:blip r:embed="rId1"/>
          <a:srcRect l="0" t="0" r="0" b="11038"/>
          <a:stretch/>
        </p:blipFill>
        <p:spPr>
          <a:xfrm>
            <a:off x="1523880" y="4038480"/>
            <a:ext cx="1828800" cy="1930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0512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хб5" descr=""/>
          <p:cNvPicPr/>
          <p:nvPr/>
        </p:nvPicPr>
        <p:blipFill>
          <a:blip r:embed="rId2"/>
          <a:srcRect l="0" t="0" r="0" b="9813"/>
          <a:stretch/>
        </p:blipFill>
        <p:spPr>
          <a:xfrm>
            <a:off x="4495680" y="4038480"/>
            <a:ext cx="3353040" cy="1924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6019920"/>
            <a:ext cx="6248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    Подбор масок противогазов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. 2.  Подбор масок противогазов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личине горизонтального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по величине вертикальног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та головы.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обхвата голов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44197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и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с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6. Противогаз ПМК-2:</a:t>
            </a:r>
            <a:br>
              <a:rPr sz="2400"/>
            </a:b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/ — маска МБ-1-80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фильтрующе-поглощающая коробка ЕО.1.15.01 в чехле; 3 —сумка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4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бирка;</a:t>
            </a:r>
            <a:br>
              <a:rPr sz="2000"/>
            </a:b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5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водонепроницаемый мешок; в — незапотеваю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щ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ие пленки; 7 — накладные утеплительные манжеты; </a:t>
            </a:r>
            <a:r>
              <a:rPr b="1" i="1" lang="en-US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крышка фляги о клапаном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9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ереходники; </a:t>
            </a: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0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шетка; // — заглушка; </a:t>
            </a:r>
            <a:br>
              <a:rPr sz="2000"/>
            </a:br>
            <a:r>
              <a:rPr b="1" i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12 —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кладыш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43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417600"/>
            <a:ext cx="5715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221304"/>
                </a:solidFill>
                <a:latin typeface="Times New Roman"/>
              </a:rPr>
              <a:t>                              </a:t>
            </a:r>
            <a:r>
              <a:rPr b="1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Назначение, состав общевойскового защитного комплекта.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</a:t>
            </a:r>
            <a:br>
              <a:rPr sz="1400"/>
            </a:b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Общевойсковой защитный комплект в сочетании с фильтрующими СИЗК предназначен для защиты кожных по­кровов личного состава от 0В, РП, БА, а также для снижения заражения обмундирования, снаряжения, обуви и индивидуального оружия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благовременном надевании ОЗК повышает уровень защищенности кожных покровов от СИЯВ, огне смесей и открытого пламени, а также ослабляет разрушающее действие термических факторов на расположенные под ним предметы экипиров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1952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, устройство, маркиров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544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4352760" cy="3048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62720" y="3581280"/>
            <a:ext cx="32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й плащ ОП-1М; 2 — затяжник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ля спинки; 4 и 7 рамки стальные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ля для большого пальца руки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за­крепки: 8—центральный шпенек: 9 — хлястик; 11—держатели плаща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—чех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защитного плаща ОП-1М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хол для защитных чулок и перчаток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чулки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перчатки БЛ-1М; 1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еплительные вкладыши к защитным перчаткам БЗ-1М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щитные перчатки БЗ-1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войсковой комплексный защитный костю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ЗК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ит из куртки и брюк, защитного белья, головного убора, подшлемника, изготавливаемых из хлопчатобумажной ткани со специальными пропитками и имеет те же рост и размеры, что и летнее обмундировани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стюм защитный сетчатый (КЗС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оит из куртки и брюк, изготовленных из сетчатой ткани с огнезащитной пропиткой. Костюм надевают поверх обычного или защитного обмундирования. Он изготавливается трех размеров: первый — для военнослужащих ростом до 166 см, второй — от 167 до 178 см, третий — от 179 см и выше.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ис. З.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оря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док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использования общев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ойскового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защитного кома </a:t>
            </a:r>
            <a:r>
              <a:rPr b="1" i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а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в виде плаща в рука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а,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в виде комбинезона; </a:t>
            </a:r>
            <a:r>
              <a:rPr b="1" i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— накидки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60" y="641520"/>
            <a:ext cx="36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4771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спиратор Р-2</a:t>
            </a: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-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предназначен для защиты органов дыхания от    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адиоактивной и грунтовой пыли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Принцип действия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фильтрующего  респиратора основан на том, что органы дыхания  изолируются от окружающей среды  полумаской, а        вдыхаемый воздух очищается от аэрозолей в пакете фильтрующих материалов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Респиратор не обогащает вдыхаемый воздух  кислородом, поэтому его можно применять в атмосфере, содержащей не менее 17% кислорода  (по объему). </a:t>
            </a: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Респиратор не защищает от токсичных  газов и паров.</a:t>
            </a:r>
            <a:br>
              <a:rPr sz="1600"/>
            </a:br>
            <a:r>
              <a:rPr b="1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Фильтрующая полумаска</a:t>
            </a: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респиратора Р-2  изготовлена из трех слоев материалов.  Внешний слой - пенополиуретан защитного  цвета, внутренний                        - воздухонепроницаемая     полиэтиленовая пленка с  вмонтированными двумя   клапанами вдоха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                  Между пенополуретаном и пленкой расположен слой фильтрующего материала из полимерных волокон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Клапан выдоха размещен в передней части полумаски и закрыт снаружи экраном. Респиратор имеет носовой зажим, предназначенный для поджима полумаски к лицу в области переносицы.</a:t>
            </a:r>
            <a:br>
              <a:rPr sz="1600"/>
            </a:b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спиратор Р-2: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5867280" cy="3381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34" name=""/>
          <p:cNvSpPr/>
          <p:nvPr/>
        </p:nvSpPr>
        <p:spPr>
          <a:xfrm>
            <a:off x="3124080" y="5181480"/>
            <a:ext cx="4572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ис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Респиратор Р-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 — носовой зажи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— оголовье с тесемка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 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дыхательный клапан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675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4 —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дыхательный клап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09:00:07Z</dcterms:created>
  <dc:creator>s1opk</dc:creator>
  <dc:description/>
  <dc:language>en-US</dc:language>
  <cp:lastModifiedBy>1 опк</cp:lastModifiedBy>
  <dcterms:modified xsi:type="dcterms:W3CDTF">2006-12-08T08:55:00Z</dcterms:modified>
  <cp:revision>11</cp:revision>
  <dc:subject/>
  <dc:title>   Назначение и классификация средств защиты. </dc:title>
</cp:coreProperties>
</file>