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6ECC8-672E-4127-ACB9-86E79FA8D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82211-7D15-4AF2-A1D8-F9618666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98A06-8E9E-409A-BC57-9CD319BB2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F05AF-B0BB-48DB-B0AC-DDF713C96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B56B-6B22-4D2B-BFC1-12E012333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8440-90FB-415B-A34D-C45025E2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8D1A-564B-49B4-B0E6-EA1F6B6D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20D9-C040-49BF-8750-9B5678A2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87D8-C61A-4AF5-B26B-7F297332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F797-ED84-4F2F-828C-307F9FA5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DD63-1A3A-4214-BFB3-ED4F1EE8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5AE17-3BB7-4F94-9DF8-0178265E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17C5-E537-4689-9907-8DE5B50A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A410-0A30-4AFF-BF13-AA4153F2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E904-006E-4838-8962-FCF1D002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8225-3703-45E9-9D4B-890DDF95E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0B8C-CD37-4C39-92B6-FB8396B26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9DC4F-24BD-489E-AA94-26B934C2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EC739-CE97-451A-AC4C-2EE99735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EEF5B-AC89-4E28-844A-3269EFA6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25DCD-A188-4D13-98F9-73EC07AA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E00E8-9AE4-49DC-813F-1F736466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C9716-6515-4DD9-BE1B-51AA52CF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46978-8E0E-40E4-8195-54199630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7B05-A690-4515-8167-D7FB2806D4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894A-88A9-4A09-85E4-C00420F75D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fotki.yandex.ru/users/julie-korotkaya/view/98634/?page=0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fotki.yandex.ru/users/julie-korotkaya/view/98633/?page=0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fotki.yandex.ru/users/julie-korotkaya/view/98632/?page=0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fotki.yandex.ru/users/julie-korotkaya/view/98636/?page=0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fotki.yandex.ru/users/julie-korotkaya/view/98637/?page=0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fotki.yandex.ru/users/julie-korotkaya/view/106188/?page=0" TargetMode="External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&#1060;&#1083;&#1086;&#1088;&#1077;&#1085;&#1089; &#1053;&#1072;&#1081;&#1090;&#1080;&#1085;&#1075;&#1077;&#1081;&#1083;.doc" TargetMode="External"/><Relationship Id="rId2" Type="http://schemas.openxmlformats.org/officeDocument/2006/relationships/hyperlink" Target="&#1060;&#1083;&#1086;&#1088;&#1077;&#1085;&#1089; &#1053;&#1072;&#1081;&#1090;&#1080;&#1085;&#1075;&#1077;&#1081;&#1083;.doc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68360" y="191628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История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сестринского дел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Русско-турецкая война 1877-1878 г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413000"/>
            <a:ext cx="8642160" cy="38192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468360" y="544500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Василий Верещаг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После атаки. Перевязочный пункт под Плев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33360"/>
            <a:ext cx="7686720" cy="431784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12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692280"/>
            <a:ext cx="7740720" cy="431928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12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71640" y="1197000"/>
            <a:ext cx="6334200" cy="431964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13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187280" y="1557360"/>
            <a:ext cx="7417080" cy="431784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131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476360" y="2133720"/>
            <a:ext cx="7497720" cy="431964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8766360" y="6643080"/>
            <a:ext cx="37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ммп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7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" nodeType="afterEffect" fill="hold" presetClass="entr" presetID="5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7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70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6000"/>
                            </p:stCondLst>
                            <p:childTnLst>
                              <p:par>
                                <p:cTn id="35" nodeType="afterEffect" fill="hold" presetClass="entr" presetID="5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77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770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5" nodeType="afterEffect" fill="hold" presetClass="entr" presetID="5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7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/>
                                        <p:tgtEl>
                                          <p:spTgt spid="1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8569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Реформирование сестринского образования в начале XX ве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3640" y="1601280"/>
            <a:ext cx="83739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ХХ столетия руководство благотворительны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реждениями возглавила великая княгиня Елизавета Федоровна. В 19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у была открыта Марфо - Марьинская обитель, которая к 1911 го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ится "центром милосердия" в Москв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14 году община была превращена в госпиталь в связи с начал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й Мировой Войны. Подготовка сестринского персона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лась при общин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1917 года в России насчитывалось 10 тысяч сестер милосерд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 августа 1917 года в Москве состоял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Всероссийский съезд сестер милосерд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тором было учрежде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российское общество сестер милосерд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457200"/>
            <a:ext cx="856908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МЕДИЦИНСКИЕ СЕСТРЫ У ПОСТЕЛЕЙ БОЛЬНЫХ </a:t>
            </a:r>
            <a:br>
              <a:rPr sz="2400"/>
            </a:br>
            <a:r>
              <a:rPr b="1" lang="ru-RU" sz="2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В ЛАЗАРЕТЕ В ИМПЕРАТОРСКОМ ЗИМНЕМ</a:t>
            </a:r>
            <a:r>
              <a:rPr b="1" lang="en-US" sz="2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ДВОРЦЕ </a:t>
            </a:r>
            <a:br>
              <a:rPr sz="2400"/>
            </a:br>
            <a:r>
              <a:rPr b="1" lang="ru-RU" sz="2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ВО ВРЕМЯ ПЕРВОЙ МИРОВОЙ ВОЙНЫ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Первая мировая война"/>
          <p:cNvPicPr/>
          <p:nvPr/>
        </p:nvPicPr>
        <p:blipFill>
          <a:blip r:embed="rId1"/>
          <a:stretch/>
        </p:blipFill>
        <p:spPr>
          <a:xfrm>
            <a:off x="755640" y="2060640"/>
            <a:ext cx="7848720" cy="447516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е медицинские школы появились в 1920 году. Бы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ы программы по подготовки акушерок, медсест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анита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27 году под руководством Н.А. Семашко, изда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Положение о медсестрах" в котором определе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нности медицинских сестер по уходу за больн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34-1938 годах подготовлено 9 тысяч медсесте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читывалось 967 медицинских и санитарных школ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 время появляются новые требования к подготов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сестер: "для сознательного отношения к назначения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а, она должна быть медицински грамотна". Но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медсестер это не сказалось. Сознате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е к назначениям врача, даже если оно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батывается, остается невостребованным (вс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ость несет врач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3964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9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была создана и принята философ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инского д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94 г. создана Ассоциация Медицинских сестё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и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нимающая участие в работе Международ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а сестё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95 г. впервые в России Г.М.Перфильева, лид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инского дела, инициатор создания факультета высш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инского образования в Московской медицинс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адемии им. И.М.Сеченова, защитила докторск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сертацию на тему : "Сестринское дело в Росс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Заклю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739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"сестринского дела" в России протекало оч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 и длительно. Но несмотря на это в 19 веке професс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ы милосердия была очень почетна. Но с начала XX в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лоть до нашего времени медицинская сестра превратила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"паломника врача работающего по его указанию и под 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м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я с 90-х годов XX века появились тенденции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ой самостоятельности в работе медицинской сест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8353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Медицинским сестрам отводится од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из ведущих ролей в решении задач медико</a:t>
            </a:r>
            <a:r>
              <a:rPr b="1" lang="en-US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социальной помощи населению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повышении качества и эффектив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медицинских услуг сестринск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персонала в ЛПУ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7197480" cy="53989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26920" y="404640"/>
            <a:ext cx="4118040" cy="619308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sp>
        <p:nvSpPr>
          <p:cNvPr id="145" name=""/>
          <p:cNvSpPr/>
          <p:nvPr/>
        </p:nvSpPr>
        <p:spPr>
          <a:xfrm>
            <a:off x="8523360" y="6566760"/>
            <a:ext cx="37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ммп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7775640" y="5802480"/>
            <a:ext cx="1368360" cy="1055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611280" y="692280"/>
            <a:ext cx="7219800" cy="540072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3924360" y="981000"/>
            <a:ext cx="3643200" cy="55450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50920" y="189000"/>
            <a:ext cx="6913440" cy="651960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77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770" fill="hold"/>
                                        <p:tgtEl>
                                          <p:spTgt spid="1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" dur="77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5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7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70" fill="hold"/>
                                        <p:tgtEl>
                                          <p:spTgt spid="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000"/>
                            </p:stCondLst>
                            <p:childTnLst>
                              <p:par>
                                <p:cTn id="84" nodeType="afterEffect" fill="hold" presetClass="entr" presetID="5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6000"/>
                            </p:stCondLst>
                            <p:childTnLst>
                              <p:par>
                                <p:cTn id="94" nodeType="afterEffect" fill="hold" presetClass="entr" presetID="5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7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70" fill="hold"/>
                                        <p:tgtEl>
                                          <p:spTgt spid="1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ление ухода на Руси X - XVII в.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хода в XVIII в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инский уход в XIX в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сестра в ХХ 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47640" y="765000"/>
            <a:ext cx="61930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7d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лан.</a:t>
            </a:r>
            <a:endParaRPr b="0" lang="en-US" sz="1800" spc="1" strike="noStrike">
              <a:ln w="0">
                <a:noFill/>
              </a:ln>
              <a:solidFill>
                <a:srgbClr val="00007d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63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12 м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Всемирный д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медицинской сестры.</a:t>
            </a:r>
            <a:r>
              <a:rPr b="1" lang="ru-RU" sz="4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я фактически празднику уже более ста лет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иально он был учрежден только 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71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медицинской сестры отмеч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момента объединения сестер милосердия из 141 стра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фессиональную общественную организацию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й совет медицинских сест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717640" cy="2879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Вве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ая медицинская сестра должна знать историю развития сестринского де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Европы сестринский уход в России имеет светские корни. Организацией сестринских общин, больниц для неимущих, занимались женщины благородного происхождения и великие княгини (Ольга, Мари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рубежных странах уходом занимались в основном женщины низших слоев общества ("падшие женщины"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и профессия "сестры милосердия" считалась уважаем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профессия медицинской сестры является малоуважаемой и малооплачиваем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184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Становление ухода на Руси </a:t>
            </a:r>
            <a:br>
              <a:rPr sz="3200"/>
            </a:br>
            <a:r>
              <a:rPr b="1" lang="en-US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X - XVII в.в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35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ский уход за больными существовал во все времена и во все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ах мира. Женщины выполняли гигиенические мероприятия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ли комфортабельные условия для больных, чаще родствен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онастырях сестры ухаживали за больными бескорыстно. Массо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ухода за больными женщины не привлекались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уси уже в 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е княгиня Ольга организовала больницу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де уход был поруч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ам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XVI веке "Стоглавый собор" издает указ об организ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ских и женских богаделен с привлечением на работу женщ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XVII веке в период "Смутного времени" на территории Троице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иевского монастыря был создан первый госпиталь - в 1612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618 году при Троицком монастыре возникла первая (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ом понимании) больница. В 1650 году появилась больница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итории Андреевского монастыря. Достоверных данных нет, 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 в этих больницах применялся женский ух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Развитие ухода в XVIII в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3640" y="1312560"/>
            <a:ext cx="8569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о в 1707 году в Москв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 создан первый граждан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15 году указом Петра 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и организованы воспитате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 в которых должны были служить женщи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 привлечение женщины к работе в больницах было отменено, ро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делок выполняли отставные солдаты. Возможно использование жен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а носило временный характе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735 году вышел генеральный регламент о госпиталях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тором определяется сфера деятельности женщин (мытье полов, стир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ь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763 году в Москве учреждена Павловская больница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специально для больных женщин имелись "бабы – сидельницы" из вд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жен больничных солдат. Специального обучения сестер не бы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Сестринский уход в XIX в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241280"/>
            <a:ext cx="87138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авторы считают, что именно с 1803 года в России возник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сестринское дело". Спорить с этим трудно, но именно с начала 19 ве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ась специальная подготовка женского сестринского персона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18 году был создан "Институт сердобольных вдов"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ри больницах появились курсы сиделок для женщ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е авторы считают, что сестры милосердия появились в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1841 году, после создания первой общины сестер милосерд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вято-Троицкой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54 году была создана Крестовоздвиженная общ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ер милосердия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е настоятельной стала Е.М. Балунин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авторы считают именно ее основоположниц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сестринского дела" в России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 время Крымской войны 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ила себя как очень хороший организатор. После войны она уехала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овое имение, в Тверской губернии, и организовала там лечебницу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стьян (считается основоположницей сельской медицины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Сестринский уход в XIX 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о участие в развитие "сестринского дела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И. Пирогова - великого русского хирурга. Когда бы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а крестовоздвиженская община Пирогов руковод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ю. Пирогов активно привлекал к уходу женщи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л нововведения среди сестринского персон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8642160" cy="45352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642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В 1854 году была создана Крестовоздвиженная община </a:t>
            </a:r>
            <a:br>
              <a:rPr sz="3200"/>
            </a:br>
            <a:r>
              <a:rPr b="1" lang="en-US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сестер милосерд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4247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Флоренс Найнтингейл </a:t>
            </a:r>
            <a:r>
              <a:rPr b="1" lang="en-US" sz="2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(12 мая 1820г.-1910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356000" y="1241280"/>
            <a:ext cx="4788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научное опреде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инского дела дала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1"/>
              </a:rPr>
              <a:t>Флорен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2"/>
              </a:rPr>
              <a:t>Найтингей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"Записках об уходе" 1859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считала, чт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инское дело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 по использован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ающей среды пациента в цел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йствия его выздоровлению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м цель сестринского ухода бы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улирована так: "создать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а наилучшие условия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зации его собственных сил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я сестринское дело искусств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считала, что это искусство требу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организации, практической и науч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и"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0920" y="1197000"/>
            <a:ext cx="3830400" cy="547200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7:41:45Z</dcterms:created>
  <dc:creator>Михаил</dc:creator>
  <dc:description/>
  <dc:language>en-US</dc:language>
  <cp:lastModifiedBy>Михаил</cp:lastModifiedBy>
  <dcterms:modified xsi:type="dcterms:W3CDTF">2011-11-24T03:29:21Z</dcterms:modified>
  <cp:revision>13</cp:revision>
  <dc:subject/>
  <dc:title>История  сестринского дела.</dc:title>
</cp:coreProperties>
</file>