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461B1-9861-4725-9DF5-6B74C07C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0974-5804-4055-954D-2B4E5DA1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75B2-1F1F-4602-9894-9A3BED55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920A9-B164-4443-8F32-9D14D53A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779F-6120-4C4F-85B5-BF18A536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ED35-A96B-48E9-B8F6-AD5DFE80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9FEC-8856-4877-8FBC-9BE1FCD4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12C0-E92B-4FF6-8DCE-DB867FD3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28E7-8760-4554-8586-D341F318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EC58-208F-4FE1-BE8E-C1035B3C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B09A-1FDB-4016-AEE5-A9339400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42960-1A96-4506-8243-3559BF04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F170-9242-4E10-B079-D1C006EF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2C61-AC43-4076-98D6-E58EF21E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14C1-DD9B-4654-B381-3E5ADBBF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3566-898C-45F5-BF62-E4DBFDAC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B13A-670C-456F-819D-C5D252A4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F4724-E914-47C1-A887-D0967E49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A6630-A2D1-4930-A071-F1BA8B3C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60EDD-C6B6-4DB8-B6F7-04C45F1F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3710-1E0F-4BA8-8825-F7A43210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D0C5-A135-427D-A55E-3877357D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D1DFD-CAEA-44CB-9311-9144C102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53C58-51FA-41D9-A3DA-3C318FC0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97C2-DB18-4274-8707-399AEF78F0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B078-AE5A-441F-9C20-387E09BB0C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otki.yandex.ru/users/julie-korotkaya/view/98634/?page=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otki.yandex.ru/users/julie-korotkaya/view/98633/?page=0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fotki.yandex.ru/users/julie-korotkaya/view/98632/?page=0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fotki.yandex.ru/users/julie-korotkaya/view/98636/?page=0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fotki.yandex.ru/users/julie-korotkaya/view/98637/?page=0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fotki.yandex.ru/users/julie-korotkaya/view/106188/?page=0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&#1060;&#1083;&#1086;&#1088;&#1077;&#1085;&#1089; &#1053;&#1072;&#1081;&#1090;&#1080;&#1085;&#1075;&#1077;&#1081;&#1083;.doc" TargetMode="External"/><Relationship Id="rId2" Type="http://schemas.openxmlformats.org/officeDocument/2006/relationships/hyperlink" Target="&#1060;&#1083;&#1086;&#1088;&#1077;&#1085;&#1089; &#1053;&#1072;&#1081;&#1090;&#1080;&#1085;&#1075;&#1077;&#1081;&#1083;.doc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91628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История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естринского де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Русско-турецкая война 1877-1878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413000"/>
            <a:ext cx="8642160" cy="3819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468360" y="5445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асилий Верещаг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После атаки. Перевязочный пункт под Плев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7686720" cy="43178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2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692280"/>
            <a:ext cx="7740720" cy="43192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2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1197000"/>
            <a:ext cx="6334200" cy="43196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3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87280" y="1557360"/>
            <a:ext cx="7417080" cy="43178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3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76360" y="2133720"/>
            <a:ext cx="7497720" cy="43196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8766360" y="6643080"/>
            <a:ext cx="37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м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" nodeType="afterEffect" fill="hold" presetClass="entr" presetID="5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569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Реформирование сестринского образования в начале XX ве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601280"/>
            <a:ext cx="83739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ХХ столетия руководство благотворитель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ми возглавила великая княгиня Елизавета Федоровна. В 19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у была открыта Марфо - Марьинская обитель, которая к 1911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ится "центром милосердия" в Моск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4 году община была превращена в госпиталь в связи с нача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й Мировой Войны. Подготовка сестринского персон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лась при общин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917 года в России насчитывалось 10 тысяч сестер милосерд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августа 1917 года в Москве состоя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Всероссийский съезд сестер милосерд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тором было учрежде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ое общество сестер милосерд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5690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МЕДИЦИНСКИЕ СЕСТРЫ У ПОСТЕЛЕЙ БОЛЬНЫХ 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 ЛАЗАРЕТЕ В ИМПЕРАТОРСКОМ ЗИМНЕМ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ДВОРЦЕ 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О ВРЕМЯ ПЕРВОЙ МИРОВОЙ ВОЙН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Первая мировая война"/>
          <p:cNvPicPr/>
          <p:nvPr/>
        </p:nvPicPr>
        <p:blipFill>
          <a:blip r:embed="rId1"/>
          <a:stretch/>
        </p:blipFill>
        <p:spPr>
          <a:xfrm>
            <a:off x="755640" y="2060640"/>
            <a:ext cx="7848720" cy="44751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медицинские школы появились в 1920 году. Бы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ы программы по подготовки акушерок, медсес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нита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7 году под руководством Н.А. Семашко, изд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оложение о медсестрах" в котором определ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и медицинских сестер по уходу за боль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34-1938 годах подготовлено 9 тысяч медсест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читывалось 967 медицинских и санитарных школ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 время появляются новые требования к подготов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сестер: "для сознательного отношения к назначени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а, она должна быть медицински грамотна". Но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медсестер это не сказалось. Созна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к назначениям врача, даже если он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атывается, остается невостребованным (вс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несет врач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была создана и принята философ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ого 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4 г. создана Ассоциация Медицинских сестё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и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имающая участие в работе Междунаро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а сестё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5 г. впервые в России Г.М.Перфильева, лид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ого дела, инициатор создания факультета высш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ого образования в Московской медицин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адемии им. И.М.Сеченова, защитила докторск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сертацию на тему : "Сестринское дело в Росс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Заклю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73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"сестринского дела" в России протекало оч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 и длительно. Но несмотря на это в 19 веке профес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ы милосердия была очень почетна. Но с начала XX 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лоть до нашего времени медицинская сестра преврати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"паломника врача работающего по его указанию и под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м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с 90-х годов XX века появились тенденции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ой самостоятельности в работе медицинской сес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353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Медицинским сестрам отводится од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из ведущих ролей в решении задач медико</a:t>
            </a: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социальной помощи населению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повышении качества и эффектив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медицинских услуг сестрин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персонала в ЛП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7197480" cy="53989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4118040" cy="61930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8523360" y="6566760"/>
            <a:ext cx="37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м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775640" y="5802480"/>
            <a:ext cx="1368360" cy="1055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11280" y="692280"/>
            <a:ext cx="7219800" cy="540072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3924360" y="981000"/>
            <a:ext cx="3643200" cy="5545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6913440" cy="65196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" nodeType="afterEffect" fill="hold" presetClass="entr" presetID="5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ухода на Руси X - XVII в.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хода в XVIII 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ий уход в XIX 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сестра в ХХ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47640" y="765000"/>
            <a:ext cx="6193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7d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лан.</a:t>
            </a:r>
            <a:endParaRPr b="0" lang="en-US" sz="1800" spc="1" strike="noStrike">
              <a:ln w="0">
                <a:noFill/>
              </a:ln>
              <a:solidFill>
                <a:srgbClr val="00007d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63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12 м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семирны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медицинской сестры.</a:t>
            </a:r>
            <a:r>
              <a:rPr b="1" lang="ru-RU" sz="4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фактически празднику уже более ста лет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льно он был учрежден только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1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медицинской сестры отмеч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омента объединения сестер милосердия из 141 стр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фессиональную общественную организацию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й совет медицинских сес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71764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медицинская сестра должна знать историю развития сестринского д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Европы сестринский уход в России имеет светские корни. Организацией сестринских общин, больниц для неимущих, занимались женщины благородного происхождения и великие княгини (Ольга, Мар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рубежных странах уходом занимались в основном женщины низших слоев общества ("падшие женщины"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профессия "сестры милосердия" считалась уважае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профессия медицинской сестры является малоуважаемой и малооплачивае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18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Становление ухода на Руси </a:t>
            </a:r>
            <a:br>
              <a:rPr sz="3200"/>
            </a:b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X - XVII в.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35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й уход за больными существовал во все времена и во все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ах мира. Женщины выполняли гигиенические мероприяти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ли комфортабельные условия для больных, чаще родствен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настырях сестры ухаживали за больными бескорыстно. Массо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хода за больными женщины не привлекались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уси уже в 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е княгиня Ольга организовала больницу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де уход был поруч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м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XVI веке "Стоглавый собор" издает указ об орган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ских и женских богаделен с привлечением на работу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XVII веке в период "Смутного времени" на территории Троиц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иевского монастыря был создан первый госпиталь - в 1612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618 году при Троицком монастыре возникла первая (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ом понимании) больница. В 1650 году появилась больница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и Андреевского монастыря. Достоверных данных нет, 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в этих больницах применялся женский ух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Развитие ухода в XVIII 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31256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о в 1707 году в Моск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создан первый гражд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15 году указом Петра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организованы воспит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 в которых должны были служить женщ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привлечение женщины к работе в больницах было отменено, ро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елок выполняли отставные солдаты. Возможно использование жен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а носило временный характ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735 году вышел генеральный регламент о госпиталях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м определяется сфера деятельности женщин (мытье полов, стир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ь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763 году в Москве учреждена Павловская больница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специально для больных женщин имелись "бабы – сидельницы" из в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ен больничных солдат. Специального обучения сестер не б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Сестринский уход в XIX 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241280"/>
            <a:ext cx="87138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авторы считают, что именно с 1803 года в России возник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естринское дело". Спорить с этим трудно, но именно с начала 19 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ась специальная подготовка женского сестринского персон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18 году был создан "Институт сердобольных вдов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и больницах появились курсы сиделок для женщ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авторы считают, что сестры милосердия появились в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1841 году, после создания первой общины сестер милосерд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ято-Троицко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54 году была создана Крестовоздвиженная общ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ер милосерд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настоятельной стала Е.М. Балунин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авторы считают именно ее основоположниц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естринского дела" в Росси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 время Крымской войны 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ила себя как очень хороший организатор. После войны она уехал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овое имение, в Тверской губернии, и организовала там лечебницу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стьян (считается основоположницей сельской медицин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Сестринский уход в XIX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 участие в развитие "сестринского дела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И. Пирогова - великого русского хирурга. Когда бы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а крестовоздвиженская община Пирогов руково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ю. Пирогов активно привлекал к уходу женщи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л нововведения среди сестринского персо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642160" cy="4535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 1854 году была создана Крестовоздвиженная община </a:t>
            </a:r>
            <a:br>
              <a:rPr sz="3200"/>
            </a:b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сестер милосерд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4247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Флоренс Найнтингейл 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(12 мая 1820г.-1910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56000" y="1241280"/>
            <a:ext cx="478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научное опреде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ого дела дала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"/>
              </a:rPr>
              <a:t>Флорен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2"/>
              </a:rPr>
              <a:t>Найтингей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"Записках об уходе" 1859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считала, ч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ое дело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по использова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ей среды пациента в цел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я его выздоровлению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м цель сестринского ухода бы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ована так: "создать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а наилучшие условия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и его собственных сил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я сестринское дело искусств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считала, что это искусство треб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организации, практической и науч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и"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3830400" cy="54720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7:41:45Z</dcterms:created>
  <dc:creator>Михаил</dc:creator>
  <dc:description/>
  <dc:language>en-US</dc:language>
  <cp:lastModifiedBy>Михаил</cp:lastModifiedBy>
  <dcterms:modified xsi:type="dcterms:W3CDTF">2011-11-24T03:29:21Z</dcterms:modified>
  <cp:revision>13</cp:revision>
  <dc:subject/>
  <dc:title>История  сестринского дела.</dc:title>
</cp:coreProperties>
</file>