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2B4-73D6-4A07-9CCA-BBCD74E4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C5A-9AE5-4E57-9EBD-BD3F21A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91A-0C78-48FD-BE80-AA50218F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617-4F6B-4AFE-BD8C-BA935528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C5DC-8017-4A8E-9589-6C4513AF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6B73-2E0F-492A-8E5C-59BAA603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1DC-A16C-4C51-9371-5C4803E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4FA3-E867-4041-9FCC-DC23C50E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16C6-C4E8-4CF5-A9A6-BCF997A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EC17-4EF2-4A27-8156-36A3F636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029-3937-4259-845F-F64EE858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8A0-E489-4FB8-9394-5BBC26D9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7594-4F90-4F26-95C2-6C65F6D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B3C2-A1EF-4AEF-9071-CC6BF95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4ED-F2B1-4676-999C-020F57E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7173-7416-4DB7-83FE-2EBB9713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8D07-9C96-4252-B26D-1A9317E1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508-4111-4D95-8A60-B56FE7D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8F8-6839-45CC-A5F0-71C25898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436-BFFC-4017-AC1B-A994F77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7D9-1B03-4415-8128-57D009E5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D8A-8B31-4B14-8CAB-76B1072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D45-9456-4622-BC2C-CADF524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67C-9BA7-4619-9BF2-48411E40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8D7-3F08-42B3-94D3-693A6B9E75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F77-A769-4C09-9517-6C61418CEC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353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cc"/>
                </a:solidFill>
                <a:latin typeface="Arial"/>
              </a:rPr>
              <a:t>Дети Сургута </a:t>
            </a:r>
            <a:br>
              <a:rPr sz="6600"/>
            </a:br>
            <a:r>
              <a:rPr b="0" i="1" lang="ru-RU" sz="5400" spc="-1" strike="noStrike">
                <a:solidFill>
                  <a:srgbClr val="ffffcc"/>
                </a:solidFill>
                <a:latin typeface="Arial"/>
              </a:rPr>
              <a:t>за здоровый образ жизни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4" descr="1244443393-9364"/>
          <p:cNvPicPr/>
          <p:nvPr/>
        </p:nvPicPr>
        <p:blipFill>
          <a:blip r:embed="rId1"/>
          <a:stretch/>
        </p:blipFill>
        <p:spPr>
          <a:xfrm>
            <a:off x="3352680" y="228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581280" y="4800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Arial"/>
              </a:rPr>
              <a:t>Баркова Екатерина, Горбовец Александ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Arial"/>
              </a:rPr>
              <a:t>учащиеся 10 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762120" y="57913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  ОБЩЕОБРАЗОВАТЕЛЬНОЕ  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НЯЯ   ОБЩЕОБРАЗОВАТЕЛЬНАЯ   ШКОЛА №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  углублённым   изучением   отдельных   предм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Кур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Люди курят н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том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хотят кури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а потом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не могу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ерестать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nou-smokin-inet"/>
          <p:cNvPicPr/>
          <p:nvPr/>
        </p:nvPicPr>
        <p:blipFill>
          <a:blip r:embed="rId1"/>
          <a:stretch/>
        </p:blipFill>
        <p:spPr>
          <a:xfrm>
            <a:off x="5257800" y="1828800"/>
            <a:ext cx="357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Заболе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к нижней г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онический бронх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невмосклер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мфиз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сть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йкий спазм сосу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дартери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звенная болезнь желудка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237227857_kyrenie"/>
          <p:cNvPicPr/>
          <p:nvPr/>
        </p:nvPicPr>
        <p:blipFill>
          <a:blip r:embed="rId1"/>
          <a:stretch/>
        </p:blipFill>
        <p:spPr>
          <a:xfrm>
            <a:off x="5181480" y="1828800"/>
            <a:ext cx="351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Заболевания у детей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ов дых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ивается частота бронхитов и пневмо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к развития серьезных заболе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абачный дым влияет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мен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худшает усвояемость сах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ает витамин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ерживает солнечные УФ лу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x_29cc3e11"/>
          <p:cNvPicPr/>
          <p:nvPr/>
        </p:nvPicPr>
        <p:blipFill>
          <a:blip r:embed="rId1"/>
          <a:srcRect l="21240" t="21714" r="12688" b="28184"/>
          <a:stretch/>
        </p:blipFill>
        <p:spPr>
          <a:xfrm>
            <a:off x="5486400" y="2057400"/>
            <a:ext cx="3276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тя многие курят………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равляя  себя  и  близких  людей…..,   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2d050"/>
                </a:solidFill>
                <a:latin typeface="Arial"/>
              </a:rPr>
              <a:t>                        </a:t>
            </a:r>
            <a:r>
              <a:rPr b="0" i="1" lang="ru-RU" sz="4800" spc="-1" strike="noStrike">
                <a:solidFill>
                  <a:srgbClr val="92d050"/>
                </a:solidFill>
                <a:latin typeface="Arial"/>
              </a:rPr>
              <a:t>Я НЕ КУРЮ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вам не советую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наших силах сделать курени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модным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2d050"/>
                </a:solidFill>
                <a:latin typeface="Arial"/>
              </a:rPr>
              <a:t>   </a:t>
            </a:r>
            <a:r>
              <a:rPr b="0" i="1" lang="ru-RU" sz="4800" spc="-1" strike="noStrike">
                <a:solidFill>
                  <a:srgbClr val="92d050"/>
                </a:solidFill>
                <a:latin typeface="Arial"/>
              </a:rPr>
              <a:t>ЖИЗНЬ И ТАК КОРОТКА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Наркома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5720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котики хорош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бы «уехать»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а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 реальность так бога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многообразна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чем от нее убег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no_drug"/>
          <p:cNvPicPr/>
          <p:nvPr/>
        </p:nvPicPr>
        <p:blipFill>
          <a:blip r:embed="rId1"/>
          <a:stretch/>
        </p:blipFill>
        <p:spPr>
          <a:xfrm>
            <a:off x="4952880" y="12952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боле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нер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плод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ные гепат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оеродные 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 иммунодефиц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792327423"/>
          <p:cNvPicPr/>
          <p:nvPr/>
        </p:nvPicPr>
        <p:blipFill>
          <a:blip r:embed="rId1"/>
          <a:stretch/>
        </p:blipFill>
        <p:spPr>
          <a:xfrm>
            <a:off x="5410080" y="1371600"/>
            <a:ext cx="3400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Вред наркотик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арихуа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уменьшение веса и окружности головы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ка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гипоксия, риск выкидыша, инсульт, пороки развития мочевыводящих пу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мфетам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задержка умственного и физического развития пл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еро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ребенок-наркоман и испытает «лом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С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утации, преждевременные роды, выкиды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олу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роки развития, психические нару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post-2-1212210501"/>
          <p:cNvPicPr/>
          <p:nvPr/>
        </p:nvPicPr>
        <p:blipFill>
          <a:blip r:embed="rId1"/>
          <a:stretch/>
        </p:blipFill>
        <p:spPr>
          <a:xfrm>
            <a:off x="5105520" y="1219320"/>
            <a:ext cx="375444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3" descr="x_f15d2fca"/>
          <p:cNvPicPr/>
          <p:nvPr/>
        </p:nvPicPr>
        <p:blipFill>
          <a:blip r:embed="rId1"/>
          <a:stretch/>
        </p:blipFill>
        <p:spPr>
          <a:xfrm>
            <a:off x="1981080" y="228600"/>
            <a:ext cx="48006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Печальная судьба не с неба сваливае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а рождается от человеческой глупости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1235328741_russia_ru_godmolodezhi21-45-43"/>
          <p:cNvPicPr/>
          <p:nvPr/>
        </p:nvPicPr>
        <p:blipFill>
          <a:blip r:embed="rId1"/>
          <a:stretch/>
        </p:blipFill>
        <p:spPr>
          <a:xfrm>
            <a:off x="685800" y="1828800"/>
            <a:ext cx="7572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Мы хотим видеть мир без наркотиков, табака и алкоголя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5" descr="12380231"/>
          <p:cNvPicPr/>
          <p:nvPr/>
        </p:nvPicPr>
        <p:blipFill>
          <a:blip r:embed="rId1"/>
          <a:stretch/>
        </p:blipFill>
        <p:spPr>
          <a:xfrm>
            <a:off x="1752480" y="198108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2d050"/>
                </a:solidFill>
                <a:latin typeface="Arial"/>
              </a:rPr>
              <a:t>А что такое здоровье, здоровый образ жизни?</a:t>
            </a:r>
            <a:br>
              <a:rPr sz="2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Уставе Всемирной организации здравоохранения указано, что здоровье – это “состояние полного физического, душевного, духовного и социального благополучия, а не только отсутствие болезней и физических дефектов”.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 ритме большого города мы не успеваем следить за своим здоровьем. А зря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45"/>
          <p:cNvPicPr/>
          <p:nvPr/>
        </p:nvPicPr>
        <p:blipFill>
          <a:blip r:embed="rId1"/>
          <a:stretch/>
        </p:blipFill>
        <p:spPr>
          <a:xfrm>
            <a:off x="3962520" y="5562720"/>
            <a:ext cx="15555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video.yandex.ru/search.xml?text=%D0%B4%D0%B5%D1%82%D0%B8-%D0%B7%D0%B0%20%D0%B7%D0%B4%D0%BE%D1%80%D0%BE%D0%B2%D1%8B%D0%B9%20%D0%BE%D0%B1%D1%80%D0%B0%D0%B7%20%D0%B6%D0%B8%D0%B7%D0%BD%D0%B8&amp;where=all&amp;id=367668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5181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блеме здоровья сейчас уделяют большое внимание. Об этом говорится на всех уровнях, вплоть до Президен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тественно, что возросло внимание и к здоровью учащихся. Многие школьники предпочитают проводить свободное время у телевизоров и компьют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евогу вызывает рост числа юных курильщиков, массовое потребление пива, токсикомания, приобретающая всё более массовый характ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54000078950"/>
          <p:cNvPicPr/>
          <p:nvPr/>
        </p:nvPicPr>
        <p:blipFill>
          <a:blip r:embed="rId1"/>
          <a:stretch/>
        </p:blipFill>
        <p:spPr>
          <a:xfrm>
            <a:off x="5486400" y="838080"/>
            <a:ext cx="3075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2d050"/>
                </a:solidFill>
                <a:latin typeface="Arial"/>
              </a:rPr>
              <a:t>Несколько основных советов</a:t>
            </a:r>
            <a:r>
              <a:rPr b="0" i="1" lang="en-US" sz="40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. Высыпайтесь и просыпайтесь естественным образом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. Будьте готовы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. Делайте утреннюю зарядку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. Планируйте режим питания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5. Не зацикливайтесь на неудачах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6. Измените образ жизни и привычки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7. Не пренебрегайте позитивным аутотренингом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8. Ставьте перед собой реалистичные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Arial"/>
              </a:rPr>
              <a:t>Помните - чем больше у вас здоровых привычек, тем легче и насыщеннее будет ваша жизнь, и тем больше вас будет радовать ваше отражение в зерка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Основные пагубные привычки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коголизм                             Нарк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EDE5F220EDE0F0EAEEF2"/>
          <p:cNvPicPr/>
          <p:nvPr/>
        </p:nvPicPr>
        <p:blipFill>
          <a:blip r:embed="rId1"/>
          <a:stretch/>
        </p:blipFill>
        <p:spPr>
          <a:xfrm>
            <a:off x="5869080" y="205740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_399_auto"/>
          <p:cNvPicPr/>
          <p:nvPr/>
        </p:nvPicPr>
        <p:blipFill>
          <a:blip r:embed="rId2"/>
          <a:stretch/>
        </p:blipFill>
        <p:spPr>
          <a:xfrm>
            <a:off x="228600" y="2133720"/>
            <a:ext cx="2819520" cy="2068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003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352680" y="2819520"/>
            <a:ext cx="22100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Алкоголиз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коголизм делает больш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устошения, чем 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их бича, в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ятые: голод, чума и вой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. Гладс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пьем "за здоровье" друг дру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этом мы портим собственно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1096154_20080908164708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files"/>
          <p:cNvPicPr/>
          <p:nvPr/>
        </p:nvPicPr>
        <p:blipFill>
          <a:blip r:embed="rId1"/>
          <a:srcRect l="0" t="0" r="4127" b="0"/>
          <a:stretch/>
        </p:blipFill>
        <p:spPr>
          <a:xfrm>
            <a:off x="2057400" y="0"/>
            <a:ext cx="7086600" cy="5940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533520" y="60958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ьянство-мать всех пороков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Заболе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полости 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клеток головного 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губное влияние на половые цен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ие потен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е менструального цик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x_fc1668a0"/>
          <p:cNvPicPr/>
          <p:nvPr/>
        </p:nvPicPr>
        <p:blipFill>
          <a:blip r:embed="rId1"/>
          <a:stretch/>
        </p:blipFill>
        <p:spPr>
          <a:xfrm>
            <a:off x="1523880" y="365760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 действием спиртного у подростков нарушается работа ритма сердца, выработка ферментов в печени, нарушается фильтрующая функция почек, ухудшаются память и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2"/>
          <p:cNvPicPr/>
          <p:nvPr/>
        </p:nvPicPr>
        <p:blipFill>
          <a:blip r:embed="rId1"/>
          <a:stretch/>
        </p:blipFill>
        <p:spPr>
          <a:xfrm>
            <a:off x="3733920" y="290988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СЕРГЕЕВНА</cp:lastModifiedBy>
  <dcterms:modified xsi:type="dcterms:W3CDTF">2010-01-22T16:18:5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