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10D-D994-4428-8553-82198341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F88-305C-4261-BAB8-D1604BA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9BC-1594-4A22-853A-66C63478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F07-32CF-4D6B-9A92-2F836669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292-E110-42E2-8C08-DE9BBFF1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2F9-7C9E-4487-9EF5-D466FFB9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4607-B2C5-4E8B-A1F8-EAA436F0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4A1D-19CF-42D7-AF34-3B887229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4034-9281-464F-8AA7-1762092D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71F5-38A2-485E-8377-B5E18732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D8D-722C-4AE2-9F38-7903D65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BFE-2F6F-4B7F-BC3A-3A7C1270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4279-2116-4382-97B5-AE2A27D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5999-C3EC-46AA-83F1-8BDCF48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C5F-018A-4B8D-B121-3465FBEE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26CB-3617-45E7-9F21-60789F41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B097-F97F-4D19-B92D-AAD5CDC4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975-66B1-4836-B2B4-FD0E7EB4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3E1-9B4F-47E4-9FB9-8DD22264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DBD-17CC-485D-89B7-DB2EAE7B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508-97DA-45DE-9197-CB15725A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F2E-6DC8-42CF-8C0D-5F8CF15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40C-F7C7-4A61-9312-1EDBAA2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B1C-528C-4B9F-9184-276D69A4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A31-7516-492C-8E3D-9FF73887CD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838E-0AAF-41AC-B8DC-500D728EAC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353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cc"/>
                </a:solidFill>
                <a:latin typeface="Arial"/>
              </a:rPr>
              <a:t>Дети Сургута </a:t>
            </a:r>
            <a:br>
              <a:rPr sz="6600"/>
            </a:br>
            <a:r>
              <a:rPr b="0" i="1" lang="ru-RU" sz="5400" spc="-1" strike="noStrike">
                <a:solidFill>
                  <a:srgbClr val="ffffcc"/>
                </a:solidFill>
                <a:latin typeface="Arial"/>
              </a:rPr>
              <a:t>за здоровый образ жизни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4" descr="1244443393-9364"/>
          <p:cNvPicPr/>
          <p:nvPr/>
        </p:nvPicPr>
        <p:blipFill>
          <a:blip r:embed="rId1"/>
          <a:stretch/>
        </p:blipFill>
        <p:spPr>
          <a:xfrm>
            <a:off x="3352680" y="228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3581280" y="4800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Arial"/>
              </a:rPr>
              <a:t>Баркова Екатерина, Горбовец Александ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Arial"/>
              </a:rPr>
              <a:t>учащиеся 10 Б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762120" y="57913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  ОБЩЕОБРАЗОВАТЕЛЬНОЕ  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НЯЯ   ОБЩЕОБРАЗОВАТЕЛЬНАЯ   ШКОЛА №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  углублённым   изучением   отдельных   предме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Кур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Люди курят н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том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хотят кури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а потом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не могу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ерестать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nou-smokin-inet"/>
          <p:cNvPicPr/>
          <p:nvPr/>
        </p:nvPicPr>
        <p:blipFill>
          <a:blip r:embed="rId1"/>
          <a:stretch/>
        </p:blipFill>
        <p:spPr>
          <a:xfrm>
            <a:off x="5257800" y="1828800"/>
            <a:ext cx="357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Заболева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к нижней г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онический бронх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невмосклер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мфиз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сть кровообра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йкий спазм сосу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дартери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звенная болезнь желудка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1237227857_kyrenie"/>
          <p:cNvPicPr/>
          <p:nvPr/>
        </p:nvPicPr>
        <p:blipFill>
          <a:blip r:embed="rId1"/>
          <a:stretch/>
        </p:blipFill>
        <p:spPr>
          <a:xfrm>
            <a:off x="5181480" y="1828800"/>
            <a:ext cx="351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Заболевания у детей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ов дых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ивается частота бронхитов и пневмо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к развития серьезных заболе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абачный дым влияет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мен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худшает усвояемость сах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ает витамин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ерживает солнечные УФ лу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x_29cc3e11"/>
          <p:cNvPicPr/>
          <p:nvPr/>
        </p:nvPicPr>
        <p:blipFill>
          <a:blip r:embed="rId1"/>
          <a:srcRect l="21240" t="21714" r="12688" b="28184"/>
          <a:stretch/>
        </p:blipFill>
        <p:spPr>
          <a:xfrm>
            <a:off x="5486400" y="2057400"/>
            <a:ext cx="3276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тя многие курят………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равляя  себя  и  близких  людей…..,   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2d050"/>
                </a:solidFill>
                <a:latin typeface="Arial"/>
              </a:rPr>
              <a:t>                        </a:t>
            </a:r>
            <a:r>
              <a:rPr b="0" i="1" lang="ru-RU" sz="4800" spc="-1" strike="noStrike">
                <a:solidFill>
                  <a:srgbClr val="92d050"/>
                </a:solidFill>
                <a:latin typeface="Arial"/>
              </a:rPr>
              <a:t>Я НЕ КУРЮ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 вам не советую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наших силах сделать курение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модным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2d050"/>
                </a:solidFill>
                <a:latin typeface="Arial"/>
              </a:rPr>
              <a:t>   </a:t>
            </a:r>
            <a:r>
              <a:rPr b="0" i="1" lang="ru-RU" sz="4800" spc="-1" strike="noStrike">
                <a:solidFill>
                  <a:srgbClr val="92d050"/>
                </a:solidFill>
                <a:latin typeface="Arial"/>
              </a:rPr>
              <a:t>ЖИЗНЬ И ТАК КОРОТКА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Наркома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5720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ркотики хорош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обы «уехать»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а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 реальность так бога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многообразна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чем от нее убег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no_drug"/>
          <p:cNvPicPr/>
          <p:nvPr/>
        </p:nvPicPr>
        <p:blipFill>
          <a:blip r:embed="rId1"/>
          <a:stretch/>
        </p:blipFill>
        <p:spPr>
          <a:xfrm>
            <a:off x="4952880" y="12952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Заболева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нер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плод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усные гепат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оеродные инфе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рус иммунодефиц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792327423"/>
          <p:cNvPicPr/>
          <p:nvPr/>
        </p:nvPicPr>
        <p:blipFill>
          <a:blip r:embed="rId1"/>
          <a:stretch/>
        </p:blipFill>
        <p:spPr>
          <a:xfrm>
            <a:off x="5410080" y="1371600"/>
            <a:ext cx="3400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Вред наркотик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арихуа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уменьшение веса и окружности головы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ка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гипоксия, риск выкидыша, инсульт, пороки развития мочевыводящих пу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мфетам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задержка умственного и физического развития пл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еро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ребенок-наркоман и испытает «лом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С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мутации, преждевременные роды, выкиды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олуо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роки развития, психические нару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post-2-1212210501"/>
          <p:cNvPicPr/>
          <p:nvPr/>
        </p:nvPicPr>
        <p:blipFill>
          <a:blip r:embed="rId1"/>
          <a:stretch/>
        </p:blipFill>
        <p:spPr>
          <a:xfrm>
            <a:off x="5105520" y="1219320"/>
            <a:ext cx="375444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3" descr="x_f15d2fca"/>
          <p:cNvPicPr/>
          <p:nvPr/>
        </p:nvPicPr>
        <p:blipFill>
          <a:blip r:embed="rId1"/>
          <a:stretch/>
        </p:blipFill>
        <p:spPr>
          <a:xfrm>
            <a:off x="1981080" y="228600"/>
            <a:ext cx="48006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Печальная судьба не с неба сваливае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а рождается от человеческой глупости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1235328741_russia_ru_godmolodezhi21-45-43"/>
          <p:cNvPicPr/>
          <p:nvPr/>
        </p:nvPicPr>
        <p:blipFill>
          <a:blip r:embed="rId1"/>
          <a:stretch/>
        </p:blipFill>
        <p:spPr>
          <a:xfrm>
            <a:off x="685800" y="1828800"/>
            <a:ext cx="7572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Мы хотим видеть мир без наркотиков, табака и алкоголя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5" descr="12380231"/>
          <p:cNvPicPr/>
          <p:nvPr/>
        </p:nvPicPr>
        <p:blipFill>
          <a:blip r:embed="rId1"/>
          <a:stretch/>
        </p:blipFill>
        <p:spPr>
          <a:xfrm>
            <a:off x="1752480" y="1981080"/>
            <a:ext cx="5994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2d050"/>
                </a:solidFill>
                <a:latin typeface="Arial"/>
              </a:rPr>
              <a:t>А что такое здоровье, здоровый образ жизни?</a:t>
            </a:r>
            <a:br>
              <a:rPr sz="2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Уставе Всемирной организации здравоохранения указано, что здоровье – это “состояние полного физического, душевного, духовного и социального благополучия, а не только отсутствие болезней и физических дефектов”.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 ритме большого города мы не успеваем следить за своим здоровьем. А зря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45"/>
          <p:cNvPicPr/>
          <p:nvPr/>
        </p:nvPicPr>
        <p:blipFill>
          <a:blip r:embed="rId1"/>
          <a:stretch/>
        </p:blipFill>
        <p:spPr>
          <a:xfrm>
            <a:off x="3962520" y="5562720"/>
            <a:ext cx="15555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video.yandex.ru/search.xml?text=%D0%B4%D0%B5%D1%82%D0%B8-%D0%B7%D0%B0%20%D0%B7%D0%B4%D0%BE%D1%80%D0%BE%D0%B2%D1%8B%D0%B9%20%D0%BE%D0%B1%D1%80%D0%B0%D0%B7%20%D0%B6%D0%B8%D0%B7%D0%BD%D0%B8&amp;where=all&amp;id=367668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5181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блеме здоровья сейчас уделяют большое внимание. Об этом говорится на всех уровнях, вплоть до Президен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тественно, что возросло внимание и к здоровью учащихся. Многие школьники предпочитают проводить свободное время у телевизоров и компьют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евогу вызывает рост числа юных курильщиков, массовое потребление пива, токсикомания, приобретающая всё более массовый характ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54000078950"/>
          <p:cNvPicPr/>
          <p:nvPr/>
        </p:nvPicPr>
        <p:blipFill>
          <a:blip r:embed="rId1"/>
          <a:stretch/>
        </p:blipFill>
        <p:spPr>
          <a:xfrm>
            <a:off x="5486400" y="838080"/>
            <a:ext cx="3075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2d050"/>
                </a:solidFill>
                <a:latin typeface="Arial"/>
              </a:rPr>
              <a:t>Несколько основных советов</a:t>
            </a:r>
            <a:r>
              <a:rPr b="0" i="1" lang="en-US" sz="40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. Высыпайтесь и просыпайтесь естественным образом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. Будьте готовы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. Делайте утреннюю зарядку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. Планируйте режим питания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5. Не зацикливайтесь на неудачах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6. Измените образ жизни и привычки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7. Не пренебрегайте позитивным аутотренингом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8. Ставьте перед собой реалистичные ц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Arial"/>
              </a:rPr>
              <a:t>Помните - чем больше у вас здоровых привычек, тем легче и насыщеннее будет ваша жизнь, и тем больше вас будет радовать ваше отражение в зерка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Основные пагубные привычки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коголизм                             Нарк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EDE5F220EDE0F0EAEEF2"/>
          <p:cNvPicPr/>
          <p:nvPr/>
        </p:nvPicPr>
        <p:blipFill>
          <a:blip r:embed="rId1"/>
          <a:stretch/>
        </p:blipFill>
        <p:spPr>
          <a:xfrm>
            <a:off x="5869080" y="205740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_399_auto"/>
          <p:cNvPicPr/>
          <p:nvPr/>
        </p:nvPicPr>
        <p:blipFill>
          <a:blip r:embed="rId2"/>
          <a:stretch/>
        </p:blipFill>
        <p:spPr>
          <a:xfrm>
            <a:off x="228600" y="2133720"/>
            <a:ext cx="2819520" cy="2068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003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352680" y="2819520"/>
            <a:ext cx="22100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Arial"/>
              </a:rPr>
              <a:t>Алкоголиз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коголизм делает больш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устошения, чем т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их бича, в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ятые: голод, чума и вой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. Гладст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пьем "за здоровье" друг друг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этом мы портим собственно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1096154_20080908164708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files"/>
          <p:cNvPicPr/>
          <p:nvPr/>
        </p:nvPicPr>
        <p:blipFill>
          <a:blip r:embed="rId1"/>
          <a:srcRect l="0" t="0" r="4127" b="0"/>
          <a:stretch/>
        </p:blipFill>
        <p:spPr>
          <a:xfrm>
            <a:off x="2057400" y="0"/>
            <a:ext cx="7086600" cy="5940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533520" y="60958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ьянство-мать всех пороков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Arial"/>
              </a:rPr>
              <a:t>Заболевани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полости 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клеток головного моз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губное влияние на половые цен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лабление потен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ушение менструального цик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x_fc1668a0"/>
          <p:cNvPicPr/>
          <p:nvPr/>
        </p:nvPicPr>
        <p:blipFill>
          <a:blip r:embed="rId1"/>
          <a:stretch/>
        </p:blipFill>
        <p:spPr>
          <a:xfrm>
            <a:off x="1523880" y="365760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 действием спиртного у подростков нарушается работа ритма сердца, выработка ферментов в печени, нарушается фильтрующая функция почек, ухудшаются память и 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2"/>
          <p:cNvPicPr/>
          <p:nvPr/>
        </p:nvPicPr>
        <p:blipFill>
          <a:blip r:embed="rId1"/>
          <a:stretch/>
        </p:blipFill>
        <p:spPr>
          <a:xfrm>
            <a:off x="3733920" y="290988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СЕРГЕЕВНА</cp:lastModifiedBy>
  <dcterms:modified xsi:type="dcterms:W3CDTF">2010-01-22T16:18:5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