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57AE-09BE-41EF-BDC7-3097F76A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D53E-EC3D-4EE8-992A-F5FBD0F0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58DA-9AE6-4C5A-9BDA-156FF3EE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E2F3-9D9A-4463-BC6F-778C21F8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4C7A-7FC9-4AF6-AF30-A0BC00DC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0965-0915-484A-A6A8-2EB43B89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EC3D-68AE-45A0-9F2B-4F75E192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1816-B311-4780-9955-B2616192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8008-C9BD-4CED-A02C-41907B9F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F54B-7009-409D-8E1F-3B7F8409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2FDC-3F78-4FEA-A0DE-66DD843D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C436-C5FA-4BDE-962D-EB788F10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01EF-34E8-4455-A16A-F0AE1851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7971-464D-4D37-9934-99D1F7AE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97F5-5AD2-4335-B318-412136FD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B710-C782-405F-AA94-14A40554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6161-5954-410B-A269-77DE6100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7379-4C56-455A-A6C4-006EAAE7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18A1-D691-4B24-9CCF-BB130523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4073-6B8B-41F6-A9AF-662E06C4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565D-3776-4A2D-834A-D0E8F91B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4B5E-BDA0-4A7F-A24E-184BD14C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3117-88DE-4AA6-8D0C-F5B57638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697F-A2A5-4C68-B686-9C7F5BE6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00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0053"/>
                </a:gs>
                <a:gs pos="100000">
                  <a:srgbClr val="ff006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1e78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1e78"/>
                </a:gs>
                <a:gs pos="100000">
                  <a:srgbClr val="ff006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0053"/>
                </a:gs>
                <a:gs pos="100000">
                  <a:srgbClr val="ff006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1e78"/>
                </a:gs>
                <a:gs pos="100000">
                  <a:srgbClr val="ff0066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36BD-3196-4238-88BF-2879182A44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006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0053"/>
                </a:gs>
                <a:gs pos="100000">
                  <a:srgbClr val="ff006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0053"/>
                </a:gs>
                <a:gs pos="100000">
                  <a:srgbClr val="ff006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1e78"/>
                </a:gs>
                <a:gs pos="100000">
                  <a:srgbClr val="ff006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1e78"/>
                </a:gs>
                <a:gs pos="100000">
                  <a:srgbClr val="ff006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88A4-EE9B-4BE8-8656-192D758C05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Arial Black"/>
              </a:rPr>
              <a:t>Электронное строение атома</a:t>
            </a: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5300640"/>
            <a:ext cx="44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боту выполни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подаватель высшей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пелкина Вероника Михайл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524720" y="4005360"/>
            <a:ext cx="109548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798480"/>
            <a:ext cx="8785440" cy="5189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Квантовые числа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гнитное орбитальное квантовое чис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ответствует распределению АО в пространстве около яд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яет количество А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имает значения -1, 0, +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Квантовые числа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гнитное спиновое квантовое число характеризует чисто квантовое свойство электр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собственный момент импульса электр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бсолютное значение спина = 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ция спина на ось может иметь лишь два значения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+1/2;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-1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Принципы заполнения электронных оболочек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цип минимальной энерг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нцип Пау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ило Хун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ило Клечковск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03280" y="4365720"/>
            <a:ext cx="1333440" cy="1885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067280" y="4365720"/>
            <a:ext cx="1314360" cy="1873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732720" y="4365720"/>
            <a:ext cx="137448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Несоблюдение принципа Паули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 несоблюдении принципа Паули на АО в атоме были бы электроны с одинаковыми значениями всех квантовых чисел, т.е. в ячейки могут попасть электроны с параллельными спин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Несоблюдение правила Хунда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несоблюдении правила Хунда суммарный спин не будет максимальным, а это соответствует большему значению энергии атома. Такое состояние считается неустойчивым, что соответствует возбуждённому состоянию ато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Правило Клечковского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олнение электронами орбиталей в атоме происходит в порядке возрастания суммы главного и орбитального квантовых чисел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 + l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При одинаковой сумме раньше заполняется орбиталь с меньшим значением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Электронные семейства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элементы, если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олняется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под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элементы, если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олняется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под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элементы, если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олняется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под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элементы, если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олняется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под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Электронная формула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ктронная формула атома химического элемента показывает как распределяются электроны в атоме, учитывая их характеистику квантовыми числ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9 Mt мейтнерий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s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s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d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p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s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d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p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s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f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d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p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s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f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d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Электронная формула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6201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Ранние модели строения атома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динг с изюмо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»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902-1904 г. Дж. Томсон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анетарна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1907 г. Э. Резерфорд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дель Бор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1913 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372360" y="1557360"/>
            <a:ext cx="2535120" cy="1476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227640" y="4724280"/>
            <a:ext cx="25923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«</a:t>
            </a: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Провал</a:t>
            </a: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»</a:t>
            </a: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 электрона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томах некоторых элементов электрон с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подуровня внешнео энергетического уровня переходит на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подуровень предвнешнего энергетического уровня. Идёт выигрыш в энергии. Атом считается симметричным, т.е. либо большинство электронов становятся неспаренными либо спаренны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Задание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000" y="4221000"/>
            <a:ext cx="813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ределить элемен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84360" y="2924280"/>
          <a:ext cx="8161200" cy="1106280"/>
        </p:xfrm>
        <a:graphic>
          <a:graphicData uri="http://schemas.openxmlformats.org/drawingml/2006/table">
            <a:tbl>
              <a:tblPr/>
              <a:tblGrid>
                <a:gridCol w="2720880"/>
                <a:gridCol w="2719440"/>
                <a:gridCol w="2720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; 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; 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; 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684360" y="1557360"/>
            <a:ext cx="8064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ставить электронные и электронно-графические формулы элемен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55640" y="4941720"/>
          <a:ext cx="8064360" cy="1295640"/>
        </p:xfrm>
        <a:graphic>
          <a:graphicData uri="http://schemas.openxmlformats.org/drawingml/2006/table">
            <a:tbl>
              <a:tblPr/>
              <a:tblGrid>
                <a:gridCol w="2687760"/>
                <a:gridCol w="2689200"/>
                <a:gridCol w="2687400"/>
              </a:tblGrid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s</a:t>
                      </a:r>
                      <a:r>
                        <a:rPr b="0" lang="en-US" sz="2800" spc="-1" strike="noStrike" baseline="4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d</a:t>
                      </a:r>
                      <a:r>
                        <a:rPr b="0" lang="en-US" sz="2800" spc="-1" strike="noStrike" baseline="40000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s</a:t>
                      </a:r>
                      <a:r>
                        <a:rPr b="0" lang="en-US" sz="2800" spc="-1" strike="noStrike" baseline="4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p</a:t>
                      </a:r>
                      <a:r>
                        <a:rPr b="0" lang="en-US" sz="2800" spc="-1" strike="noStrike" baseline="4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s</a:t>
                      </a:r>
                      <a:r>
                        <a:rPr b="0" lang="en-US" sz="2800" spc="-1" strike="noStrike" baseline="4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d</a:t>
                      </a:r>
                      <a:r>
                        <a:rPr b="0" lang="en-US" sz="2800" spc="-1" strike="noStrike" baseline="40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Вопросы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2349000"/>
            <a:ext cx="22320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ри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1484280"/>
            <a:ext cx="860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звать химический элемент и написать электронную формул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0" y="2997360"/>
            <a:ext cx="3311280" cy="1866600"/>
            <a:chOff x="0" y="2997360"/>
            <a:chExt cx="3311280" cy="1866600"/>
          </a:xfrm>
        </p:grpSpPr>
        <p:sp>
          <p:nvSpPr>
            <p:cNvPr id="156" name=""/>
            <p:cNvSpPr/>
            <p:nvPr/>
          </p:nvSpPr>
          <p:spPr>
            <a:xfrm>
              <a:off x="0" y="4495680"/>
              <a:ext cx="3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14360" y="2997360"/>
              <a:ext cx="2896920" cy="1744920"/>
              <a:chOff x="414360" y="2997360"/>
              <a:chExt cx="2896920" cy="174492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895320" y="2997360"/>
                <a:ext cx="2415960" cy="420480"/>
                <a:chOff x="895320" y="2997360"/>
                <a:chExt cx="2415960" cy="4204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895320" y="2997360"/>
                  <a:ext cx="483480" cy="420480"/>
                </a:xfrm>
                <a:prstGeom prst="rect">
                  <a:avLst/>
                </a:prstGeom>
                <a:solidFill>
                  <a:srgbClr val="ff3f3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378800" y="2997360"/>
                  <a:ext cx="483480" cy="420480"/>
                </a:xfrm>
                <a:prstGeom prst="rect">
                  <a:avLst/>
                </a:prstGeom>
                <a:solidFill>
                  <a:srgbClr val="ff3f3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861560" y="2997360"/>
                  <a:ext cx="483480" cy="420480"/>
                </a:xfrm>
                <a:prstGeom prst="rect">
                  <a:avLst/>
                </a:prstGeom>
                <a:solidFill>
                  <a:srgbClr val="ff3f3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345040" y="2997360"/>
                  <a:ext cx="483480" cy="420480"/>
                </a:xfrm>
                <a:prstGeom prst="rect">
                  <a:avLst/>
                </a:prstGeom>
                <a:solidFill>
                  <a:srgbClr val="ff3f3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827800" y="2997360"/>
                  <a:ext cx="483480" cy="420480"/>
                </a:xfrm>
                <a:prstGeom prst="rect">
                  <a:avLst/>
                </a:prstGeom>
                <a:solidFill>
                  <a:srgbClr val="ff3f3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963720" y="3056040"/>
                <a:ext cx="27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Wingdings 3"/>
                    <a:ea typeface="Wingdings 3"/>
                  </a:rPr>
                  <a:t>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965160" y="3835440"/>
                <a:ext cx="1585440" cy="906840"/>
                <a:chOff x="965160" y="3835440"/>
                <a:chExt cx="1585440" cy="90684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965160" y="4313520"/>
                  <a:ext cx="482040" cy="428760"/>
                  <a:chOff x="965160" y="4313520"/>
                  <a:chExt cx="482040" cy="42876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965160" y="4313520"/>
                    <a:ext cx="482040" cy="418320"/>
                  </a:xfrm>
                  <a:prstGeom prst="rect">
                    <a:avLst/>
                  </a:prstGeom>
                  <a:solidFill>
                    <a:srgbClr val="ff3f3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965160" y="4374000"/>
                    <a:ext cx="4820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?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1999080" y="3835440"/>
                  <a:ext cx="551520" cy="428760"/>
                  <a:chOff x="1999080" y="3835440"/>
                  <a:chExt cx="551520" cy="4287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999080" y="3835440"/>
                    <a:ext cx="551520" cy="418320"/>
                  </a:xfrm>
                  <a:prstGeom prst="rect">
                    <a:avLst/>
                  </a:prstGeom>
                  <a:solidFill>
                    <a:srgbClr val="ff3f3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2067120" y="3895920"/>
                    <a:ext cx="4831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Wingdings 3"/>
                        <a:ea typeface="Wingdings 3"/>
                      </a:rPr>
                      <a:t>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 flipV="1">
                  <a:off x="1447200" y="4253760"/>
                  <a:ext cx="828360" cy="299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653840" y="3892320"/>
                  <a:ext cx="413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137320" y="4253760"/>
                  <a:ext cx="413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s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 flipH="1" flipV="1">
                <a:off x="1585800" y="3416400"/>
                <a:ext cx="689040" cy="419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963720" y="3414600"/>
                <a:ext cx="41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20640" y="3056040"/>
                <a:ext cx="346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414360" y="2997360"/>
                <a:ext cx="0" cy="1736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76360" y="3068640"/>
                <a:ext cx="27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Wingdings 3"/>
                    <a:ea typeface="Wingdings 3"/>
                  </a:rPr>
                  <a:t>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"/>
          <p:cNvSpPr/>
          <p:nvPr/>
        </p:nvSpPr>
        <p:spPr>
          <a:xfrm>
            <a:off x="2916360" y="4076640"/>
            <a:ext cx="2824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ри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508720" y="2421000"/>
            <a:ext cx="3399840" cy="2384280"/>
            <a:chOff x="5508720" y="2421000"/>
            <a:chExt cx="3399840" cy="2384280"/>
          </a:xfrm>
        </p:grpSpPr>
        <p:sp>
          <p:nvSpPr>
            <p:cNvPr id="182" name=""/>
            <p:cNvSpPr/>
            <p:nvPr/>
          </p:nvSpPr>
          <p:spPr>
            <a:xfrm>
              <a:off x="6084720" y="2421000"/>
              <a:ext cx="2231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66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I </a:t>
              </a: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вариан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92600" y="2997360"/>
              <a:ext cx="483840" cy="420480"/>
            </a:xfrm>
            <a:prstGeom prst="rect">
              <a:avLst/>
            </a:prstGeom>
            <a:solidFill>
              <a:srgbClr val="ff3f3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76800" y="2997360"/>
              <a:ext cx="483840" cy="420480"/>
            </a:xfrm>
            <a:prstGeom prst="rect">
              <a:avLst/>
            </a:prstGeom>
            <a:solidFill>
              <a:srgbClr val="ff3f3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59560" y="2997360"/>
              <a:ext cx="482040" cy="420480"/>
            </a:xfrm>
            <a:prstGeom prst="rect">
              <a:avLst/>
            </a:prstGeom>
            <a:solidFill>
              <a:srgbClr val="ff3f3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41960" y="2997360"/>
              <a:ext cx="483840" cy="420480"/>
            </a:xfrm>
            <a:prstGeom prst="rect">
              <a:avLst/>
            </a:prstGeom>
            <a:solidFill>
              <a:srgbClr val="ff3f3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24720" y="2997360"/>
              <a:ext cx="483840" cy="420480"/>
            </a:xfrm>
            <a:prstGeom prst="rect">
              <a:avLst/>
            </a:prstGeom>
            <a:solidFill>
              <a:srgbClr val="ff3f3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61000" y="3056040"/>
              <a:ext cx="27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6562440" y="4313160"/>
              <a:ext cx="482400" cy="429120"/>
              <a:chOff x="6562440" y="4313160"/>
              <a:chExt cx="482400" cy="429120"/>
            </a:xfrm>
          </p:grpSpPr>
          <p:sp>
            <p:nvSpPr>
              <p:cNvPr id="190" name=""/>
              <p:cNvSpPr/>
              <p:nvPr/>
            </p:nvSpPr>
            <p:spPr>
              <a:xfrm>
                <a:off x="6562440" y="4313160"/>
                <a:ext cx="482400" cy="419040"/>
              </a:xfrm>
              <a:prstGeom prst="rect">
                <a:avLst/>
              </a:prstGeom>
              <a:solidFill>
                <a:srgbClr val="ff3f3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562440" y="4374000"/>
                <a:ext cx="48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?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7596000" y="3835440"/>
              <a:ext cx="551880" cy="428760"/>
              <a:chOff x="7596000" y="3835440"/>
              <a:chExt cx="551880" cy="428760"/>
            </a:xfrm>
          </p:grpSpPr>
          <p:sp>
            <p:nvSpPr>
              <p:cNvPr id="193" name=""/>
              <p:cNvSpPr/>
              <p:nvPr/>
            </p:nvSpPr>
            <p:spPr>
              <a:xfrm>
                <a:off x="7596000" y="3835440"/>
                <a:ext cx="551880" cy="418680"/>
              </a:xfrm>
              <a:prstGeom prst="rect">
                <a:avLst/>
              </a:prstGeom>
              <a:solidFill>
                <a:srgbClr val="ff3f3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664040" y="3895920"/>
                <a:ext cx="483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Wingdings 3"/>
                    <a:ea typeface="Wingdings 3"/>
                  </a:rPr>
                  <a:t>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 flipV="1">
              <a:off x="7045200" y="4254120"/>
              <a:ext cx="828360" cy="299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251480" y="3892680"/>
              <a:ext cx="41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34240" y="4254480"/>
              <a:ext cx="4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7182720" y="3416400"/>
              <a:ext cx="688680" cy="419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61000" y="3414600"/>
              <a:ext cx="41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17920" y="3056040"/>
              <a:ext cx="3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011640" y="2997360"/>
              <a:ext cx="0" cy="1736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73640" y="3068640"/>
              <a:ext cx="27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08720" y="4437000"/>
              <a:ext cx="34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24360" y="3068640"/>
              <a:ext cx="27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195640" y="4797360"/>
            <a:ext cx="3399840" cy="1808280"/>
            <a:chOff x="2195640" y="4797360"/>
            <a:chExt cx="3399840" cy="1808280"/>
          </a:xfrm>
        </p:grpSpPr>
        <p:sp>
          <p:nvSpPr>
            <p:cNvPr id="206" name=""/>
            <p:cNvSpPr/>
            <p:nvPr/>
          </p:nvSpPr>
          <p:spPr>
            <a:xfrm>
              <a:off x="3179520" y="4797360"/>
              <a:ext cx="483840" cy="420840"/>
            </a:xfrm>
            <a:prstGeom prst="rect">
              <a:avLst/>
            </a:prstGeom>
            <a:solidFill>
              <a:srgbClr val="ff3f3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63720" y="4797360"/>
              <a:ext cx="483840" cy="420840"/>
            </a:xfrm>
            <a:prstGeom prst="rect">
              <a:avLst/>
            </a:prstGeom>
            <a:solidFill>
              <a:srgbClr val="ff3f3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46480" y="4797360"/>
              <a:ext cx="482040" cy="420840"/>
            </a:xfrm>
            <a:prstGeom prst="rect">
              <a:avLst/>
            </a:prstGeom>
            <a:solidFill>
              <a:srgbClr val="ff3f3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28880" y="4797360"/>
              <a:ext cx="483840" cy="420840"/>
            </a:xfrm>
            <a:prstGeom prst="rect">
              <a:avLst/>
            </a:prstGeom>
            <a:solidFill>
              <a:srgbClr val="ff3f3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11640" y="4797360"/>
              <a:ext cx="483840" cy="420840"/>
            </a:xfrm>
            <a:prstGeom prst="rect">
              <a:avLst/>
            </a:prstGeom>
            <a:solidFill>
              <a:srgbClr val="ff3f3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55840" y="4829040"/>
              <a:ext cx="27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3249360" y="6113520"/>
              <a:ext cx="482400" cy="429120"/>
              <a:chOff x="3249360" y="6113520"/>
              <a:chExt cx="482400" cy="429120"/>
            </a:xfrm>
          </p:grpSpPr>
          <p:sp>
            <p:nvSpPr>
              <p:cNvPr id="213" name=""/>
              <p:cNvSpPr/>
              <p:nvPr/>
            </p:nvSpPr>
            <p:spPr>
              <a:xfrm>
                <a:off x="3249360" y="6113520"/>
                <a:ext cx="482400" cy="419040"/>
              </a:xfrm>
              <a:prstGeom prst="rect">
                <a:avLst/>
              </a:prstGeom>
              <a:solidFill>
                <a:srgbClr val="ff3f3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249360" y="6174360"/>
                <a:ext cx="48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?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4282920" y="5635440"/>
              <a:ext cx="552240" cy="428760"/>
              <a:chOff x="4282920" y="5635440"/>
              <a:chExt cx="552240" cy="428760"/>
            </a:xfrm>
          </p:grpSpPr>
          <p:sp>
            <p:nvSpPr>
              <p:cNvPr id="216" name=""/>
              <p:cNvSpPr/>
              <p:nvPr/>
            </p:nvSpPr>
            <p:spPr>
              <a:xfrm>
                <a:off x="4282920" y="5635440"/>
                <a:ext cx="552240" cy="419040"/>
              </a:xfrm>
              <a:prstGeom prst="rect">
                <a:avLst/>
              </a:prstGeom>
              <a:solidFill>
                <a:srgbClr val="ff3f3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50960" y="5695920"/>
                <a:ext cx="48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Wingdings 3"/>
                    <a:ea typeface="Wingdings 3"/>
                  </a:rPr>
                  <a:t>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 flipV="1">
              <a:off x="3732120" y="6054480"/>
              <a:ext cx="828360" cy="299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38400" y="5692680"/>
              <a:ext cx="41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421160" y="6054840"/>
              <a:ext cx="41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870360" y="5216400"/>
              <a:ext cx="688320" cy="419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55840" y="5189400"/>
              <a:ext cx="41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05200" y="4856040"/>
              <a:ext cx="34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698560" y="4797360"/>
              <a:ext cx="0" cy="1736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60560" y="4829040"/>
              <a:ext cx="27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95640" y="6237360"/>
              <a:ext cx="34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63840" y="4829040"/>
              <a:ext cx="27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95840" y="4829040"/>
              <a:ext cx="27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Arial Black"/>
              </a:rPr>
              <a:t>Спасибо за внимание!</a:t>
            </a:r>
            <a:endParaRPr b="1" lang="en-US" sz="5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148360" y="306864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Современная модель атома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том – электронейтральная част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дро атома – положительно заряж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лектроны – отрицательно заряж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лектроны вращаются вокруг ядра с определённой скорост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лектроны имеют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войственную приро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24360" y="4371840"/>
            <a:ext cx="27003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Состав ядра атома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тоны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сса = 1, заряд = +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йтроны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сса = 1, заряд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ряд ядра определяется количеством прото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личество протонов соответствует порядковому номеру элемента в ПСХ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Изотопы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отопы – совокупность атомов, имеющих одинаковое число протонов, но различающихся количеством нейтронов в ядре ато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отопы различны атомной массой (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 нейтронов определяется по формуле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= A – Z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ядковый номер элем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372360" y="0"/>
            <a:ext cx="277164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Частицы микромира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пускулярно-волновой дуал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ктрон – частица с массой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9*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-28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скорость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м/сек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ряд 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ксперименты в 1927 г. подтвердили явления дифракции и интерферен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Важные понятия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Электронное облако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– пространство около ядра атома, где сосредоточены вся масса электрона и электронная плотнос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Атомная орбиталь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– часть э.о., где сосредоточено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&gt;90%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электронной плотнос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адиус АО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– расстояние от ядра атома до максимальной электронной плотнос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Квантовые числа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вантовые числа описывают состояние электрона в ато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авное квантовое число, хар-т общую энергию электрона данного уровня, номер периода в ПСХЭ соотв-т к-ву энергетических уровней в атоме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имает целые знач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 Black"/>
              </a:rPr>
              <a:t>Квантовые числа</a:t>
            </a:r>
            <a:endParaRPr b="1" lang="en-US" sz="4400" spc="-1" strike="noStrike">
              <a:solidFill>
                <a:srgbClr val="0066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бочное квантовое число; уточняет запас энергии электрона на энергетическом уровне, хар-т связь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ядром, а так же форму АО. Значения от 0 д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=0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уровень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а орбитали сфериче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=1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уровень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ёмна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а орбит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=2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уровень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олее сложна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а орбита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=3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уровень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ее сложна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а орбит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мер э.у. соответствует к-ву подуровней на данном энергетическом уров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8:38:20Z</dcterms:created>
  <dc:creator>Одмин</dc:creator>
  <dc:description/>
  <dc:language>en-US</dc:language>
  <cp:lastModifiedBy>Одмин</cp:lastModifiedBy>
  <dcterms:modified xsi:type="dcterms:W3CDTF">2011-11-24T15:53:36Z</dcterms:modified>
  <cp:revision>11</cp:revision>
  <dc:subject/>
  <dc:title>Электронное строение атома</dc:title>
</cp:coreProperties>
</file>