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270D-2162-489A-8409-C4D4860EE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2B7A-B63D-4F66-9521-0C08E455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9065-0D39-4C9B-BA6B-92109394F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8DA0-8E87-453A-AD89-287EFF687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CC780-B628-4495-A85F-24744A2CD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32598-1C7A-4D49-8348-C0ED2284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04CE1F-605A-4D86-818C-E8937455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7D268-E372-4E83-B154-F09634CE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B989BB-70C1-4C84-B34D-07D153BA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CE8CD-6B91-4A4F-A2C4-09A64025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B8813-2A51-4156-AE01-F1A626CE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A625-4215-444B-B964-EB53E6EB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FEB7DB-A3F7-4694-B267-C992EDAA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DBDA16-9A00-4248-AC48-6F71FC72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CDD625-F0C6-4ABA-9DF3-1517B039A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13D29-ED7C-461A-AE1E-DBEC18F39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C2DF72-0701-4A61-9605-83BB0DA7A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6962-E5B5-4163-A3A2-77C7CF6A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14A9-8EDE-4164-B37D-A3FB1B3B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6E7F-6A69-4E7A-9EAA-3DC7E853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B91F-ABF3-4636-9DBA-45C6D9A3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F46B-4F40-403F-87FA-5B88B08B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29B1-AC46-4914-B1BE-7B43FCDA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7F06-EFA3-46EB-AFFD-4D15B6FC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ABF1-9A1B-4F7B-8668-D9BCD8B930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900B-05EC-463C-9B21-518CDA8576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К моменту </a:t>
            </a:r>
            <a:r>
              <a:rPr b="0" lang="en-US" sz="4000" spc="-1" strike="noStrike" u="sng">
                <a:solidFill>
                  <a:srgbClr val="e3e3ff"/>
                </a:solidFill>
                <a:uFillTx/>
                <a:latin typeface="Arial"/>
              </a:rPr>
              <a:t>кульминации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Пора нам подходить.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И пик воображения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Нам надо покорить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262560" y="3406680"/>
            <a:ext cx="2881440" cy="3451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451640" y="981000"/>
            <a:ext cx="5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Чем авторские загадки похожи на народные?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ложены знания о природе и  челове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них есть метафо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Что нового узнали на уроке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тафора -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ем авторские загадки похожи на народны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Кульминац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очка наивысшего напряжения в текс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262560" y="3406680"/>
            <a:ext cx="288144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179280" y="1484280"/>
          <a:ext cx="8785080" cy="5257440"/>
        </p:xfrm>
        <a:graphic>
          <a:graphicData uri="http://schemas.openxmlformats.org/drawingml/2006/table">
            <a:tbl>
              <a:tblPr/>
              <a:tblGrid>
                <a:gridCol w="2928600"/>
                <a:gridCol w="2927880"/>
                <a:gridCol w="2928600"/>
              </a:tblGrid>
              <a:tr h="26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cc"/>
                          </a:solidFill>
                          <a:latin typeface="Arial"/>
                        </a:rPr>
                        <a:t>побасен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каз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загад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скороговор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пословиц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еш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Литературное лото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68360" y="1413000"/>
          <a:ext cx="8229600" cy="481644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25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рока-белобо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шку ворила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ток кормила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e3e3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ы пирог съел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e3e3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т, не я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e3e3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 ещё хочешь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e3e3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очу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чить- ум точить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3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воронила ворона воронёнка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некотором царстве, в некотором государстве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1403280" y="3284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теш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84720" y="3429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побасе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59640" y="2349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послов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6920" y="5084640"/>
            <a:ext cx="13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5589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скороговор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40360" y="57340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сказ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72360" y="393372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59640" y="4508640"/>
            <a:ext cx="129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Загад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раткое замысловатое описание предмета или я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ревний вид устного народного творче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ля ума заряд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Ход конём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авильный ход, который обычно приводит к побед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Благинина Елена Александровн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03-1989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усская поэтес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Чем авторские загадки похожи на народные?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тафора – перенос свойства одного предмета на друг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ньки-серебряные ко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сулька-серебряный кинж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чка-толстая Фед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Исследуем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сть ли метафора в народных загадках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нь-белая кор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очь-чёрная кор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винка-игол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Хвостик-нит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елая кошка-рассв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4:13:31Z</dcterms:created>
  <dc:creator>Олег</dc:creator>
  <dc:description/>
  <dc:language>en-US</dc:language>
  <cp:lastModifiedBy>Олег</cp:lastModifiedBy>
  <dcterms:modified xsi:type="dcterms:W3CDTF">2011-01-13T15:01:26Z</dcterms:modified>
  <cp:revision>12</cp:revision>
  <dc:subject/>
  <dc:title>К моменту кульминации Пора нам подходить. И пик воображения Нам надо покорить.</dc:title>
</cp:coreProperties>
</file>