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6C6A-ECA9-47AF-BBC7-F913755B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2A0-1CBC-49F6-B7B1-66F3610D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41AF-812D-41A5-8522-781F1671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F5A9-A75F-416D-B198-B2891904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AA7BF-99CA-45C0-8D39-9BCC8777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1175D-6A57-46B5-9E32-A83E7358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77030-820E-4EA5-A377-4BF2CC7E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C3366-4121-465C-88E7-56354994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F517F-C3C0-446D-BA70-04C16A13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54EE2-11ED-482F-8346-0A7EF068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60E62-0599-4646-B45B-D9F11E52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ECB-1DB2-4D23-BE2E-257CF361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13DC3-5679-42BD-8E96-AA077A7E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11CAE-7F7F-47DC-83F0-C3697044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11B8D-6B94-4212-BDE5-67D52A15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8E4DB-D3C3-4BED-804C-227371CC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58F84-B146-4CEB-854E-0FCD5B43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B33-B0C1-4380-AC59-4EBFD5B0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C7C-DDB5-4C42-89E4-D0641B28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080E-CE42-4974-AEA8-0AB6AEC1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F78-22C6-4538-A21D-E98073B0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CCAE-F09E-49E4-ACBC-D4326AD3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99E3-C8CF-4E8E-9233-38E57CE5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EAB-E2DF-450E-B121-2CDF05D6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C71F-4172-477D-B311-76ED853E0A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F062-1B91-409D-AD31-D2B6E1DCF8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 моменту </a:t>
            </a:r>
            <a:r>
              <a:rPr b="0" lang="en-US" sz="4000" spc="-1" strike="noStrike" u="sng">
                <a:solidFill>
                  <a:srgbClr val="e3e3ff"/>
                </a:solidFill>
                <a:uFillTx/>
                <a:latin typeface="Arial"/>
              </a:rPr>
              <a:t>кульминации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ора нам подходить.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 пик воображения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Нам надо покорить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262560" y="3406680"/>
            <a:ext cx="2881440" cy="3451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451640" y="981000"/>
            <a:ext cx="5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Чем авторские загадки похожи на народные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ложены знания о природе и  челове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их есть метаф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Что нового узнали на уроке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тафора -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м авторские загадки похожи на народны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ульминац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чка наивысшего напряжения в текс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262560" y="3406680"/>
            <a:ext cx="288144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79280" y="1484280"/>
          <a:ext cx="8785080" cy="5257440"/>
        </p:xfrm>
        <a:graphic>
          <a:graphicData uri="http://schemas.openxmlformats.org/drawingml/2006/table">
            <a:tbl>
              <a:tblPr/>
              <a:tblGrid>
                <a:gridCol w="2928600"/>
                <a:gridCol w="2927880"/>
                <a:gridCol w="2928600"/>
              </a:tblGrid>
              <a:tr h="26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cc"/>
                          </a:solidFill>
                          <a:latin typeface="Arial"/>
                        </a:rPr>
                        <a:t>побасен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каз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загад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скороговор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пословиц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ш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Литературное лото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8360" y="1413000"/>
          <a:ext cx="8229600" cy="481644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рока-белобо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шку ворила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ток кормил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ы пирог съел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, не 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 ещё хочешь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3e3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очу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ить- ум точить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воронила ворона воронёнк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некотором царстве, в некотором государств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403280" y="3284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теш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3429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побас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234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послов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5084640"/>
            <a:ext cx="13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5589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скороговор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40360" y="57340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сказ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93372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450864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аткое замысловатое описание предмета или 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ревний вид устного народного твор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ума заряд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Ход конё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ьный ход, который обычно приводит к побе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Благинина Елена Александровн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03-1989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усская поэте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Чем авторские загадки похожи на народные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тафора – перенос свойства одного предмета на друг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ьки-серебряные ко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сулька-серебряный кинж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чка-толстая Фед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Исследуе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ть ли метафора в народных загадка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нь-белая кор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чь-чёрная кор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инка-иго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востик-ни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лая кошка-расс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4:13:31Z</dcterms:created>
  <dc:creator>Олег</dc:creator>
  <dc:description/>
  <dc:language>en-US</dc:language>
  <cp:lastModifiedBy>Олег</cp:lastModifiedBy>
  <dcterms:modified xsi:type="dcterms:W3CDTF">2011-01-13T15:01:26Z</dcterms:modified>
  <cp:revision>12</cp:revision>
  <dc:subject/>
  <dc:title>К моменту кульминации Пора нам подходить. И пик воображения Нам надо покорить.</dc:title>
</cp:coreProperties>
</file>