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18A2-0FE5-4FD0-BABC-6A0317280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C624-9F60-4173-BC9E-A9388C7EB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6CA4-B9AE-464F-9589-9E94FEADC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98F2-F98E-434A-84DE-E8440E856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4CEA-52C8-4B6C-9047-9FC2A187E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BE1C-56FD-4A50-8968-7221267CB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1D8F-F707-4FCF-882E-5C7FCF638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C4E2-4774-4AA5-971D-91649BE92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39DF-E476-401B-A376-03117F6EE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02EB-8AC4-4116-83A5-8695CD19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28CD-A6F4-46EB-929A-E66E0168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0072-1498-4219-8C45-1F3446A1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F8F55-CC03-4C9C-80AB-81B527548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60087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Макетировани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870120"/>
            <a:ext cx="9144000" cy="51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311120" y="0"/>
            <a:ext cx="6526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 теперь попробуй сам создать макет здания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357120"/>
            <a:ext cx="9144000" cy="60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900000"/>
            <a:ext cx="914400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4T18:36:40Z</dcterms:created>
  <dc:creator>Елена</dc:creator>
  <dc:description/>
  <dc:language>en-US</dc:language>
  <cp:lastModifiedBy>Елена</cp:lastModifiedBy>
  <dcterms:modified xsi:type="dcterms:W3CDTF">2011-11-24T19:06:28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