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D04-D6DF-4FC5-99B4-FE9A28EF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4A8-7CC3-46EA-8678-7EC21285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341-A18F-4E2D-AB56-08CA242D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E84-7D60-49D8-AE03-7F102E20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469-0B72-404C-9F72-D91D25BE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D68-B55F-499C-9F70-92693496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C40-432F-4C72-8C6C-9027E325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16A-43B1-4BF7-AACF-3E6CC6F1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3C3-A020-4DB1-B8B0-12A3C1BE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DA7-3BEA-4EF1-8085-9A52C9E5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950-1FC4-482C-ABDC-15A086E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660-0EC3-4261-82B5-4233D73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88D5-62C4-4834-8195-3A96E4BA5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6008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акетиров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70120"/>
            <a:ext cx="914400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11120" y="0"/>
            <a:ext cx="65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теперь попробуй сам создать макет здания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8:36:40Z</dcterms:created>
  <dc:creator>Елена</dc:creator>
  <dc:description/>
  <dc:language>en-US</dc:language>
  <cp:lastModifiedBy>Елена</cp:lastModifiedBy>
  <dcterms:modified xsi:type="dcterms:W3CDTF">2011-11-24T19:06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