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1F0-ED80-4AEF-9D49-F455EFDE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68B-DC13-4B9A-82A3-5D5CE58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B34-427E-4B91-B00C-8D1FADF0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716-302B-4918-9A69-6B7C6247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03-D4DF-4E79-98FB-BD262A7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B51-859D-499E-BB6A-F435183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233-D97B-4701-835A-16EDB1F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07E-C1A9-43E7-A5E1-4C81329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97E-73FA-43FD-A215-DC6FBD90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784-E0C7-4D40-9012-EB3C603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652-5DEF-47BF-AC79-551DF1F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D24-3265-438A-BFD1-D0DEADE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DCB-0168-4A90-AAC4-8A2653F6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est.geoman.ru/forest/item/f00/s01/e0001952/pic/0000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36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alina.ru/index.php?option=com_datsogallery&amp;Itemid=49&amp;func=wmark&amp;mid=44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2/image313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453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746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ВЯ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3840" y="907920"/>
            <a:ext cx="5601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Я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471680"/>
            <a:ext cx="6120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7 из 20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05080"/>
            <a:ext cx="5616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ЛЬ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87280" y="952560"/>
            <a:ext cx="6193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16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954000"/>
            <a:ext cx="4127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33480"/>
            <a:ext cx="60483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781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24 из 64000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47640" y="1197000"/>
            <a:ext cx="5904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3 из 51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484280"/>
            <a:ext cx="5235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197000"/>
            <a:ext cx="55580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5 из 5340"/>
          <p:cNvPicPr/>
          <p:nvPr/>
        </p:nvPicPr>
        <p:blipFill>
          <a:blip r:embed="rId1"/>
          <a:stretch/>
        </p:blipFill>
        <p:spPr>
          <a:xfrm>
            <a:off x="1403280" y="1281240"/>
            <a:ext cx="5688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43 из 64000"/>
          <p:cNvPicPr/>
          <p:nvPr/>
        </p:nvPicPr>
        <p:blipFill>
          <a:blip r:embed="rId1"/>
          <a:stretch/>
        </p:blipFill>
        <p:spPr>
          <a:xfrm>
            <a:off x="1692360" y="1341360"/>
            <a:ext cx="57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28 из 64000"/>
          <p:cNvPicPr/>
          <p:nvPr/>
        </p:nvPicPr>
        <p:blipFill>
          <a:blip r:embed="rId1"/>
          <a:stretch/>
        </p:blipFill>
        <p:spPr>
          <a:xfrm>
            <a:off x="1619280" y="1413000"/>
            <a:ext cx="5472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03:20Z</dcterms:created>
  <dc:creator>ouruser</dc:creator>
  <dc:description/>
  <dc:language>en-US</dc:language>
  <cp:lastModifiedBy>ouruser</cp:lastModifiedBy>
  <dcterms:modified xsi:type="dcterms:W3CDTF">2011-11-24T14:02:45Z</dcterms:modified>
  <cp:revision>14</cp:revision>
  <dc:subject/>
  <dc:title>Слайд 1</dc:title>
</cp:coreProperties>
</file>