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3593-52FB-4C68-A68F-4C3D5B35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D73E-A920-48A4-B355-B45D3839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BE86-23B9-4699-8DC6-D782BB82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3E7E-9C3A-4CF7-84C8-32F270AC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3915-BA3B-452C-9965-9384C004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A8AD-3C7D-465E-9D34-AB9A386A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1AEA-F995-4E46-951B-40F18672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9142-06D3-4624-A9A2-AF9104BF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4723-3B14-48C7-A1F4-8FEB8E98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4B98-A169-4718-AE19-CE704EF1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6482-F186-4D8B-984D-696C1F18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5D88-742B-4758-ADFB-F9383D74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FCC2-108F-4519-9FD2-32770BFE4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orest.geoman.ru/forest/item/f00/s01/e0001952/pic/000001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ardenin.ru/img-encikloped_les_hoza/image361.jp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kalina.ru/index.php?option=com_datsogallery&amp;Itemid=49&amp;func=wmark&amp;mid=441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ardenin.ru/img-encikloped_les_hoza2/image313.jp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ardenin.ru/img-encikloped_les_hoza/image453.jpg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ДЕРЕВЬ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574668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ВЯ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63840" y="907920"/>
            <a:ext cx="56019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ЯС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87280" y="1471680"/>
            <a:ext cx="612000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ОС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Картинка 7 из 209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405080"/>
            <a:ext cx="561672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ОЛЬ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87280" y="952560"/>
            <a:ext cx="61930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1672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СОС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24000" y="954000"/>
            <a:ext cx="41274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КЛЁ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Картинка 10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933480"/>
            <a:ext cx="604836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БЕРЁ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578160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ДУ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Картинка 24 из 64000">
            <a:hlinkClick r:id="rId1"/>
          </p:cNvPr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547640" y="1197000"/>
            <a:ext cx="590400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РЯБ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а 23 из 5136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484280"/>
            <a:ext cx="52354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ЛИ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Картинка 24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1197000"/>
            <a:ext cx="555804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ТОП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Картинка 5 из 5340"/>
          <p:cNvPicPr/>
          <p:nvPr/>
        </p:nvPicPr>
        <p:blipFill>
          <a:blip r:embed="rId1"/>
          <a:stretch/>
        </p:blipFill>
        <p:spPr>
          <a:xfrm>
            <a:off x="1403280" y="1281240"/>
            <a:ext cx="568800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КАШТ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Картинка 43 из 64000"/>
          <p:cNvPicPr/>
          <p:nvPr/>
        </p:nvPicPr>
        <p:blipFill>
          <a:blip r:embed="rId1"/>
          <a:stretch/>
        </p:blipFill>
        <p:spPr>
          <a:xfrm>
            <a:off x="1692360" y="1341360"/>
            <a:ext cx="57722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И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Картинка 28 из 64000"/>
          <p:cNvPicPr/>
          <p:nvPr/>
        </p:nvPicPr>
        <p:blipFill>
          <a:blip r:embed="rId1"/>
          <a:stretch/>
        </p:blipFill>
        <p:spPr>
          <a:xfrm>
            <a:off x="1619280" y="1413000"/>
            <a:ext cx="54720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5:03:20Z</dcterms:created>
  <dc:creator>ouruser</dc:creator>
  <dc:description/>
  <dc:language>en-US</dc:language>
  <cp:lastModifiedBy>ouruser</cp:lastModifiedBy>
  <dcterms:modified xsi:type="dcterms:W3CDTF">2011-11-24T14:02:45Z</dcterms:modified>
  <cp:revision>14</cp:revision>
  <dc:subject/>
  <dc:title>Слайд 1</dc:title>
</cp:coreProperties>
</file>