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7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9.wmf" ContentType="image/x-wmf"/>
  <Override PartName="/ppt/media/image5.jpeg" ContentType="image/jpeg"/>
  <Override PartName="/ppt/media/image2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0.png" ContentType="image/png"/>
  <Override PartName="/ppt/media/image15.gif" ContentType="image/gif"/>
  <Override PartName="/ppt/media/image14.gif" ContentType="image/gif"/>
  <Override PartName="/ppt/media/image12.jpeg" ContentType="image/jpeg"/>
  <Override PartName="/ppt/media/image3.wmf" ContentType="image/x-wmf"/>
  <Override PartName="/ppt/media/image4.jpeg" ContentType="image/jpeg"/>
  <Override PartName="/ppt/media/image16.png" ContentType="image/pn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842-B1FC-42BB-B16B-F3F1BC3B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62A-9975-4656-87CE-B8D66BF5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A87-B8FC-4EE2-9F0B-3DDCFE2D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CB4-2595-4A05-92F5-3B6DD4A3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32BE-230D-40C7-BDB8-C234CBAD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81C5-9B51-4430-88A0-30905A78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FD9D-8437-4150-8E35-0E97736F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C291-26B2-44EA-9742-5E100F90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7D4C-C865-42F7-8A8A-371B2663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8764-04B7-4E84-892E-BB5E277C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1CE7-8E21-4786-BBA2-ACA1E9A2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194-0785-44EB-BC0D-B3F7DC2F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8080-01B1-40C1-8757-F6EEC7F9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B6A0-ADD3-48B3-A8D9-17B09AD2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6008-FB0D-45E4-849E-88949E66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9A8E-84FD-4682-9EB4-58F81EF5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1BD0-E799-4010-9087-501B651A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A84-ECB5-40B2-9E0C-D09C8F6B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924-32ED-4BE4-AB9F-B2A5AD93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64B-4722-4BA0-8BFA-5CFA19E0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ABA-04DA-4EBD-85B8-B5C4CC8D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BE7-AE44-4593-B119-E7C96669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7F6-6A3E-4A0E-AC4D-61EF52CB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DD0-D6D3-42AB-BF04-5F791CCA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ABD6-1A92-4188-AF90-CAF8E9D487F7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9EA9-4FA8-4251-986F-92E05D0D1665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hyperlink" Target="http://www.youtube.com/watch?v=OGCGrI8jXaY&amp;NR=1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Учитель кричит"/>
          <p:cNvPicPr/>
          <p:nvPr/>
        </p:nvPicPr>
        <p:blipFill>
          <a:blip r:embed="rId1"/>
          <a:stretch/>
        </p:blipFill>
        <p:spPr>
          <a:xfrm>
            <a:off x="6804000" y="189000"/>
            <a:ext cx="2084400" cy="23400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684360" y="242100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этика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нфликтных ситуациях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206532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732720" y="3573360"/>
            <a:ext cx="2179440" cy="30211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66" name=""/>
          <p:cNvSpPr/>
          <p:nvPr/>
        </p:nvSpPr>
        <p:spPr>
          <a:xfrm rot="708000">
            <a:off x="2484360" y="3573000"/>
            <a:ext cx="3813120" cy="354240"/>
          </a:xfrm>
          <a:prstGeom prst="leftRightArrow">
            <a:avLst>
              <a:gd name="adj1" fmla="val 50000"/>
              <a:gd name="adj2" fmla="val 21428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2205000"/>
            <a:ext cx="432108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уации (конфликты) поведения, поступков, возникающие по поводу нарушения студентом правил внешнего вида, поведения в колледже, на занятиях, вне колледжа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51120" y="330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836640"/>
            <a:ext cx="5977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уации (конфликты) деятельности, возникающие по поводу выполнения студентом учебных заданий, успеваемости, внеучебной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653000"/>
            <a:ext cx="5975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уации (конфликты) отношений, возникающие в сфере эмоциональных личностных отношений студентов и преподавателей, в сфере их общения в процессе педагоги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6560" y="189000"/>
            <a:ext cx="88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едагогических ситуаций и конфли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50920" y="260280"/>
            <a:ext cx="4664520" cy="6264000"/>
            <a:chOff x="250920" y="260280"/>
            <a:chExt cx="4664520" cy="6264000"/>
          </a:xfrm>
        </p:grpSpPr>
        <p:cxnSp>
          <p:nvCxnSpPr>
            <p:cNvPr id="173" name="_s82975"/>
            <p:cNvCxnSpPr>
              <a:stCxn id="174" idx="1"/>
              <a:endCxn id="175" idx="2"/>
            </p:cNvCxnSpPr>
            <p:nvPr/>
          </p:nvCxnSpPr>
          <p:spPr>
            <a:xfrm rot="10800000">
              <a:off x="1645560" y="1004760"/>
              <a:ext cx="478800" cy="37926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76" name="_s82973"/>
            <p:cNvCxnSpPr>
              <a:stCxn id="177" idx="1"/>
              <a:endCxn id="175" idx="2"/>
            </p:cNvCxnSpPr>
            <p:nvPr/>
          </p:nvCxnSpPr>
          <p:spPr>
            <a:xfrm rot="10800000">
              <a:off x="1645560" y="1004760"/>
              <a:ext cx="478800" cy="5016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78" name="_s82971"/>
            <p:cNvCxnSpPr>
              <a:stCxn id="179" idx="1"/>
              <a:endCxn id="175" idx="2"/>
            </p:cNvCxnSpPr>
            <p:nvPr/>
          </p:nvCxnSpPr>
          <p:spPr>
            <a:xfrm rot="10800000">
              <a:off x="1645560" y="1004760"/>
              <a:ext cx="478800" cy="26046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0" name="_s82970"/>
            <p:cNvCxnSpPr>
              <a:stCxn id="181" idx="1"/>
              <a:endCxn id="175" idx="2"/>
            </p:cNvCxnSpPr>
            <p:nvPr/>
          </p:nvCxnSpPr>
          <p:spPr>
            <a:xfrm rot="10800000">
              <a:off x="1645560" y="1004760"/>
              <a:ext cx="478800" cy="1597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2" name="_s82969"/>
            <p:cNvCxnSpPr>
              <a:stCxn id="183" idx="1"/>
              <a:endCxn id="175" idx="2"/>
            </p:cNvCxnSpPr>
            <p:nvPr/>
          </p:nvCxnSpPr>
          <p:spPr>
            <a:xfrm rot="10800000">
              <a:off x="1645560" y="1004760"/>
              <a:ext cx="478800" cy="5882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75" name="_s82965"/>
            <p:cNvSpPr/>
            <p:nvPr/>
          </p:nvSpPr>
          <p:spPr>
            <a:xfrm>
              <a:off x="250920" y="260280"/>
              <a:ext cx="2790720" cy="745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иды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конфликто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82966"/>
            <p:cNvSpPr/>
            <p:nvPr/>
          </p:nvSpPr>
          <p:spPr>
            <a:xfrm>
              <a:off x="2124720" y="1197000"/>
              <a:ext cx="2790720" cy="79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 способам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х разреш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82967"/>
            <p:cNvSpPr/>
            <p:nvPr/>
          </p:nvSpPr>
          <p:spPr>
            <a:xfrm>
              <a:off x="2124720" y="2204280"/>
              <a:ext cx="279072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 природ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зникнов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82968"/>
            <p:cNvSpPr/>
            <p:nvPr/>
          </p:nvSpPr>
          <p:spPr>
            <a:xfrm>
              <a:off x="2124720" y="3213720"/>
              <a:ext cx="279072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 направленност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здейств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82972"/>
            <p:cNvSpPr/>
            <p:nvPr/>
          </p:nvSpPr>
          <p:spPr>
            <a:xfrm>
              <a:off x="2124720" y="5517360"/>
              <a:ext cx="2790720" cy="1006920"/>
            </a:xfrm>
            <a:prstGeom prst="roundRect">
              <a:avLst>
                <a:gd name="adj" fmla="val 1659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 количеству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частник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82974"/>
            <p:cNvSpPr/>
            <p:nvPr/>
          </p:nvSpPr>
          <p:spPr>
            <a:xfrm>
              <a:off x="2124720" y="4292640"/>
              <a:ext cx="2790720" cy="100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 степен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ражен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292720" y="1052640"/>
            <a:ext cx="2519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агонис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1557360"/>
            <a:ext cx="2519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ромисс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88000" y="1268280"/>
            <a:ext cx="5047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1557360"/>
            <a:ext cx="50472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2133720"/>
            <a:ext cx="36720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циально-организацио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11080" y="2565360"/>
            <a:ext cx="20217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моцион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2520" y="3213000"/>
            <a:ext cx="18525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ертик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11800" y="3645000"/>
            <a:ext cx="2076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горизонт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92720" y="4365720"/>
            <a:ext cx="136692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88000" y="2349360"/>
            <a:ext cx="504720" cy="216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88000" y="3429000"/>
            <a:ext cx="504720" cy="21744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2565360"/>
            <a:ext cx="504720" cy="216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8000" y="3645000"/>
            <a:ext cx="504720" cy="28728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4724280"/>
            <a:ext cx="1295280" cy="4352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20000" y="5084640"/>
            <a:ext cx="1944720" cy="4352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2720" y="5589720"/>
            <a:ext cx="158436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0360" y="5950080"/>
            <a:ext cx="158436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80360" y="6237360"/>
            <a:ext cx="1439640" cy="43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92720" y="4365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крыт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4724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крыт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20360" y="508464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тенци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716360" y="4581000"/>
            <a:ext cx="576360" cy="1429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16360" y="4797360"/>
            <a:ext cx="1440000" cy="14436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16360" y="4941720"/>
            <a:ext cx="2303640" cy="50508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5516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360" y="5589720"/>
            <a:ext cx="16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нутрилич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1640" y="5950080"/>
            <a:ext cx="142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жлич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51640" y="62373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жгруп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643280" y="5805360"/>
            <a:ext cx="649440" cy="14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6021360"/>
            <a:ext cx="1295640" cy="144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6237360"/>
            <a:ext cx="2737080" cy="287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онфли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5840" y="1773000"/>
            <a:ext cx="7886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ают четыре этап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икновение объективных пpотивоpечи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знание конфликтной ситуац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pеход к конфликтным действия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азpешение конфлик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намика конфли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1052640"/>
            <a:ext cx="3959280" cy="540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052640"/>
            <a:ext cx="3600360" cy="4081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1052640"/>
            <a:ext cx="2808360" cy="285912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1052640"/>
            <a:ext cx="2016000" cy="1850760"/>
          </a:xfrm>
          <a:prstGeom prst="ellipse">
            <a:avLst/>
          </a:prstGeom>
          <a:gradFill rotWithShape="0">
            <a:gsLst>
              <a:gs pos="0">
                <a:srgbClr val="800000"/>
              </a:gs>
              <a:gs pos="50000">
                <a:srgbClr val="3b0000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1773360"/>
            <a:ext cx="180036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тивореч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92360" y="299736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озн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47640" y="4221000"/>
            <a:ext cx="187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5373720"/>
            <a:ext cx="187164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реш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фли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2268360" y="2133360"/>
            <a:ext cx="270000" cy="687240"/>
          </a:xfrm>
          <a:prstGeom prst="upArrow">
            <a:avLst>
              <a:gd name="adj1" fmla="val 50000"/>
              <a:gd name="adj2" fmla="val 63633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2268360" y="3499920"/>
            <a:ext cx="270000" cy="685800"/>
          </a:xfrm>
          <a:prstGeom prst="upArrow">
            <a:avLst>
              <a:gd name="adj1" fmla="val 50000"/>
              <a:gd name="adj2" fmla="val 635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2268360" y="4652640"/>
            <a:ext cx="270000" cy="687240"/>
          </a:xfrm>
          <a:prstGeom prst="upArrow">
            <a:avLst>
              <a:gd name="adj1" fmla="val 50000"/>
              <a:gd name="adj2" fmla="val 63633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1499400"/>
            <a:ext cx="453708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зникновение объективных противореч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Осознание конфликтной ситу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pеход к конфликтным действ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решение конфли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460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онфли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496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снове любого конфликта лежит пpотивоpеч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pотивоpечие - это двигатель пpогpесса, pазвити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огично ли избега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? Пpеодолевая pазногласия, pазличия позиций или взглядов, 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нимаемся на качественно более высокий уpовень развит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я педагогическая мудрость проявляется во втоp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е динамики конфликта - осознании ситу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 пеpед вами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кт эмоциональны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где пpосто не существу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а конфликта, а есть личностная непpиязнь, не нужно оценива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уацию как конфликтную. Hеобходимо позаботиться о том, чтоб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pаботали механизмы психической защиты или стpажи душев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pовья: мудpость, понимание дpугого и свобода выбоpа пеpежи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налицо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ивное пpотивоpеч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где есть объект конфлик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менно тот, в котоpым вы увидели воспитательный потенциал), в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иваете ситуацию как конфликтную констpуктивную и пеpеходите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ктному повед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конфликтным поведением”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ы понимаем не агpессию 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имное давление, а целенапpавленное педагогическое воздействие педагог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оспитанника. Оно включает в себя пpодуманную систему акций как д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давателя , так и студента. Эта система конфликтного повед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pедставляет собой pазpаботанные и pеализованные известные ст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дения в ситуации pазногласия. Будет ли конфликт иметь констpуктивн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дестpуктивное воздействие на студента, зависит от пpавильн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енного преподавателем пpотивоpечия (есть ли в конфликте делимый 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лимый объект конфликта) и от оптимально выбpанного стиля пове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ий конфликт - это объективное пpотивоpечие, вызванн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оответствием имеющегося уpовня личностного или индивидуаль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азвития и pеальных ситуаций учебно-воспитательного пpоцесс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ющееся для его участников своеобpазным воспитательным потенциало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pеодоление (pазpешение) котоpого пеpеводит преподавателя и студента 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е высокий уpовень личностного и индивидуального pазвит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608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онфли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68360" y="404640"/>
            <a:ext cx="432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…мы забываем,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наши студенты 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щё всё таки … большей частью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0360" y="2492280"/>
            <a:ext cx="52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Д Е Т И 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24360" y="0"/>
            <a:ext cx="4565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89480" cy="68580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3564000" y="907920"/>
            <a:ext cx="55800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(др.-греч.παιδαγωγός, «ведущ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ёнка»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ей Гре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, который ухаживал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инских семейств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мальчиками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илетнего возрас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бязанности педагога лежа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рана воспитанника от физических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ых опасностей, а д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упления мальчика в школу—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ментарное обучение грамо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должен был сопровожд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го воспитанника в школу и б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тлучно при нём во время вы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дома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6626160" cy="4608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700360" y="1773360"/>
            <a:ext cx="418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 это  ВСЁ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9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967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2434680" y="2239920"/>
            <a:ext cx="46094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 внимание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1197000"/>
            <a:ext cx="7086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́тика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6200" y="2565000"/>
            <a:ext cx="8029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(греч.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ἠθικό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от др.-греч. ἦθος — этос, «нрав, обычай»)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ософское исследование морали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1512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́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оначально смыслом слова этос было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местное жилище и правила, порождён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местным общежитие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ы, сплачивающие общество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одоление индивидуализма и агрессивности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мере развития общества к этом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ыслу добавля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ение сове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радани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жб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ысла жизн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ожертвования и т. 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640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ая этика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екс поведе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ющий нравственный характе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 взаимоотношений между людьм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е вытекают из и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ой деятельности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79280" y="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́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́ль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4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ат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ali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ающийся нрав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ин из основных способов норматив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уляции действий человека в обществ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я форма общественного сознания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общественных отнош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2614320" cy="4103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1713240" cy="23745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250920" y="5176440"/>
            <a:ext cx="2881080" cy="1465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ем Риме и в Средние века студентами назывались любые лица, занятые процессом позн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596360" y="4149720"/>
            <a:ext cx="1330200" cy="208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1330560" cy="2087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32720" y="2421000"/>
            <a:ext cx="215568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93240" y="6093000"/>
            <a:ext cx="142128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ле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791800">
            <a:off x="5373000" y="4138920"/>
            <a:ext cx="1342800" cy="354240"/>
          </a:xfrm>
          <a:prstGeom prst="leftRightArrow">
            <a:avLst>
              <a:gd name="adj1" fmla="val 50000"/>
              <a:gd name="adj2" fmla="val 75462"/>
            </a:avLst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386200">
            <a:off x="2411280" y="3499920"/>
            <a:ext cx="1343160" cy="354240"/>
          </a:xfrm>
          <a:prstGeom prst="leftRightArrow">
            <a:avLst>
              <a:gd name="adj1" fmla="val 50000"/>
              <a:gd name="adj2" fmla="val 75482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3080" y="1916280"/>
            <a:ext cx="132984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90160" y="4653000"/>
            <a:ext cx="1752120" cy="459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84360" y="189000"/>
            <a:ext cx="2160360" cy="16239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43" name=""/>
          <p:cNvSpPr/>
          <p:nvPr/>
        </p:nvSpPr>
        <p:spPr>
          <a:xfrm rot="2367000">
            <a:off x="2484000" y="1916280"/>
            <a:ext cx="1343160" cy="353880"/>
          </a:xfrm>
          <a:prstGeom prst="leftRightArrow">
            <a:avLst>
              <a:gd name="adj1" fmla="val 50000"/>
              <a:gd name="adj2" fmla="val 75559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227640" y="189000"/>
            <a:ext cx="2735280" cy="1969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 rot="19751400">
            <a:off x="5724000" y="1989000"/>
            <a:ext cx="1343160" cy="354240"/>
          </a:xfrm>
          <a:prstGeom prst="leftRightArrow">
            <a:avLst>
              <a:gd name="adj1" fmla="val 50000"/>
              <a:gd name="adj2" fmla="val 754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50000">
              <a:srgbClr val="174675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7367" t="9331" r="4528" b="6665"/>
          <a:stretch/>
        </p:blipFill>
        <p:spPr>
          <a:xfrm>
            <a:off x="3635280" y="2637000"/>
            <a:ext cx="1987560" cy="2233440"/>
          </a:xfrm>
          <a:prstGeom prst="rect">
            <a:avLst/>
          </a:prstGeom>
          <a:ln w="0">
            <a:noFill/>
          </a:ln>
        </p:spPr>
      </p:pic>
      <p:sp>
        <p:nvSpPr>
          <p:cNvPr id="147" name="Music"/>
          <p:cNvSpPr/>
          <p:nvPr/>
        </p:nvSpPr>
        <p:spPr>
          <a:xfrm rot="20343000">
            <a:off x="394920" y="1268280"/>
            <a:ext cx="1521000" cy="1594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hoto"/>
          <p:cNvSpPr/>
          <p:nvPr/>
        </p:nvSpPr>
        <p:spPr>
          <a:xfrm>
            <a:off x="2124000" y="692280"/>
            <a:ext cx="1305000" cy="1145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ound"/>
          <p:cNvSpPr/>
          <p:nvPr/>
        </p:nvSpPr>
        <p:spPr>
          <a:xfrm rot="8729400">
            <a:off x="5795280" y="691920"/>
            <a:ext cx="1368360" cy="1368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1584360" cy="216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372360" y="2349360"/>
            <a:ext cx="2233440" cy="1433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0" t="53022" r="0" b="0"/>
          <a:stretch/>
        </p:blipFill>
        <p:spPr>
          <a:xfrm>
            <a:off x="3059280" y="4968720"/>
            <a:ext cx="3600360" cy="188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4762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13890"/>
          <a:stretch/>
        </p:blipFill>
        <p:spPr>
          <a:xfrm>
            <a:off x="1116000" y="476280"/>
            <a:ext cx="2952720" cy="35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rcRect l="0" t="41326" r="0" b="0"/>
          <a:stretch/>
        </p:blipFill>
        <p:spPr>
          <a:xfrm>
            <a:off x="3203640" y="2637000"/>
            <a:ext cx="2462040" cy="2014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404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подаватель 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Большие смайлики"/>
          <p:cNvPicPr/>
          <p:nvPr/>
        </p:nvPicPr>
        <p:blipFill>
          <a:blip r:embed="rId3"/>
          <a:stretch/>
        </p:blipFill>
        <p:spPr>
          <a:xfrm>
            <a:off x="1835280" y="3645000"/>
            <a:ext cx="2226960" cy="2157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Большие смайлики"/>
          <p:cNvPicPr/>
          <p:nvPr/>
        </p:nvPicPr>
        <p:blipFill>
          <a:blip r:embed="rId4"/>
          <a:stretch/>
        </p:blipFill>
        <p:spPr>
          <a:xfrm>
            <a:off x="5435640" y="3645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Большие смайлики"/>
          <p:cNvPicPr/>
          <p:nvPr/>
        </p:nvPicPr>
        <p:blipFill>
          <a:blip r:embed="rId5"/>
          <a:stretch/>
        </p:blipFill>
        <p:spPr>
          <a:xfrm>
            <a:off x="6804000" y="450864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653080" y="34290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д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4720" y="5805360"/>
            <a:ext cx="24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ециал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75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0866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́кт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445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от лат. conflictus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кновение и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рьба, враждебное отнош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кт — ситуация, в которой каждая 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н стремится занять позицию, несовместиму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отивоположную по отношению к интерес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ой сторо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кт — особое взаимодействие индивид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, объединений, которое возникает при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овместимых взглядах, позициях и интерес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32:23Z</dcterms:created>
  <dc:creator>Михаил</dc:creator>
  <dc:description/>
  <dc:language>en-US</dc:language>
  <cp:lastModifiedBy>Михаил</cp:lastModifiedBy>
  <dcterms:modified xsi:type="dcterms:W3CDTF">2011-11-24T18:17:24Z</dcterms:modified>
  <cp:revision>5</cp:revision>
  <dc:subject/>
  <dc:title>Педагогическая этика в конфликтных ситуациях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