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9.wmf" ContentType="image/x-wmf"/>
  <Override PartName="/ppt/media/image5.jpeg" ContentType="image/jpeg"/>
  <Override PartName="/ppt/media/image2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12.jpeg" ContentType="image/jpeg"/>
  <Override PartName="/ppt/media/image3.wmf" ContentType="image/x-wmf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444-348A-4144-BE52-73F78CEE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094-BC9C-40F7-B968-E5D834E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312-939E-48D0-8554-2E3D9CFA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112-0F7C-4FBC-8E4E-0A58D12B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7EB-0C39-4A28-8987-440CA73D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E86B-A322-40CD-B028-8274E32C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A47B-92AD-40B8-8670-8A169AC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D80-769E-4BF2-8EFF-2BAD3E36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4B3C-24A5-4082-8131-9DF3506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F31-FE02-4FC3-832D-BEA5B675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26D0-764D-4789-9996-26CCA60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ECB-8266-49F5-AC5D-A8D9506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4759-2ABA-43AB-9A83-89F09A8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044-41EC-498B-986B-2970C5C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E16-0968-4F64-80FE-4E0DE7B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A1BE-E8EA-4567-845B-13813D65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307F-3A24-4536-8124-7D2A8B2C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8C9-05C6-4CCE-99E8-46517BFA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93E-8CDB-4DDA-9141-BC6AE5A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5D4-54C5-4894-A712-194897C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10D-F704-4122-BD3A-E30C3EE1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5A7-E396-4C1C-BCD0-8BFB0C7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2D5-51D1-4FB2-8583-CFAECAE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B0C-1995-40A6-A087-26AC869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D9F1-1645-47F3-A10D-64BFDC954EF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CF6-DA23-4660-87C4-E4EA4C34F36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hyperlink" Target="http://www.youtube.com/watch?v=OGCGrI8jXaY&amp;NR=1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Учитель кричит"/>
          <p:cNvPicPr/>
          <p:nvPr/>
        </p:nvPicPr>
        <p:blipFill>
          <a:blip r:embed="rId1"/>
          <a:stretch/>
        </p:blipFill>
        <p:spPr>
          <a:xfrm>
            <a:off x="6804000" y="189000"/>
            <a:ext cx="2084400" cy="2340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684360" y="242100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этик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фликтных ситуаци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06532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2179440" cy="3021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708000">
            <a:off x="2484360" y="3573000"/>
            <a:ext cx="3813120" cy="354240"/>
          </a:xfrm>
          <a:prstGeom prst="leftRightArrow">
            <a:avLst>
              <a:gd name="adj1" fmla="val 50000"/>
              <a:gd name="adj2" fmla="val 21428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2205000"/>
            <a:ext cx="43210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поведения, поступков, возникающие по поводу нарушения студентом правил внешнего вида, поведения в колледже, на занятиях, вне колледжа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51120" y="330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836640"/>
            <a:ext cx="597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деятельности, возникающие по поводу выполнения студентом учебных заданий, успеваемости, вне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653000"/>
            <a:ext cx="5975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отношений, возникающие в сфере эмоциональных личностных отношений студентов и преподавателей, в сфере их общения в процессе педагог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6560" y="18900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едагогических ситуаций и конфли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50920" y="260280"/>
            <a:ext cx="4664520" cy="6264000"/>
            <a:chOff x="250920" y="260280"/>
            <a:chExt cx="4664520" cy="6264000"/>
          </a:xfrm>
        </p:grpSpPr>
        <p:cxnSp>
          <p:nvCxnSpPr>
            <p:cNvPr id="173" name="_s82975"/>
            <p:cNvCxnSpPr>
              <a:stCxn id="174" idx="1"/>
              <a:endCxn id="175" idx="2"/>
            </p:cNvCxnSpPr>
            <p:nvPr/>
          </p:nvCxnSpPr>
          <p:spPr>
            <a:xfrm rot="10800000">
              <a:off x="1645560" y="1004760"/>
              <a:ext cx="478800" cy="3792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6" name="_s82973"/>
            <p:cNvCxnSpPr>
              <a:stCxn id="177" idx="1"/>
              <a:endCxn id="175" idx="2"/>
            </p:cNvCxnSpPr>
            <p:nvPr/>
          </p:nvCxnSpPr>
          <p:spPr>
            <a:xfrm rot="10800000">
              <a:off x="1645560" y="1004760"/>
              <a:ext cx="478800" cy="5016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8" name="_s82971"/>
            <p:cNvCxnSpPr>
              <a:stCxn id="179" idx="1"/>
              <a:endCxn id="175" idx="2"/>
            </p:cNvCxnSpPr>
            <p:nvPr/>
          </p:nvCxnSpPr>
          <p:spPr>
            <a:xfrm rot="10800000">
              <a:off x="1645560" y="1004760"/>
              <a:ext cx="478800" cy="2604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0" name="_s82970"/>
            <p:cNvCxnSpPr>
              <a:stCxn id="181" idx="1"/>
              <a:endCxn id="175" idx="2"/>
            </p:cNvCxnSpPr>
            <p:nvPr/>
          </p:nvCxnSpPr>
          <p:spPr>
            <a:xfrm rot="10800000">
              <a:off x="1645560" y="1004760"/>
              <a:ext cx="478800" cy="1597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2" name="_s82969"/>
            <p:cNvCxnSpPr>
              <a:stCxn id="183" idx="1"/>
              <a:endCxn id="175" idx="2"/>
            </p:cNvCxnSpPr>
            <p:nvPr/>
          </p:nvCxnSpPr>
          <p:spPr>
            <a:xfrm rot="10800000">
              <a:off x="1645560" y="1004760"/>
              <a:ext cx="478800" cy="588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75" name="_s82965"/>
            <p:cNvSpPr/>
            <p:nvPr/>
          </p:nvSpPr>
          <p:spPr>
            <a:xfrm>
              <a:off x="250920" y="260280"/>
              <a:ext cx="2790720" cy="74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ид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фликт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82966"/>
            <p:cNvSpPr/>
            <p:nvPr/>
          </p:nvSpPr>
          <p:spPr>
            <a:xfrm>
              <a:off x="2124720" y="1197000"/>
              <a:ext cx="279072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способа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разре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82967"/>
            <p:cNvSpPr/>
            <p:nvPr/>
          </p:nvSpPr>
          <p:spPr>
            <a:xfrm>
              <a:off x="2124720" y="2204280"/>
              <a:ext cx="279072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природ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никнов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82968"/>
            <p:cNvSpPr/>
            <p:nvPr/>
          </p:nvSpPr>
          <p:spPr>
            <a:xfrm>
              <a:off x="2124720" y="3213720"/>
              <a:ext cx="279072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направленнос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действ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82972"/>
            <p:cNvSpPr/>
            <p:nvPr/>
          </p:nvSpPr>
          <p:spPr>
            <a:xfrm>
              <a:off x="2124720" y="5517360"/>
              <a:ext cx="2790720" cy="1006920"/>
            </a:xfrm>
            <a:prstGeom prst="roundRect">
              <a:avLst>
                <a:gd name="adj" fmla="val 1659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количеству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астник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82974"/>
            <p:cNvSpPr/>
            <p:nvPr/>
          </p:nvSpPr>
          <p:spPr>
            <a:xfrm>
              <a:off x="2124720" y="4292640"/>
              <a:ext cx="2790720" cy="100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степен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аже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292720" y="1052640"/>
            <a:ext cx="2519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агонис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1557360"/>
            <a:ext cx="2519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ромис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88000" y="1268280"/>
            <a:ext cx="5047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1557360"/>
            <a:ext cx="504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133720"/>
            <a:ext cx="3672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циально-организаци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11080" y="2565360"/>
            <a:ext cx="20217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моцион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2520" y="3213000"/>
            <a:ext cx="18525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ртик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11800" y="3645000"/>
            <a:ext cx="2076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горизонт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4365720"/>
            <a:ext cx="13669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88000" y="2349360"/>
            <a:ext cx="504720" cy="216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88000" y="3429000"/>
            <a:ext cx="504720" cy="21744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2565360"/>
            <a:ext cx="504720" cy="216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3645000"/>
            <a:ext cx="504720" cy="2872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4724280"/>
            <a:ext cx="129528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5084640"/>
            <a:ext cx="194472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5589720"/>
            <a:ext cx="1584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5950080"/>
            <a:ext cx="1584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37360"/>
            <a:ext cx="143964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4365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кры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472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кры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360" y="508464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тенци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16360" y="4581000"/>
            <a:ext cx="576360" cy="1429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4797360"/>
            <a:ext cx="1440000" cy="14436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4941720"/>
            <a:ext cx="2303640" cy="50508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551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360" y="558972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илич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1640" y="5950080"/>
            <a:ext cx="14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лич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62373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643280" y="5805360"/>
            <a:ext cx="649440" cy="14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6021360"/>
            <a:ext cx="1295640" cy="144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6237360"/>
            <a:ext cx="2737080" cy="287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5840" y="1773000"/>
            <a:ext cx="7886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ают четыре этап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объективных пpотивоpеч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конфликтной ситуац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pеход к конфликтным действия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зpешение конфлик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052640"/>
            <a:ext cx="3959280" cy="540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052640"/>
            <a:ext cx="3600360" cy="4081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052640"/>
            <a:ext cx="2808360" cy="285912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052640"/>
            <a:ext cx="2016000" cy="185076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50000">
                <a:srgbClr val="3b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1773360"/>
            <a:ext cx="180036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тиворе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299736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221000"/>
            <a:ext cx="18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5373720"/>
            <a:ext cx="1871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ре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фли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2268360" y="2133360"/>
            <a:ext cx="270000" cy="687240"/>
          </a:xfrm>
          <a:prstGeom prst="upArrow">
            <a:avLst>
              <a:gd name="adj1" fmla="val 50000"/>
              <a:gd name="adj2" fmla="val 6363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2268360" y="3499920"/>
            <a:ext cx="270000" cy="685800"/>
          </a:xfrm>
          <a:prstGeom prst="upArrow">
            <a:avLst>
              <a:gd name="adj1" fmla="val 50000"/>
              <a:gd name="adj2" fmla="val 63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2268360" y="4652640"/>
            <a:ext cx="270000" cy="687240"/>
          </a:xfrm>
          <a:prstGeom prst="upArrow">
            <a:avLst>
              <a:gd name="adj1" fmla="val 50000"/>
              <a:gd name="adj2" fmla="val 6363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1499400"/>
            <a:ext cx="45370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никновение объективных противореч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сознание конфликт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pеход к конфликтным дей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решение конфли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60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6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любого конфликта лежит пpотивоpеч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отивоpечие - это двигатель пpогpесса, pазвити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огично ли избег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? Пpеодолевая pазногласия, pазличия позиций или взглядов, 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нимаемся на качественно более высокий уpовень развит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педагогическая мудрость проявляется во втоp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е динамики конфликта - осознании ситу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 пеpед вам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 эмоциональны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пpосто не существу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а конфликта, а есть личностная непpиязнь, не нужно оценив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ю как конфликтную. Hеобходимо позаботиться о том, чтоб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pаботали механизмы психической защиты или стpажи душев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pовья: мудpость, понимание дpугого и свобода выбоpа пеpежи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налиц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ивное пpотивоpеч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есть объект конфлик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менно тот, в котоpым вы увидели воспитательный потенциал), в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иваете ситуацию как конфликтную констpуктивную и пеpеходите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ному повед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конфликтным поведением”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ы понимаем не агpессию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ное давление, а целенапpавленное педагогическое воздействие педагог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оспитанника. Оно включает в себя пpодуманную систему акций как д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я , так и студента. Эта система конфликтного повед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едставляет собой pазpаботанные и pеализованные известные ст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я в ситуации pазногласия. Будет ли конфликт иметь констpуктив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дестpуктивное воздействие на студента, зависит от пpавиль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енного преподавателем пpотивоpечия (есть ли в конфликте делимый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лимый объект конфликта) и от оптимально выбpанного стиля 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конфликт - это объективное пpотивоpечие, вызван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ответствием имеющегося уpовня личностного или индивидуаль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звития и pеальных ситуаций учебно-воспитательного пpоцесс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щееся для его участников своеобpазным воспитательным потенциал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еодоление (pазpешение) котоpого пеpеводит преподавателя и студента 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высокий уpовень личностного и индивидуального pазви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608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404640"/>
            <a:ext cx="432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…мы забываем,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наши студенты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щё всё таки … большей часть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0360" y="2492280"/>
            <a:ext cx="52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Д Е Т И 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24360" y="0"/>
            <a:ext cx="4565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89480" cy="6858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3564000" y="907920"/>
            <a:ext cx="55800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(др.-греч.παιδαγωγός, «ведущ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ка»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й Гре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, который ухаживал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инских семейств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альчикам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илетнего возрас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бязанности педагога леж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а воспитанника от физически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х опасностей, а 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упления мальчика в школу—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арное обучение грамо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лжен был сопровож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го воспитанника в школу и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тлучно при нём во время вы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дома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608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00360" y="1773360"/>
            <a:ext cx="41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 это  ВСЁ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6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434680" y="2239920"/>
            <a:ext cx="4609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 внимание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6200" y="2565000"/>
            <a:ext cx="8029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(греч.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ἠθικό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т др.-греч. ἦθος — этос, «нрав, обычай»)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софское исследование морали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1512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начально смыслом слова этос было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ое жилище и правила, порождё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ым общежитие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, сплачивающие обще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одоление индивидуализма и агрессивн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мере развития общества к это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у доба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сове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рада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а жизн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жертвования и т. 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этика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екс повед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ющий нравственный харак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 взаимоотношений между людь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е вытекают из и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ой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79280" y="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́ль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ат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ali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ющийся нрав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основных способов норматив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ции действий человека в об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я форма общественного сознания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общественных отнош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2614320" cy="410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1713240" cy="2374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50920" y="5176440"/>
            <a:ext cx="2881080" cy="146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м Риме и в Средние века студентами назывались любые лица, занятые процессом позн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596360" y="41497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1330560" cy="2087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32720" y="2421000"/>
            <a:ext cx="21556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93240" y="6093000"/>
            <a:ext cx="14212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791800">
            <a:off x="5373000" y="4138920"/>
            <a:ext cx="1342800" cy="354240"/>
          </a:xfrm>
          <a:prstGeom prst="leftRightArrow">
            <a:avLst>
              <a:gd name="adj1" fmla="val 50000"/>
              <a:gd name="adj2" fmla="val 7546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386200">
            <a:off x="2411280" y="3499920"/>
            <a:ext cx="1343160" cy="354240"/>
          </a:xfrm>
          <a:prstGeom prst="leftRightArrow">
            <a:avLst>
              <a:gd name="adj1" fmla="val 50000"/>
              <a:gd name="adj2" fmla="val 75482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3080" y="1916280"/>
            <a:ext cx="132984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90160" y="4653000"/>
            <a:ext cx="1752120" cy="459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84360" y="189000"/>
            <a:ext cx="2160360" cy="1623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43" name=""/>
          <p:cNvSpPr/>
          <p:nvPr/>
        </p:nvSpPr>
        <p:spPr>
          <a:xfrm rot="2367000">
            <a:off x="2484000" y="1916280"/>
            <a:ext cx="1343160" cy="353880"/>
          </a:xfrm>
          <a:prstGeom prst="leftRightArrow">
            <a:avLst>
              <a:gd name="adj1" fmla="val 50000"/>
              <a:gd name="adj2" fmla="val 75559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227640" y="189000"/>
            <a:ext cx="2735280" cy="1969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 rot="19751400">
            <a:off x="5724000" y="1989000"/>
            <a:ext cx="1343160" cy="354240"/>
          </a:xfrm>
          <a:prstGeom prst="leftRightArrow">
            <a:avLst>
              <a:gd name="adj1" fmla="val 50000"/>
              <a:gd name="adj2" fmla="val 754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7367" t="9331" r="4528" b="6665"/>
          <a:stretch/>
        </p:blipFill>
        <p:spPr>
          <a:xfrm>
            <a:off x="3635280" y="2637000"/>
            <a:ext cx="1987560" cy="2233440"/>
          </a:xfrm>
          <a:prstGeom prst="rect">
            <a:avLst/>
          </a:prstGeom>
          <a:ln w="0">
            <a:noFill/>
          </a:ln>
        </p:spPr>
      </p:pic>
      <p:sp>
        <p:nvSpPr>
          <p:cNvPr id="147" name="Music"/>
          <p:cNvSpPr/>
          <p:nvPr/>
        </p:nvSpPr>
        <p:spPr>
          <a:xfrm rot="20343000">
            <a:off x="394920" y="1268280"/>
            <a:ext cx="1521000" cy="1594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hoto"/>
          <p:cNvSpPr/>
          <p:nvPr/>
        </p:nvSpPr>
        <p:spPr>
          <a:xfrm>
            <a:off x="2124000" y="692280"/>
            <a:ext cx="1305000" cy="114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ound"/>
          <p:cNvSpPr/>
          <p:nvPr/>
        </p:nvSpPr>
        <p:spPr>
          <a:xfrm rot="8729400">
            <a:off x="5795280" y="691920"/>
            <a:ext cx="1368360" cy="136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2233440" cy="1433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0" t="53022" r="0" b="0"/>
          <a:stretch/>
        </p:blipFill>
        <p:spPr>
          <a:xfrm>
            <a:off x="3059280" y="4968720"/>
            <a:ext cx="3600360" cy="188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476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13890"/>
          <a:stretch/>
        </p:blipFill>
        <p:spPr>
          <a:xfrm>
            <a:off x="1116000" y="476280"/>
            <a:ext cx="2952720" cy="35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0" t="41326" r="0" b="0"/>
          <a:stretch/>
        </p:blipFill>
        <p:spPr>
          <a:xfrm>
            <a:off x="3203640" y="2637000"/>
            <a:ext cx="2462040" cy="2014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подаватель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Большие смайлики"/>
          <p:cNvPicPr/>
          <p:nvPr/>
        </p:nvPicPr>
        <p:blipFill>
          <a:blip r:embed="rId3"/>
          <a:stretch/>
        </p:blipFill>
        <p:spPr>
          <a:xfrm>
            <a:off x="1835280" y="3645000"/>
            <a:ext cx="2226960" cy="21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Большие смайлики"/>
          <p:cNvPicPr/>
          <p:nvPr/>
        </p:nvPicPr>
        <p:blipFill>
          <a:blip r:embed="rId4"/>
          <a:stretch/>
        </p:blipFill>
        <p:spPr>
          <a:xfrm>
            <a:off x="5435640" y="3645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Большие смайлики"/>
          <p:cNvPicPr/>
          <p:nvPr/>
        </p:nvPicPr>
        <p:blipFill>
          <a:blip r:embed="rId5"/>
          <a:stretch/>
        </p:blipFill>
        <p:spPr>
          <a:xfrm>
            <a:off x="6804000" y="450864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53080" y="34290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4720" y="580536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0866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́кт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445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 лат. conflictu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кновение 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ьба, враждебное отнош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 — ситуация, в которой каждая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 стремится занять позицию, несовместиму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тивоположную по отношению к интерес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й сторо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 — особое взаимодействие индивид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, объединений, которое возникает пр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вместимых взглядах, позициях и интерес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32:23Z</dcterms:created>
  <dc:creator>Михаил</dc:creator>
  <dc:description/>
  <dc:language>en-US</dc:language>
  <cp:lastModifiedBy>Михаил</cp:lastModifiedBy>
  <dcterms:modified xsi:type="dcterms:W3CDTF">2011-11-24T18:17:24Z</dcterms:modified>
  <cp:revision>5</cp:revision>
  <dc:subject/>
  <dc:title>Педагогическая этика в конфликтных ситуация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