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F95-F389-4866-B453-E35B2650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2BF-B7AE-4461-8376-A9329242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1D2-42BB-4E12-B169-1631FD15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B25-3C83-4CCB-B1D6-6CA1D3E0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0B83-8AFE-4145-B4C9-A19860E6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B91-5746-4258-8D47-3A219B1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DDB9-293A-42B6-80BC-7F81196C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2E40-C37D-4A14-AFDB-71A65996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9C5-3479-4D5F-9D47-665D8622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2C59-4FA6-48D9-B9C6-79B4444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B2A-EFB4-47E3-9901-432249C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4AB-F294-4671-8549-000BA8E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B85B-0C65-474E-B9CD-15648D0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7ED-D155-485E-94E7-8B20DF9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A975-89D4-4235-992B-509F810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105-3C3E-47E6-AE54-2BA53960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4EC9-4752-4705-BF54-F07D7566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F25C-CCE9-4D6B-829D-9C641F22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60B9-F7DE-4B72-97E3-7F2B21E4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2029-FA04-4E5E-8F4B-4DA663DC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5A4C-DE0F-48FA-9C8B-8087D2D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6A3F-C779-4042-A104-D23FF57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324-8CE5-4655-96DE-567AD15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B46C-8B40-48DB-9C1D-E6264E1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DE9C-28D6-45EB-8E12-7FC0EE0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C0B0-3A1E-4E00-8589-86860E3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9A90-022B-40E1-9436-A217E0C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FF5C-ED7F-497E-ACC8-968CB0BD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7C1A-B1F3-40CB-9283-08DA640C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044F-C6BF-4A0A-97F9-D3CE9975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ED92-8174-4758-8D8F-26F2D13D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1E1E-D566-4D92-88AC-E89CC33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D144-A5AE-4679-8CC8-D3153E63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587-257C-43DD-BD0F-1BF3BC9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2AFA-F0EA-4A10-A6AC-09A888A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02C71-1DD6-4095-A67F-EF93D75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9DC7-0E64-4D0C-9AE9-3736765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EA52-E866-43BB-91A9-1C270D2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2E95-B060-41F5-A854-2281036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127B-2B68-4A58-80FF-13066CF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CBF3-F228-479C-9EFD-9FED48F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21023-E208-4877-9FCB-B004564A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BA86-72FA-4BB6-ABF7-CC2FF666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A2EE-E808-4894-8431-840E7F63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5B4-2E0F-44A4-8B96-AB3E8364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ABF92-76C2-4373-A087-917B340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3D6F-4F29-4982-A73F-B257B70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7297-0A9A-4A8C-B69D-C9A8663E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E319-22D2-4FCF-A476-73E4C316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5749-1F4C-43F6-B24A-234DD53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4AA5-086F-4F77-A6B8-34E9E6F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2ACB-44D6-4D75-B417-5C380CB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EA3C-1283-4B69-9A24-049A232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90EE-CA61-4DE0-A6B0-4FB1B79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8AEF-5950-4286-8E7C-2BB1F28A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E49-CCD0-4BE0-8FEC-91BB72A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C3B9-5068-4F88-BD02-10D99936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94A-31A1-482B-B067-E2CC06D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785-1AD0-4757-B80A-9FD64E0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9C1-9BBE-4C9F-8EF8-F7B63200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C77-3A9A-4FB2-AE6A-EDA88DD204A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17A0-8985-4983-88E1-6F6C7354598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123-A589-43FC-9DBC-8113C46958B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B2C4-5E9F-4B89-8FDD-2B67414F271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D1D9-A35F-4343-A35E-9E244AC119C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859120" y="109440"/>
            <a:ext cx="7918560" cy="315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Рисунок 3" descr="pressfoto_133368.jpg"/>
          <p:cNvPicPr/>
          <p:nvPr/>
        </p:nvPicPr>
        <p:blipFill>
          <a:blip r:embed="rId2"/>
          <a:srcRect l="0" t="0" r="0" b="15113"/>
          <a:stretch/>
        </p:blipFill>
        <p:spPr>
          <a:xfrm>
            <a:off x="0" y="3246480"/>
            <a:ext cx="53211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авила питани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чего нужно ес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акие питательные вещества человек получает с пищей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Рисунок 3" descr="d0bfd0b8d182d0b0d0bdd0b8d0b5-d0b1d183d0b4d183d189d0b5d0b9-d0bcd0b0d0bcd18b.gif"/>
          <p:cNvPicPr/>
          <p:nvPr/>
        </p:nvPicPr>
        <p:blipFill>
          <a:blip r:embed="rId2"/>
          <a:stretch/>
        </p:blipFill>
        <p:spPr>
          <a:xfrm>
            <a:off x="0" y="3333600"/>
            <a:ext cx="46958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во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ше питание. Пищеварительная систем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Рисунок 3" descr="128.jpg"/>
          <p:cNvPicPr/>
          <p:nvPr/>
        </p:nvPicPr>
        <p:blipFill>
          <a:blip r:embed="rId2"/>
          <a:srcRect l="0" t="12624" r="0" b="0"/>
          <a:stretch/>
        </p:blipFill>
        <p:spPr>
          <a:xfrm>
            <a:off x="357120" y="2428920"/>
            <a:ext cx="7105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47760" y="249120"/>
            <a:ext cx="7358040" cy="1219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ЗНА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НЕ ЗНА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7780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706320" y="1494000"/>
            <a:ext cx="8066160" cy="1481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50020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знакомиться с необходимыми организму питательными веществам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7" descr="Produktyi-pitaniya-2.jpg"/>
          <p:cNvPicPr/>
          <p:nvPr/>
        </p:nvPicPr>
        <p:blipFill>
          <a:blip r:embed="rId2"/>
          <a:stretch/>
        </p:blipFill>
        <p:spPr>
          <a:xfrm>
            <a:off x="0" y="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ля чего нужно ес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Какие питательные вещества человек получает с пищей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Рисунок 3" descr="d0bfd0b8d182d0b0d0bdd0b8d0b5-d0b1d183d0b4d183d189d0b5d0b9-d0bcd0b0d0bcd18b.gif"/>
          <p:cNvPicPr/>
          <p:nvPr/>
        </p:nvPicPr>
        <p:blipFill>
          <a:blip r:embed="rId2"/>
          <a:stretch/>
        </p:blipFill>
        <p:spPr>
          <a:xfrm>
            <a:off x="0" y="3333600"/>
            <a:ext cx="46958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группа. «Знаток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группа. «Учёны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группа. «Исследовател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 группа. «Диетолог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Знатоки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Рисунок 3" descr="pyssys1.jpg"/>
          <p:cNvPicPr/>
          <p:nvPr/>
        </p:nvPicPr>
        <p:blipFill>
          <a:blip r:embed="rId2"/>
          <a:stretch/>
        </p:blipFill>
        <p:spPr>
          <a:xfrm>
            <a:off x="3143160" y="1571760"/>
            <a:ext cx="4805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лки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глеводы…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итамины…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457200" y="1600200"/>
          <a:ext cx="8329680" cy="268596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1160"/>
                <a:gridCol w="208296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гле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5T20:28:12Z</dcterms:modified>
  <cp:revision>6</cp:revision>
  <dc:subject/>
  <dc:title>Слайд 1</dc:title>
</cp:coreProperties>
</file>