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8.jpeg" ContentType="image/jpeg"/>
  <Override PartName="/ppt/media/image5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11.jpeg" ContentType="image/jpeg"/>
  <Override PartName="/ppt/media/image1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jpeg" ContentType="image/jpeg"/>
  <Override PartName="/ppt/media/image15.png" ContentType="image/png"/>
  <Override PartName="/ppt/media/image14.png" ContentType="image/png"/>
  <Override PartName="/ppt/media/image10.png" ContentType="image/png"/>
  <Override PartName="/ppt/media/image6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8F4A9-6CE5-476E-A5E6-594143D9D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C9A03-3662-4EBA-9D91-6764423B0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46C41-2D50-4815-A864-043B00496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DD9F7-3898-4531-A7FC-57BE2C296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E6EB1-E75D-4B76-A093-EB886DD4C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C27A6-B37D-4BD4-9351-646D1AB60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C33A2-5EFE-453A-AB59-CCA0831ED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EBE25-7664-45DF-8F00-397709BC8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6FF12-0A43-423F-BEC2-33EE999D4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45BC0-984D-4D74-A3D8-0FF0EC36B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E4ACC-0C6E-43DA-BEA5-8F963B4C7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0F4C1-28C0-4A6B-A031-7595E9ADA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317F1-07A3-424C-8630-3A0DCA633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5BE21-79F8-4668-B510-C77384082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18BF5-58DE-4633-B966-10DCCDA51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EB960-E887-4DE9-8C8D-3113DA530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36254-BC9B-421F-9B18-7A16B7FD4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627F9B-A412-4971-A185-6369AF496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3DF962-29C0-4C9B-B1C8-1B91D776C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DD3104-ABCE-4094-82BF-1D018B0EC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47CA3F-238C-4DF7-B4EB-93F9E332E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88F92B-8BC7-4DB3-8AB5-60491A58E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B241C-8627-4A67-A550-78DB78C6B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611AE1-6F74-4111-A389-614C8D7D8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B05A88-DEB9-431F-ACBB-659136171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A4D731-11D0-4250-A488-0862A268D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A57456-7C90-4E21-889E-67819F99D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EC84C6-7FCF-45DF-8B51-B0FD49972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7FC0EE-52BF-4F94-B0E2-7E2B6CCF8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A8A1AF-1E53-4C93-8ADA-B6FEF85DA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AFA6D4-3329-464A-A18D-CD79A322F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4636B6-E434-4193-AB31-64883E988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FE7DC7-4646-4C0F-A842-D0801F82E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BC48C-E29A-4167-9B0D-DBAEAAFA2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BDD5FA-96D0-4A9B-8BC2-D3EBB2299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2A1E24-C091-4DAE-A4A1-3005DA195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6BC5DD-83B9-4B5B-BE79-1C4769DC2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0FA739-057C-4654-94DC-C49C650D6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82C40E-7CCA-481B-95D0-84CF24901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BB79AE-161F-4F9D-A575-E44F24943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0A48EB-A801-466B-8A2F-4AF3590C5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EBB49B-E886-4708-86F4-1D5153192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C07810-53F3-42F4-9AA0-CD48B57BF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D08C51-98CD-41DE-B4B2-80A0C4F80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7A03E-5F41-4545-9BCB-233BC1DA9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2AA1D1-D3A6-4A05-9323-0C65C5C42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97E182-6CDE-4607-92F6-38100CDD5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2D550E-58D9-4734-8E80-040385E87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EC22BC-7C9E-4692-99E2-C778B3AA2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7BD216-9FF9-44CD-B18E-ED5F0F0A2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9C33C0-E5A0-4B04-8DCD-F98DBB5DD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5C071D-5842-4E2E-BED5-6D4FD4301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5A01E0-6496-4214-8121-1BECDD459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204FFD-4FBF-47E4-850C-EEF1954C9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BA278F-A4F7-49F7-876A-9B931F199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1AB8F-913F-4809-814A-011A8AB06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FB81E6-4532-44BC-AA98-64E2B04A5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C868E-21C9-4188-B545-87DF50CCD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18882-2275-4AC8-B970-A31410D72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F3081-E84B-4944-89C9-2E2D0F638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D83DC-2405-4A32-9F40-8F32A001246D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D2DC4-6994-4B75-B179-DBBBF4519886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C8BA7-9BB1-4EE0-BA16-68A9E4AB5A19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4e7ed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8687C-AF57-498E-BBAB-C0F649536471}" type="slidenum">
              <a:rPr b="0" lang="ru-RU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4A49C-9998-4845-B6E5-8F64F2B349E3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Заголовок 1" descr=""/>
          <p:cNvPicPr/>
          <p:nvPr/>
        </p:nvPicPr>
        <p:blipFill>
          <a:blip r:embed="rId1"/>
          <a:stretch/>
        </p:blipFill>
        <p:spPr>
          <a:xfrm>
            <a:off x="2859120" y="109440"/>
            <a:ext cx="7918560" cy="31514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3354480" y="3540240"/>
            <a:ext cx="5114880" cy="110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2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222" name="Рисунок 3" descr="pressfoto_133368.jpg"/>
          <p:cNvPicPr/>
          <p:nvPr/>
        </p:nvPicPr>
        <p:blipFill>
          <a:blip r:embed="rId2"/>
          <a:srcRect l="0" t="0" r="0" b="15113"/>
          <a:stretch/>
        </p:blipFill>
        <p:spPr>
          <a:xfrm>
            <a:off x="0" y="3246480"/>
            <a:ext cx="5321160" cy="36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Заголовок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Правила питания: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1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2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3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4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5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Заголовок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rebuchet MS"/>
              </a:rPr>
              <a:t>Для чего нужно есть?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ctr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rebuchet MS"/>
              </a:rPr>
              <a:t>Какие питательные вещества человек получает с пищей?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0" name="Рисунок 3" descr="d0bfd0b8d182d0b0d0bdd0b8d0b5-d0b1d183d0b4d183d189d0b5d0b9-d0bcd0b0d0bcd18b.gif"/>
          <p:cNvPicPr/>
          <p:nvPr/>
        </p:nvPicPr>
        <p:blipFill>
          <a:blip r:embed="rId2"/>
          <a:stretch/>
        </p:blipFill>
        <p:spPr>
          <a:xfrm>
            <a:off x="0" y="3333600"/>
            <a:ext cx="4695840" cy="35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Заголовок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Вывод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Заголовок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Наше питание. Пищеварительная система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5" name="Рисунок 3" descr="128.jpg"/>
          <p:cNvPicPr/>
          <p:nvPr/>
        </p:nvPicPr>
        <p:blipFill>
          <a:blip r:embed="rId2"/>
          <a:srcRect l="0" t="12624" r="0" b="0"/>
          <a:stretch/>
        </p:blipFill>
        <p:spPr>
          <a:xfrm>
            <a:off x="357120" y="2428920"/>
            <a:ext cx="710568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Заголовок 1" descr=""/>
          <p:cNvPicPr/>
          <p:nvPr/>
        </p:nvPicPr>
        <p:blipFill>
          <a:blip r:embed="rId1"/>
          <a:stretch/>
        </p:blipFill>
        <p:spPr>
          <a:xfrm>
            <a:off x="347760" y="249120"/>
            <a:ext cx="7358040" cy="121932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456840" y="5867280"/>
            <a:ext cx="3521160" cy="457200"/>
          </a:xfrm>
          <a:prstGeom prst="rect">
            <a:avLst/>
          </a:prstGeom>
          <a:noFill/>
          <a:ln w="12600">
            <a:solidFill>
              <a:srgbClr val="b13f9a"/>
            </a:solidFill>
            <a:miter/>
          </a:ln>
        </p:spPr>
        <p:txBody>
          <a:bodyPr lIns="90000" rIns="90000" tIns="46800" bIns="46800" anchor="ctr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b13f9a"/>
                </a:solidFill>
                <a:latin typeface="Trebuchet MS"/>
              </a:rPr>
              <a:t>ЗНАЮ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177800" y="5867280"/>
            <a:ext cx="3521160" cy="457200"/>
          </a:xfrm>
          <a:prstGeom prst="rect">
            <a:avLst/>
          </a:prstGeom>
          <a:noFill/>
          <a:ln w="12600">
            <a:solidFill>
              <a:srgbClr val="b13f9a"/>
            </a:solidFill>
            <a:miter/>
          </a:ln>
        </p:spPr>
        <p:txBody>
          <a:bodyPr lIns="90000" rIns="90000" tIns="46800" bIns="46800" anchor="ctr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b13f9a"/>
                </a:solidFill>
                <a:latin typeface="Trebuchet MS"/>
              </a:rPr>
              <a:t>НЕ ЗНАЮ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6840" y="1711440"/>
            <a:ext cx="352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177800" y="1711440"/>
            <a:ext cx="352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Заголовок 1" descr=""/>
          <p:cNvPicPr/>
          <p:nvPr/>
        </p:nvPicPr>
        <p:blipFill>
          <a:blip r:embed="rId1"/>
          <a:stretch/>
        </p:blipFill>
        <p:spPr>
          <a:xfrm>
            <a:off x="706320" y="1494000"/>
            <a:ext cx="8066160" cy="148104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2500200" y="3571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rebuchet MS"/>
              </a:rPr>
              <a:t>Познакомиться с необходимыми организму питательными веществами.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3" name="Рисунок 7" descr="Produktyi-pitaniya-2.jpg"/>
          <p:cNvPicPr/>
          <p:nvPr/>
        </p:nvPicPr>
        <p:blipFill>
          <a:blip r:embed="rId2"/>
          <a:stretch/>
        </p:blipFill>
        <p:spPr>
          <a:xfrm>
            <a:off x="0" y="0"/>
            <a:ext cx="314316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Заголовок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rebuchet MS"/>
              </a:rPr>
              <a:t>Для чего нужно есть?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ctr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rebuchet MS"/>
              </a:rPr>
              <a:t>Какие питательные вещества человек получает с пищей?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6" name="Рисунок 3" descr="d0bfd0b8d182d0b0d0bdd0b8d0b5-d0b1d183d0b4d183d189d0b5d0b9-d0bcd0b0d0bcd18b.gif"/>
          <p:cNvPicPr/>
          <p:nvPr/>
        </p:nvPicPr>
        <p:blipFill>
          <a:blip r:embed="rId2"/>
          <a:stretch/>
        </p:blipFill>
        <p:spPr>
          <a:xfrm>
            <a:off x="0" y="3333600"/>
            <a:ext cx="4695840" cy="35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" dur="5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" dur="500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Заголовок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1 группа. «Знатоки»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2 группа. «Учёные»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3 группа. «Исследователи»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4 группа. «Диетологи»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Заголовок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«Знатоки»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1" name="Рисунок 3" descr="pyssys1.jpg"/>
          <p:cNvPicPr/>
          <p:nvPr/>
        </p:nvPicPr>
        <p:blipFill>
          <a:blip r:embed="rId2"/>
          <a:stretch/>
        </p:blipFill>
        <p:spPr>
          <a:xfrm>
            <a:off x="3143160" y="1571760"/>
            <a:ext cx="4805280" cy="52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Заголовок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Белки….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Жиры….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Углеводы…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Витамины….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Заголовок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5" name=""/>
          <p:cNvGraphicFramePr/>
          <p:nvPr/>
        </p:nvGraphicFramePr>
        <p:xfrm>
          <a:off x="457200" y="1600200"/>
          <a:ext cx="8329680" cy="2685960"/>
        </p:xfrm>
        <a:graphic>
          <a:graphicData uri="http://schemas.openxmlformats.org/drawingml/2006/table">
            <a:tbl>
              <a:tblPr/>
              <a:tblGrid>
                <a:gridCol w="2082960"/>
                <a:gridCol w="2082600"/>
                <a:gridCol w="2081160"/>
                <a:gridCol w="2082960"/>
              </a:tblGrid>
              <a:tr h="67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продук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бел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жи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углевод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</a:tr>
              <a:tr h="67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67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  <a:tr h="67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2-01-15T20:28:12Z</dcterms:modified>
  <cp:revision>6</cp:revision>
  <dc:subject/>
  <dc:title>Слайд 1</dc:title>
</cp:coreProperties>
</file>