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wmf" ContentType="image/x-wmf"/>
  <Override PartName="/ppt/media/image19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A6A-73F4-472B-B884-3BFB3EB1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C7A-BA6B-44AA-8657-70822DA0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8A1-C5B6-467F-86B5-6A4319AE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BD6-EB5B-400F-AE9A-C3AC0C56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BE3A-E7C9-41A5-9018-80BA10E6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4FAE8-00A1-470E-94E1-98D3A9E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E9129-8743-44EA-9C26-0557911C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B8C3-3943-44A5-AD72-F69ADEB8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C5037-E4E1-4D27-A07B-F3242A0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ED292-AEF3-43DE-A373-B98884A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5BAC-98B9-4FF3-936A-B6A57F9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0D6-0BC1-454E-81EB-D8A3691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342E-73BE-4E79-82D9-ECA5BC6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D796E-A7D9-4466-961E-2D78154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52408-59A7-4BEB-8D2D-068A0745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4C73A-7A3E-43B5-ADC7-F06BED02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C2CAB-63C4-41B8-B9EE-B7F73D14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746-05A6-4769-A017-5727953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77C-1002-4CA7-ABA0-BF0BC7C4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832-76FA-4009-BE76-12DFBF3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85E-7DEC-4F21-8E29-76FF7E9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38C-71F2-4045-B7DB-EB734E7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7C3-3CD0-4A6B-9AB9-95104A8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4AA-A50D-4B42-9141-ACFCE22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49E5-B2C5-4CEA-996F-5221B595D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3F92-A8D0-4E34-BF6D-F03F2F3515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71262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ьные многогран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0800101"/>
          <p:cNvPicPr/>
          <p:nvPr/>
        </p:nvPicPr>
        <p:blipFill>
          <a:blip r:embed="rId1"/>
          <a:stretch/>
        </p:blipFill>
        <p:spPr>
          <a:xfrm>
            <a:off x="1835280" y="2924280"/>
            <a:ext cx="626400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рактеристики многогранни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205000"/>
          <a:ext cx="9144000" cy="3017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Название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ребер при верш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сторон гра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гра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еб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144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верш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тр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дек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осаэд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cccc"/>
                        </a:gs>
                        <a:gs pos="100000">
                          <a:srgbClr val="185e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хождение в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ристаллических телах частицы располагаются в строгом порядке, образуя пространственные периодически повторяющиеся структуры во всем объеме тела. Для наглядного представления таких структур используются пространственны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исталлические решет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узлах которых располагаются центры атомов или молекул данного вещества. Чаще всего кристаллическая решетка строится из ионов (положительно и отрицательно заряженных) атомов, которые входят в состав молекулы данного вещества. Например, решетка поваренной соли содержит ионы Na+ и Cl–, не объединенные попарно в молекулы NaCl (рис. 3.6.1). Такие кристаллы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онны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3-6-1"/>
          <p:cNvPicPr/>
          <p:nvPr/>
        </p:nvPicPr>
        <p:blipFill>
          <a:blip r:embed="rId1"/>
          <a:stretch/>
        </p:blipFill>
        <p:spPr>
          <a:xfrm>
            <a:off x="3564000" y="4724280"/>
            <a:ext cx="219060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исталл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лические решетки металлов часто имеют форму шестигранной призмы (цинк, магний), гранецентрированного куба (медь, золото) или объемно центрированного куба (желез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сталлические тела могут быть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нокристал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ликристал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ликристаллические тела состоят из многих сросшихся между собой хаотически ориентированных маленьких кристалликов, которые называю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исталлит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Большие монокристаллы редко встречаются в природе и технике. Чаще всего кристаллические твердые тела, в том числе и те, которые получаются искусственно, являются поликристалл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20800" y="324576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3-6-2"/>
          <p:cNvPicPr/>
          <p:nvPr/>
        </p:nvPicPr>
        <p:blipFill>
          <a:blip r:embed="rId1"/>
          <a:stretch/>
        </p:blipFill>
        <p:spPr>
          <a:xfrm>
            <a:off x="4140360" y="4149720"/>
            <a:ext cx="3528720" cy="1566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2050920" y="56674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ые кристаллические решетки: 1 – простая кубическая решетка; 2 – гранецентрированная кубическая решетка; 3 – объемноцентрированная кубическая решетка; 4 – гексагональная решет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Кристаллы-многогран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ьций. При ударах кристаллы кальцита раскалываются правильные фигурки, каждая грань которых имеет форму параллелограмма . Кальций образует разнообразные кристаллы от пластичной до вытянуто- призматичной фор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патит. Они образуют кристаллы в форме прямоугольной приз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иллий. Обычно встречается в виде столбчатых шестигранных кристал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Ученый о многогранниках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00040601"/>
          <p:cNvPicPr/>
          <p:nvPr/>
        </p:nvPicPr>
        <p:blipFill>
          <a:blip r:embed="rId1"/>
          <a:stretch/>
        </p:blipFill>
        <p:spPr>
          <a:xfrm>
            <a:off x="179280" y="3141720"/>
            <a:ext cx="2462400" cy="328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95280" y="640080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Иоган Кепл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98100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howcard Gothic"/>
              </a:rPr>
              <a:t>Иоган Кеплер в своей работе «Тайна мироздания» в 1597 году, используя правильные многогранники, вывел, принцип, которому подчиняются формы и размеры орбит планет солнечной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art_3_5_clip_image014"/>
          <p:cNvPicPr/>
          <p:nvPr/>
        </p:nvPicPr>
        <p:blipFill>
          <a:blip r:embed="rId2"/>
          <a:stretch/>
        </p:blipFill>
        <p:spPr>
          <a:xfrm>
            <a:off x="5796000" y="3500280"/>
            <a:ext cx="33098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Художники о правильных многогранни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поху Возрождения большой интерес к формам правильных многогранников проявляли скульпторы, архитекторы, ХУДОЖНИКИ. Леонардо да Винчи увлекался теорией многогранников и часто изображал их на своих полотнах. Он проиллюстрировал изображениями правильных и полуправильных многогранников книгу своего друга, монаха Луки Пачоли «О божественной пропор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508464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Snap ITC"/>
              </a:rPr>
              <a:t>Художники о правильных многогранни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51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львадор Дали «Тайная вечеря», на которой Христос и его ученики изображены сидящими внутри огромного прозрачного додекаэдр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art_3_5_clip_image022"/>
          <p:cNvPicPr/>
          <p:nvPr/>
        </p:nvPicPr>
        <p:blipFill>
          <a:blip r:embed="rId1"/>
          <a:stretch/>
        </p:blipFill>
        <p:spPr>
          <a:xfrm>
            <a:off x="0" y="3500280"/>
            <a:ext cx="594036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3851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ьбрехт Дюр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го известной гравюре «Меланхол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ереднем плане изображен додекаэ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в 1525 году Дюрер написал трактат, в котором рассмотрел пять правильных многогранников, поверхности которых служат хорошими моделями перспекти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матем"/>
          <p:cNvPicPr/>
          <p:nvPr/>
        </p:nvPicPr>
        <p:blipFill>
          <a:blip r:embed="rId1"/>
          <a:stretch/>
        </p:blipFill>
        <p:spPr>
          <a:xfrm>
            <a:off x="3967200" y="0"/>
            <a:ext cx="51768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гипетские пирами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и египетских пирамид особое место занимает пирамида фараона Хеопса. Длина стороны её основания L =233,16 м; высота Н =146,6; 148,2 м. Первоначально высота оценивалась не точно. Это связано с осадкой швов, деформацией блоков, предполагаемой частичной разборкой вершины от S 6∙6 до 10∙10 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image014"/>
          <p:cNvPicPr/>
          <p:nvPr/>
        </p:nvPicPr>
        <p:blipFill>
          <a:blip r:embed="rId1"/>
          <a:stretch/>
        </p:blipFill>
        <p:spPr>
          <a:xfrm>
            <a:off x="324000" y="251460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египетских пирамид особое место занимает пирамида фараона Хеопса. Длина стороны её основания L =233,16 м; высота Н =146,6; 148,2 м. Первоначально высота оценивалась не точно. Это связано с осадкой швов, деформацией блоков, предполагаемой частичной разборкой вершины от S 6∙6 до 10∙10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наклона граней =51◦51 . Впервые он был измерен английским полковником Г. Вайзовым в 1837 г tg 51◦ 51 =1,27306= vd= 1,2720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image012"/>
          <p:cNvPicPr/>
          <p:nvPr/>
        </p:nvPicPr>
        <p:blipFill>
          <a:blip r:embed="rId1"/>
          <a:stretch/>
        </p:blipFill>
        <p:spPr>
          <a:xfrm>
            <a:off x="539640" y="2349360"/>
            <a:ext cx="3505320" cy="315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гранник называется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иль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если все его грани – равные между собой правильные многоугольники, из каждой его вершины выходит одинаковое число ребер и все двугранные углы равны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611280" y="2492280"/>
          <a:ext cx="79200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492280"/>
                    <a:ext cx="79200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nap ITC"/>
              </a:rPr>
              <a:t>Правильные многогранники в живой природ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5194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ые многогранники встречаются в живой природе. Например, скелет одноклеточного организма феодарии (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Circjgjnia icosahtdr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 по форме напоминает икосаэд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art_3_5_clip_image026"/>
          <p:cNvPicPr/>
          <p:nvPr/>
        </p:nvPicPr>
        <p:blipFill>
          <a:blip r:embed="rId1"/>
          <a:stretch/>
        </p:blipFill>
        <p:spPr>
          <a:xfrm>
            <a:off x="5397480" y="1125360"/>
            <a:ext cx="3746520" cy="439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28680" y="5143320"/>
            <a:ext cx="46371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АВДАР ЯНА   10 КЛАСС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8571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правильных многогранни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х изучали ученые, ювелиры, священники, архитекторы. Этим многогранникам даже приписывали магические свойства. Древнегреческий ученый и философ Платон (IV–V в до н. э.) считал, что эти тела олицетворяют сущность природы. В своем диалоге «Тимей» Платон говорит, что атом огня имеет вид тетраэдра, земли – гексаэдра (куба), воздуха – октаэдра, воды – икосаэдра. В этом соответствии не нашлось места только додекаэдру и Платон предположил существование еще одной, пятой сущности – эфира, атомы которого как раз и имеют форму додекаэдра. Ученики Платона продолжили его дело в изучении перечисленных тел. Поэтому эти многогранники называют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латоновыми 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тр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траэд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tetra – четыре, hedra – грань). Правильный тетраэдр – правильный четырехгранник, то есть тетраэдр с равными ребрами, представляет собой правильный многогранник, все грани которого – правильные треугольники и из каждой вершины которого выходит ровно три реб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него 4 вершины,4 грани,6 реб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180 граду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0800203"/>
          <p:cNvPicPr/>
          <p:nvPr/>
        </p:nvPicPr>
        <p:blipFill>
          <a:blip r:embed="rId1"/>
          <a:stretch/>
        </p:blipFill>
        <p:spPr>
          <a:xfrm>
            <a:off x="6948360" y="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кос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правильный многогранник, у которого все грани – правильные треугольники, и из каждой вершины выходит 5 ребер. Этот многогранник имеет 20 граней, 30 ребер, 12 вершин 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косаэд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icosi – двадцать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мма плоских углов при  каждой вершине равна 300 граду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227640" y="223920"/>
            <a:ext cx="2089440" cy="17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5"/>
          <p:cNvGraphicFramePr/>
          <p:nvPr/>
        </p:nvGraphicFramePr>
        <p:xfrm>
          <a:off x="4505400" y="2595600"/>
          <a:ext cx="35020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5400" y="2595600"/>
                    <a:ext cx="35020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дек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правильный многогранник, у которого все грани правильные пятиугольники и из каждой вершины выходит 3 ребра. Этот многогранник имеет 12 граней, 30 ребер и 20 вершин 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одекаэд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dodeka – двенадцать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324 граду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5"/>
          <p:cNvGraphicFramePr/>
          <p:nvPr/>
        </p:nvGraphicFramePr>
        <p:xfrm>
          <a:off x="5148360" y="3141720"/>
          <a:ext cx="2889000" cy="283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3141720"/>
                    <a:ext cx="288900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ксаэдр(куб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ксаэд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у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hexa – шесть). Гексаэдр – правильный многогранник, все грани которого – квадраты, и из каждой вершины выходит три реб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него 6 граней,8 вершин,12 реб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мма плоских углов при каждой вершине равна 270 градус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94328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5"/>
          <p:cNvGraphicFramePr/>
          <p:nvPr/>
        </p:nvGraphicFramePr>
        <p:xfrm>
          <a:off x="4572000" y="3398760"/>
          <a:ext cx="2658960" cy="265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398760"/>
                    <a:ext cx="2658960" cy="26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ктаэд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Октаэд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okto – восемь). Это правильный многогранник, все грани которого – правильные треугольники и к каждой вершине прилегают четыре гра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него 8 граней,12 ребер,6вер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0800201"/>
          <p:cNvPicPr/>
          <p:nvPr/>
        </p:nvPicPr>
        <p:blipFill>
          <a:blip r:embed="rId1"/>
          <a:stretch/>
        </p:blipFill>
        <p:spPr>
          <a:xfrm>
            <a:off x="558000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94292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омбододекаэдр.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(полуправильные тел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образован помощью семи кубов, образующих пространственный "крест« и додекаэд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3780000" y="3284640"/>
          <a:ext cx="309564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284640"/>
                    <a:ext cx="3095640" cy="30240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5:32:01Z</dcterms:created>
  <dc:creator>АВС</dc:creator>
  <dc:description/>
  <dc:language>en-US</dc:language>
  <cp:lastModifiedBy>hp</cp:lastModifiedBy>
  <dcterms:modified xsi:type="dcterms:W3CDTF">2011-11-24T13:49:45Z</dcterms:modified>
  <cp:revision>10</cp:revision>
  <dc:subject/>
  <dc:title>Правильные многогранн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