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D01-C779-4DBC-8B60-3118AB65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AB4-DC77-459B-B448-D879A83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8B9-B037-4A5F-98FC-346B664F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7C7-214E-4776-89A3-17463F44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15E-A23F-4217-8A58-5F794240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8E5-64DC-4459-BEB9-AF9B142A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2E6-18CD-4759-8F91-7FA0DD26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36F-FA82-4122-9DBF-F28D479C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120-1336-4496-8488-211DA7CC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871-223D-4A55-9FB0-C7AAEEC2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CDB-6E3B-4B9A-AFF6-8CF9CF77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CC3-5936-45EF-AFCC-DA114DD6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F8D1-889D-4A5B-A5C4-63F9C9CF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171 из 64000"/>
          <p:cNvPicPr/>
          <p:nvPr/>
        </p:nvPicPr>
        <p:blipFill>
          <a:blip r:embed="rId1"/>
          <a:srcRect l="0" t="3258" r="5484" b="9479"/>
          <a:stretch/>
        </p:blipFill>
        <p:spPr>
          <a:xfrm>
            <a:off x="0" y="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84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3774960"/>
            <a:ext cx="451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т день, родная мама, пус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ердце снова молодость проснется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ень, от слез подальше, сгинет грусть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ш дом любви ослепит солнц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34 из 64000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Картинка 81 из 64000"/>
          <p:cNvPicPr/>
          <p:nvPr/>
        </p:nvPicPr>
        <p:blipFill>
          <a:blip r:embed="rId1"/>
          <a:stretch/>
        </p:blipFill>
        <p:spPr>
          <a:xfrm>
            <a:off x="0" y="-2259000"/>
            <a:ext cx="9244080" cy="12214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 МАТЕРИНСКОЙ ЛЮБ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2565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одном доме жили две женщины. У каждой из них было по младенцу. У одной женщины младенец ночью умер. Она своего мертвого ребенка положила другой женщине. Когда та проснулась, то увидала, что мертвый ребенок не ее. Женщины стали спорить и пошли на суд к самому царю Соломону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ждая из них утверждала, что это ее ребенок, и что другая хочет отобрать его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ломон внимательно выслушал обеих женщин и сказал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Никто не знает, чей живой ребенок и чей мертвый. Чтобы не было обидно ни той, ни другой из вас, я велю разрубить ребенка пополам и каждой дать по половинк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а женщина ответила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Так будет лучш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другая закричала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Нет, не рубите младенца, а лучше уж отдайте его другой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гда все увидали, которая из двух женщин мать, и которая чужая для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33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-900000" y="1052640"/>
            <a:ext cx="112233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ГИТЕ СВОИХ МАМ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ЛЮБИТЕ ИХ ТАК,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 ЛЮБЯТ ОНИ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С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60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7 из 64000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112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13 из 64000"/>
          <p:cNvPicPr/>
          <p:nvPr/>
        </p:nvPicPr>
        <p:blipFill>
          <a:blip r:embed="rId1"/>
          <a:stretch/>
        </p:blipFill>
        <p:spPr>
          <a:xfrm>
            <a:off x="108000" y="0"/>
            <a:ext cx="95774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13 из 64000"/>
          <p:cNvPicPr/>
          <p:nvPr/>
        </p:nvPicPr>
        <p:blipFill>
          <a:blip r:embed="rId1"/>
          <a:stretch/>
        </p:blipFill>
        <p:spPr>
          <a:xfrm>
            <a:off x="-324000" y="-1467000"/>
            <a:ext cx="9753840" cy="975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9280" y="511812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сибо, родная, что есть ты у нас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видим и слышим тебя каждый час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добрую душу и теплое слово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то, что не видели в жизни плохого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сибо тебе, наш родной челове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елаем здоровья на долгий твой ве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39 из 64000"/>
          <p:cNvPicPr/>
          <p:nvPr/>
        </p:nvPicPr>
        <p:blipFill>
          <a:blip r:embed="rId1"/>
          <a:stretch/>
        </p:blipFill>
        <p:spPr>
          <a:xfrm>
            <a:off x="826920" y="-316080"/>
            <a:ext cx="6961320" cy="5291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едешь ты ту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ми рукам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обру научиш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дрыми слова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придешь на помощ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позов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й, Господь, здоровь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ей милой мам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й ей Бог удач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астья и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77 из 64000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11225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 МАТЕРИНСКОМ СЕРД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л-был Рыцарь. Однажды он влюбился. Влюбился до беспамятства в красавицу без души и без сердца. Страдал и таял от страсти, мечтая завоевать эту бездушную куклу. Не знал он тогда, что в груди у нее не сердце, а камен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Дни, месяцы, годы прошли в напрасном томлении, в пустых терзания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И однажды, желая избавиться от него, она сказала: «Принеси мне сердце твоей матери, тогда я буду твоей. Принеси сердце той, которая любит тебя, и я стану твоей женой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Влюбленный Рыцарь в глубоком замешательстве вернулся домой. Он долго мучился, сопротивлялся, страдал и проклинал себя, но животная страсть все-таки взяла верх. Он вошел в комнату и убил свою мать, вырвал ее сердце и, держа его в руках, побежал к бессердечной красавиц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Мечтая о ней, он бежал, не глядя себе под ноги, и вдруг споткнулся, упал, выронив сердце из ру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   И вдруг он услышал голос: «Сынок, сынок, ты не ушибся? Тебе не больно, сынок? Были бы у меня руки, подняла бы тебя, стряхнула бы пыль с твоей одежды, прижала бы к себе. Ну, вставай же скорей, неси меня к своей возлюбленной и будь счастлив!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299 из 26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159 из 64000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9:48:52Z</dcterms:created>
  <dc:creator>Олег</dc:creator>
  <dc:description/>
  <dc:language>en-US</dc:language>
  <cp:lastModifiedBy>Олег</cp:lastModifiedBy>
  <dcterms:modified xsi:type="dcterms:W3CDTF">2010-11-30T19:50:55Z</dcterms:modified>
  <cp:revision>2</cp:revision>
  <dc:subject/>
  <dc:title>Слайд 1</dc:title>
</cp:coreProperties>
</file>