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AE9-6B11-487D-860F-BD5F99B0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19E-FFCB-4770-862C-90FADB1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EEF-9C6D-4B3D-B562-5C6D1D58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11D-AC55-4CB6-B64F-15E3ACDB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EC7-91CC-4F32-B176-0FAE27AE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808-BC6D-418A-BA47-AC6C1A3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CDB-92E3-4A91-9A7C-9E0D9924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D10-A9A6-4ECA-9449-88D3502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FD0-0E87-420F-90B2-092F4C0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6D0-ABD8-46EA-AC0A-FBE9740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302-5779-411B-81FF-DB3E618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6C1-8D19-4435-A302-3623327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DDE-717A-46D7-869B-2052331E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71 из 64000"/>
          <p:cNvPicPr/>
          <p:nvPr/>
        </p:nvPicPr>
        <p:blipFill>
          <a:blip r:embed="rId1"/>
          <a:srcRect l="0" t="3258" r="5484" b="9479"/>
          <a:stretch/>
        </p:blipFill>
        <p:spPr>
          <a:xfrm>
            <a:off x="0" y="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84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3774960"/>
            <a:ext cx="451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т день, родная мама, пу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ердце снова молодость проснетс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нь, от слез подальше, сгинет грус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ш дом любви ослепит солн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34 из 64000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Картинка 81 из 64000"/>
          <p:cNvPicPr/>
          <p:nvPr/>
        </p:nvPicPr>
        <p:blipFill>
          <a:blip r:embed="rId1"/>
          <a:stretch/>
        </p:blipFill>
        <p:spPr>
          <a:xfrm>
            <a:off x="0" y="-2259000"/>
            <a:ext cx="9244080" cy="12214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 МАТЕРИНСКОЙ 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дном доме жили две женщины. У каждой из них было по младенцу. У одной женщины младенец ночью умер. Она своего мертвого ребенка положила другой женщине. Когда та проснулась, то увидала, что мертвый ребенок не ее. Женщины стали спорить и пошли на суд к самому царю Соломону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ая из них утверждала, что это ее ребенок, и что другая хочет отобрать его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ломон внимательно выслушал обеих женщин и сказал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икто не знает, чей живой ребенок и чей мертвый. Чтобы не было обидно ни той, ни другой из вас, я велю разрубить ребенка пополам и каждой дать по половинк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 женщина ответил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Так будет лучш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другая закричал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ет, не рубите младенца, а лучше уж отдайте его другой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гда все увидали, которая из двух женщин мать, и которая чужая для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33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-900000" y="1052640"/>
            <a:ext cx="11223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ТЕ СВОИХ МАМ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ЛЮБИТЕ ИХ ТАК,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ЛЮБЯТ ОНИ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С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6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7 из 64000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112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13 из 64000"/>
          <p:cNvPicPr/>
          <p:nvPr/>
        </p:nvPicPr>
        <p:blipFill>
          <a:blip r:embed="rId1"/>
          <a:stretch/>
        </p:blipFill>
        <p:spPr>
          <a:xfrm>
            <a:off x="108000" y="0"/>
            <a:ext cx="957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13 из 64000"/>
          <p:cNvPicPr/>
          <p:nvPr/>
        </p:nvPicPr>
        <p:blipFill>
          <a:blip r:embed="rId1"/>
          <a:stretch/>
        </p:blipFill>
        <p:spPr>
          <a:xfrm>
            <a:off x="-324000" y="-1467000"/>
            <a:ext cx="9753840" cy="975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511812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, родная, что есть ты у на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видим и слышим тебя каждый ча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добрую душу и теплое слово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то, что не видели в жизни плохого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 тебе, наш родной челове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елаем здоровья на долгий твой в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39 из 64000"/>
          <p:cNvPicPr/>
          <p:nvPr/>
        </p:nvPicPr>
        <p:blipFill>
          <a:blip r:embed="rId1"/>
          <a:stretch/>
        </p:blipFill>
        <p:spPr>
          <a:xfrm>
            <a:off x="826920" y="-316080"/>
            <a:ext cx="6961320" cy="529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едешь ты ту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ми рук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обру научиш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ыми слов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придешь на помощ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озов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, Господь, здоровь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й милой мам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 ей Бог удач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астья и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77 из 64000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11225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 МАТЕРИНСКОМ СЕР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-был Рыцарь. Однажды он влюбился. Влюбился до беспамятства в красавицу без души и без сердца. Страдал и таял от страсти, мечтая завоевать эту бездушную куклу. Не знал он тогда, что в груди у нее не сердце, а камен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Дни, месяцы, годы прошли в напрасном томлении, в пустых терзания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И однажды, желая избавиться от него, она сказала: «Принеси мне сердце твоей матери, тогда я буду твоей. Принеси сердце той, которая любит тебя, и я стану твоей женой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Влюбленный Рыцарь в глубоком замешательстве вернулся домой. Он долго мучился, сопротивлялся, страдал и проклинал себя, но животная страсть все-таки взяла верх. Он вошел в комнату и убил свою мать, вырвал ее сердце и, держа его в руках, побежал к бессердечной красавиц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Мечтая о ней, он бежал, не глядя себе под ноги, и вдруг споткнулся, упал, выронив сердце из ру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И вдруг он услышал голос: «Сынок, сынок, ты не ушибся? Тебе не больно, сынок? Были бы у меня руки, подняла бы тебя, стряхнула бы пыль с твоей одежды, прижала бы к себе. Ну, вставай же скорей, неси меня к своей возлюбленной и будь счастлив!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299 из 2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59 из 64000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48:52Z</dcterms:created>
  <dc:creator>Олег</dc:creator>
  <dc:description/>
  <dc:language>en-US</dc:language>
  <cp:lastModifiedBy>Олег</cp:lastModifiedBy>
  <dcterms:modified xsi:type="dcterms:W3CDTF">2010-11-30T19:50:55Z</dcterms:modified>
  <cp:revision>2</cp:revision>
  <dc:subject/>
  <dc:title>Слайд 1</dc:title>
</cp:coreProperties>
</file>