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0AA-031D-42FC-9D74-20F0C8F4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70F-5323-4C74-BA01-AC0CC820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50D0-0D18-4FE5-8E72-5B886075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8195-94D9-4599-BBA5-989D9D64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E6A5-BB35-4980-90E5-568D10D2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F733-8618-4CA1-B356-2B45BB4B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C40C-4FE6-4244-B98E-F941B80B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805C-1322-4C6F-870E-1F7D7096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4F90-580B-451A-BAB2-DEE36172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13A5-D6A0-4686-84C8-33BB8D23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45B4-51DD-4504-93B5-199D0CA2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D299-46C8-4F30-81B1-41010856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8E96-C588-48FC-A25E-A6D28942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BDD3-B2D6-4913-9681-506EDE03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2ED4-FE29-4804-A08A-9FDB1AFD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DFB5-B06A-4E25-ADED-311886C2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6CF9-0588-4ED9-84FA-BBF149EF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4ACDA-8F6C-47E4-BF59-D24F469D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E1A71-A698-4419-8F39-4C3991E9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5CB5E-AAED-4C16-AD09-0FDD395C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13686-8709-4697-9384-1B2536F0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36F9F-E64B-4616-A1DB-B86A2A26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AC2-56F6-4C88-9C36-EFB8C191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834E-8D3A-4872-B2B1-C5B86D31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1A981-E39E-4829-9A2C-C68ABE32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DE443-9D05-4BB4-B6A2-A0E5F4D7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26C8C-E8E4-4A13-8FE1-BD7D6B44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806DA-BDFA-4C93-83F6-219BDBCD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7829A-4BFE-452E-8213-59B3F1BE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A244A-F722-491C-915B-8010CF80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FE8F3-851F-4DC6-A823-60B92534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0553F-DD49-4E56-BF59-58F145B7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3D309-1D21-4C60-951F-4B12E4DD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B27-D9FC-4669-A46A-833FCA5E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8B8CA-6DF5-4E43-8B17-76A226B2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1C12E-C949-4309-8FDE-13127EA9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674BE-88EB-4A01-BCDB-44C40C53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42B24-15F9-41CD-B2CC-F510902B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E63D6-8079-4FA1-9F6B-24EBFCD3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D40AE-08D0-4C84-BEFC-BFEFB6C9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36A3F-C2FA-405A-A491-D1D53A7F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E807A-93B5-4EF4-8874-24F7BBCC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4DA78-0FA0-4DAE-A498-A71072E1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BC100-2685-417C-A0CC-9C7CFBA2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222-AF75-43F3-9932-7C07BA76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AECB8-0B11-4202-ACAB-7AA24808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5483F-7C06-461F-98B3-6EA17E3E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6F138-16B6-45EF-A767-2C12AA65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3BF3A-78E8-43D4-B28F-BF7BC825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C1CFD-9478-4E6D-A60A-74CBBA2E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BDA79-5117-4A6A-B206-225706AA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8B7B5-2FD3-4CED-8675-E134974D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4BC67-B75F-4C9F-B501-7B0A58BB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1DBEC-0968-491E-9395-FC60375E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58ABC-312D-4DC5-936B-F2CADFA7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F51-CF55-45CA-A99A-25E4F0A0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B2EC5-8CA4-4701-987D-43A05071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EA4C8-F263-4A18-B65A-F121C6BC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1BE25-6963-40AF-86B5-EAFB2E2E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708E3-8459-455C-A0B4-9D8C4B38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30F56-A214-4CF8-9E8D-EC9CAE73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A7189-EE87-406C-899D-9B05A00D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DC86D-DAAB-4BFC-9369-F1621420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A6D4F-F158-4749-B2EF-CED24899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97FAF-CDD0-4815-A6AD-6E361DC7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4021B-D2B1-4D91-88B5-75A2CCDE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F1D-5569-42E3-9BF4-A3349846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AEED0-C231-449B-B1ED-BA15E646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7C42D-379F-4C21-A97C-C9C53775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936F7-E38C-4C5B-BFA7-995B728D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59F7C-E277-4F4C-B1E5-262FB908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3F426-3F7B-47C7-AA9D-35F23374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E5BC6-8370-4CB9-96EE-C1AC5EAC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3763B-C8FD-4F72-805F-0B1E16B8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CEF80-52F2-4637-B7A0-3EDD38D6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4493F-876C-47AC-9970-8B54ADFE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D02B6-AD3E-47DF-AA5A-A822325C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7F2-9D13-4483-92D1-E4E02C09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5A41C-89FC-4ED8-856D-6055EC4F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D18E2-DB49-4EB2-AF02-FE869DEF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90D30-B9B2-4328-B01F-3A5A1FB8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2C541-68C9-4F80-9B0E-9B5161BA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74917-3D93-4B25-8981-DF715178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1D8CE-209C-4A9E-BA91-8F76EF02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00923-44CD-4BAC-AE18-47BC875C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008E2-2274-4AC9-93C6-B9500315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A217A-8267-4FC1-B990-62E1C41E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80A78-0557-4E53-A597-C6BC388D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361-6D47-4E68-8F83-C3A2F143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1AE5C-7B60-4170-AC03-783E3B28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BCDCF-5D2E-401F-8E9B-601700D8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B42F4-C730-4E28-A2DB-6AE0BF78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06271-8260-4740-A061-1D294B94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05AEB-C9D1-4A4C-A52A-A8A733BE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4C319-EB91-4212-AF8C-F5459ECB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11045-6068-444C-A183-38AED870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B74B-E765-42A9-B891-98BD5F9D74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0032-DC53-4EB5-8348-1B933E4EA79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9E04-77A7-4DA7-B2A7-8F48B270449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7364-0567-4065-8C7F-00F597837BC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3C9A-69C4-472C-9BEE-98F8F74031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852A-6B0B-4745-8AA4-6E9B59C1AB3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91AA-216C-4FEB-AD60-EE7FE0CFD4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C982-541F-41C0-A6C4-E0F3D89E3FC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2"/>
          <a:stretch/>
        </p:blipFill>
        <p:spPr>
          <a:xfrm>
            <a:off x="311040" y="328680"/>
            <a:ext cx="8729640" cy="1481040"/>
          </a:xfrm>
          <a:prstGeom prst="rect">
            <a:avLst/>
          </a:prstGeom>
          <a:ln w="0">
            <a:noFill/>
          </a:ln>
        </p:spPr>
      </p:pic>
      <p:pic>
        <p:nvPicPr>
          <p:cNvPr id="371" name="Text Box 4" descr=""/>
          <p:cNvPicPr/>
          <p:nvPr/>
        </p:nvPicPr>
        <p:blipFill>
          <a:blip r:embed="rId3"/>
          <a:stretch/>
        </p:blipFill>
        <p:spPr>
          <a:xfrm>
            <a:off x="2992320" y="5711760"/>
            <a:ext cx="5432400" cy="101304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5" descr=""/>
          <p:cNvPicPr/>
          <p:nvPr/>
        </p:nvPicPr>
        <p:blipFill>
          <a:blip r:embed="rId4"/>
          <a:stretch/>
        </p:blipFill>
        <p:spPr>
          <a:xfrm>
            <a:off x="981000" y="2279520"/>
            <a:ext cx="7400880" cy="37864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еобходимо обратить внимание на момент, когда приходится определять от какого числа следует искать процент. При простейших формулировках задач проблем не возникает. Однако следует создать проблему, сформулировав, например такую задачу: На сколько процентов     больше   , если     меньше, чем    на 20%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5214960" y="3571920"/>
                <a:ext cx="2602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6715080" y="3500280"/>
                <a:ext cx="2858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5"/>
              <p:cNvSpPr txBox="1"/>
              <p:nvPr/>
            </p:nvSpPr>
            <p:spPr>
              <a:xfrm>
                <a:off x="7858080" y="3500280"/>
                <a:ext cx="28584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6"/>
              <p:cNvSpPr txBox="1"/>
              <p:nvPr/>
            </p:nvSpPr>
            <p:spPr>
              <a:xfrm>
                <a:off x="2786040" y="3929040"/>
                <a:ext cx="2858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500040" y="3500280"/>
            <a:ext cx="2773440" cy="30387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По условию         на 20%. Значит               и                 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Пусть           на х %, тогда приняв за 100% число    , найдём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 Из этих двух равенств следует, что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Вынесем за скобку общи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множитель           , получим: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Ответ: на 25%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1" descr=""/>
          <p:cNvPicPr/>
          <p:nvPr/>
        </p:nvPicPr>
        <p:blipFill>
          <a:blip r:embed="rId2"/>
          <a:stretch/>
        </p:blipFill>
        <p:spPr>
          <a:xfrm>
            <a:off x="225360" y="55440"/>
            <a:ext cx="8467920" cy="77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2143080" y="785880"/>
                <a:ext cx="606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&l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5143680" y="857160"/>
                <a:ext cx="11430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6572160" y="714240"/>
                <a:ext cx="1357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5"/>
              <p:cNvSpPr txBox="1"/>
              <p:nvPr/>
            </p:nvSpPr>
            <p:spPr>
              <a:xfrm>
                <a:off x="1285920" y="1285920"/>
                <a:ext cx="8571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&gt;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6"/>
              <p:cNvSpPr txBox="1"/>
              <p:nvPr/>
            </p:nvSpPr>
            <p:spPr>
              <a:xfrm>
                <a:off x="7358040" y="1357200"/>
                <a:ext cx="3492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7"/>
              <p:cNvSpPr txBox="1"/>
              <p:nvPr/>
            </p:nvSpPr>
            <p:spPr>
              <a:xfrm>
                <a:off x="142920" y="1643040"/>
                <a:ext cx="15717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8"/>
              <p:cNvSpPr txBox="1"/>
              <p:nvPr/>
            </p:nvSpPr>
            <p:spPr>
              <a:xfrm>
                <a:off x="0" y="2143080"/>
                <a:ext cx="4643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⋅</m:t>
                            </m:r>
                            <m:r>
                              <m:t xml:space="preserve">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⋅</m:t>
                            </m:r>
                            <m:r>
                              <m:t xml:space="preserve">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9"/>
              <p:cNvSpPr txBox="1"/>
              <p:nvPr/>
            </p:nvSpPr>
            <p:spPr>
              <a:xfrm>
                <a:off x="1692360" y="2833560"/>
                <a:ext cx="9856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⋅</m:t>
                            </m:r>
                            <m:r>
                              <m:t xml:space="preserve">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0"/>
              <p:cNvSpPr txBox="1"/>
              <p:nvPr/>
            </p:nvSpPr>
            <p:spPr>
              <a:xfrm>
                <a:off x="4214880" y="2786040"/>
                <a:ext cx="2714400" cy="407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а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х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0,2</m:t>
                            </m:r>
                            <m:r>
                              <m:t xml:space="preserve">⋅</m:t>
                            </m:r>
                            <m:r>
                              <m:t xml:space="preserve">а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х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t xml:space="preserve">х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а</m:t>
                            </m:r>
                          </m:num>
                          <m:den>
                            <m:r>
                              <m:t xml:space="preserve">0,8</m:t>
                            </m:r>
                            <m:r>
                              <m:t xml:space="preserve">⋅</m:t>
                            </m:r>
                            <m:r>
                              <m:t xml:space="preserve">а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t xml:space="preserve">х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,8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t xml:space="preserve">х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Часто при решении задач на проценты приходится сталкиваться с понятиями «процентное содержание», «концентрация», «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%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-й раствор» и т. п. В задачах, связанных с использованием этих понятий, речь идёт о составлении сплавов, растворов или смесей нескольких веществ. Термин концентрация часто встречается в химии, там, где рассматриваются различные соединени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91960" y="208080"/>
            <a:ext cx="8401320" cy="1084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усть в ведре 10 литров солёной воды. Если процентное содержание соли в нём составляет, например, 15%, то это значит что в это ведре                  кг соли. 10 литров воды весят 10 кг, а удельный вес воды равен 1000        . Говорят также, что в ведре 15%-й раствор соли.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47760" y="566640"/>
            <a:ext cx="8345520" cy="860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5214960" y="3214800"/>
                <a:ext cx="1928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6929280" y="4071960"/>
                <a:ext cx="8575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num>
                      <m:den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Два раствора, из которых первый содержал 800 грамм безводной серной кислоты, а второй 600 грамм безводной серной кислоты, соединили вместе и получили 10 кг нового раствора серной кислоты. Определить массу первого и второго раствора вошедших в смесь, если известно, что процент содержания безводной серной кислоты в первом растворе на 10% больше, чем процент содержания безводной серной кислоты во втором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-360" y="121428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усть х кг- масса первого раствора, тогда (10-х) кг – масса второго раствор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 массовая доля (в%) безводной серной кислоты в первом раствор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 массовая доля (в%) безводной серной кислоты во втором раствор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о условию имеем, что процент содержания в первом растворе на 10% больше чем во второ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оставим уравнен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357120" y="2000160"/>
                <a:ext cx="2214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357120" y="2786040"/>
                <a:ext cx="2000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4"/>
              <p:cNvSpPr txBox="1"/>
              <p:nvPr/>
            </p:nvSpPr>
            <p:spPr>
              <a:xfrm>
                <a:off x="4502160" y="3213000"/>
                <a:ext cx="139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5" name="Содержимое 3"/>
              <p:cNvSpPr txBox="1"/>
              <p:nvPr/>
            </p:nvSpPr>
            <p:spPr>
              <a:xfrm>
                <a:off x="357120" y="547560"/>
                <a:ext cx="4000680" cy="454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6" name="Прямоугольник 5"/>
          <p:cNvSpPr/>
          <p:nvPr/>
        </p:nvSpPr>
        <p:spPr>
          <a:xfrm>
            <a:off x="0" y="214200"/>
            <a:ext cx="91440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.к по условию х меньше 10, то корень х=20 не удовлетворяет условию задачи, значит 4 кг- масса первого раствора, тогда 10-4=6(кг)- масса второго раствора. Ответ: 4 кг, 6 кг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5" descr=""/>
          <p:cNvPicPr/>
          <p:nvPr/>
        </p:nvPicPr>
        <p:blipFill>
          <a:blip r:embed="rId1"/>
          <a:stretch/>
        </p:blipFill>
        <p:spPr>
          <a:xfrm>
            <a:off x="642960" y="3214800"/>
            <a:ext cx="2522520" cy="33321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4"/>
          <p:cNvSpPr/>
          <p:nvPr/>
        </p:nvSpPr>
        <p:spPr>
          <a:xfrm>
            <a:off x="280080" y="2352240"/>
            <a:ext cx="885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Несколько задач ГИА 2010 го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5214960" y="285840"/>
            <a:ext cx="3286080" cy="1768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1.Цена на товар была повышена на 23% и составила 2091 рубль. Сколько стоил товар до повышения цены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усть товар стоил х и стоимость его составляла 100% После повышения на 23%, его стоимость составила 100%+23%=123% или 2091 рубль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еем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Х р. -  100%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91 р. – 123%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ли х=2091:1,23=1700 рублей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твет: до повышения цены товар стоил 1700 рубле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142920" y="4000680"/>
                <a:ext cx="371484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9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0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1.Из объявления фирмы, проводящей обучающие семинары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«Стоимость участия в семинаре – 3000 руб. с человека. Группам от организаций предоставляются скидки: от 3 до 10 человек – 5%, более 10 человек – 8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колько должна заплатить организация, направившая на семинар группу из 12 человек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астие - 3000 р. с чел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т 3 до 10 чел. – скидка 5%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более 10 чел. – скидка 8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тоимость семинара из 12 чел. - ? руб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ешение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Для группы из 12 чел. – 8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1)3000    12= 36000(руб.) –стоимость участия для 12 чел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)8%=0,08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36000    0,08=2880(руб.) – скидк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3)36000-2880=33120(руб.) – стоимость семинара со скидкой 8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твет: 33120 рубле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2"/>
              <p:cNvSpPr txBox="1"/>
              <p:nvPr/>
            </p:nvSpPr>
            <p:spPr>
              <a:xfrm>
                <a:off x="928800" y="4500720"/>
                <a:ext cx="25236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3"/>
              <p:cNvSpPr txBox="1"/>
              <p:nvPr/>
            </p:nvSpPr>
            <p:spPr>
              <a:xfrm>
                <a:off x="785880" y="5214960"/>
                <a:ext cx="2142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"/>
          <p:cNvPicPr/>
          <p:nvPr/>
        </p:nvPicPr>
        <p:blipFill>
          <a:blip r:embed="rId1">
            <a:lum bright="-28000"/>
          </a:blip>
          <a:stretch/>
        </p:blipFill>
        <p:spPr>
          <a:xfrm>
            <a:off x="142920" y="3786120"/>
            <a:ext cx="2305080" cy="28926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4"/>
          <p:cNvSpPr/>
          <p:nvPr/>
        </p:nvSpPr>
        <p:spPr>
          <a:xfrm>
            <a:off x="0" y="171720"/>
            <a:ext cx="882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шение математических задач практически т содержания позволяет учащимся убедиться в значении математики для различных сф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еловеческой деятельности,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увидеть широту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озможных прило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атематики, понять её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оль в современ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4" descr=""/>
          <p:cNvPicPr/>
          <p:nvPr/>
        </p:nvPicPr>
        <p:blipFill>
          <a:blip r:embed="rId1"/>
          <a:stretch/>
        </p:blipFill>
        <p:spPr>
          <a:xfrm>
            <a:off x="6715080" y="3214800"/>
            <a:ext cx="2428920" cy="35258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5"/>
          <p:cNvSpPr/>
          <p:nvPr/>
        </p:nvSpPr>
        <p:spPr>
          <a:xfrm>
            <a:off x="468360" y="1428840"/>
            <a:ext cx="86756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мение выполнять процентные расчёты необходимо каждому человеку. В процентах вычисляется выполнение объёма работы, производительность труда, экономия материалов, топлива,                         электроэнергии и др.                                   Проценты применяются в физике,                   химии, метеоролог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ехнике,                      статистике, при всевозможных                    банковских операциях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2774520" y="69228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ыв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28400" y="2071440"/>
            <a:ext cx="825804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Москва «школа –Пресс» Математика в школе №3 1994г; №4 1995 г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Большая энциклопедия школьника. Изд-во Москва  «Росмэн» 2003 г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ГИА 2010-2011 тренировочные тесты по математике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Г. К. Муравин алгебра 7-9. Изд-во «Дрофа» Москва 2008 г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Сборник заданий для подготовки к государственной итоговой аттестации в 9 классе. Москва «Просвещение» 2010 г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Прямоугольник 4" descr=""/>
          <p:cNvPicPr/>
          <p:nvPr/>
        </p:nvPicPr>
        <p:blipFill>
          <a:blip r:embed="rId1"/>
          <a:stretch/>
        </p:blipFill>
        <p:spPr>
          <a:xfrm>
            <a:off x="901800" y="304920"/>
            <a:ext cx="6986520" cy="1699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727920" y="2642760"/>
            <a:ext cx="81468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торить содержание понятия «процент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торить основные приёмы и методы решения зада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учиться анализировать реальные ситуации с помощ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тематических знаний, которыми владеют учащиес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* ГИА 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спитывать трудолюбие, чувство уважения к нау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636720" y="614520"/>
            <a:ext cx="35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Цели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1188360" y="4273920"/>
            <a:ext cx="3771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торически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матические задач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3278160" y="758880"/>
            <a:ext cx="44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частник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502560" y="1785960"/>
            <a:ext cx="845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и 8-9 классов: Ващенко Д., Колесников С., Развин С., Божанова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пакова Е., Васильева Е., Манюшкина Е., Иванова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1267920" y="2852640"/>
            <a:ext cx="74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мы самостоятельного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000" y="1628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Исторические сведения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Алгоритмы основных типов задач на проценты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Решение и анализ задач 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Отработка вычислительных навыков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Несколько задач ГИА 2010г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Подведение итогов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1479240" y="549360"/>
            <a:ext cx="70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тапы проведения проек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95280" y="105264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лово </a:t>
            </a:r>
            <a:r>
              <a:rPr b="1" i="1" lang="ru-RU" sz="1600" spc="-1" strike="noStrike">
                <a:solidFill>
                  <a:srgbClr val="000000"/>
                </a:solidFill>
                <a:latin typeface="Lucida Sans Unicode"/>
              </a:rPr>
              <a:t>процент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 латинского слово р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 се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ntum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что буквально означает «за сотню» или «со ста». Идея выражения частей целого постоянно в одних и тех же долях, вызванная практическими соображениям, родилась ещё в древности у вавилонян. Ряд задач клинописных табличек посвящен исчислению процентов, однако вавилонские ростовщики считали не «со ста», а «с шестидесяти». Проценты были особенно распространены в Древнем Риме. Римляне называли процентами деньги, которые платил должник заимодавцу за каждую сотню. От римлян проценты перешли к другим народам Европы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Долгое время под процентами понимались исключительно прибыль или убыток на каждые сто рублей. Они применялись только в торговых и денежных сделках. Затем область их применения расширилась, проценты встречаются в хозяйственных и финансовых расчетах, статистике, науке и технике. Ныне процент- это частый вид десятичных дробей, сотая доля целого (принимаемого за единицу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Знак % происходит, как полагают, от итальянского слова сеп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(сто), которое в процентных расчётах часто писалось сокращенно с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. Отсюда путём дальнейшего упрощения в скорописи буква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t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превратилась в наклонённую черту (/), возник современный символ для обозначения процент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2873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7"/>
          <p:cNvSpPr/>
          <p:nvPr/>
        </p:nvSpPr>
        <p:spPr>
          <a:xfrm>
            <a:off x="2484360" y="5877000"/>
            <a:ext cx="44658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озник знак процента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—&gt;се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—&gt;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—&gt;с/о —&gt;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1763640" y="620640"/>
            <a:ext cx="57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 и анализ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500040" y="1071720"/>
            <a:ext cx="8175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приём решения задач  на прямую пропорциональность или на пропорции, который, видимо, придумали учителя химии, утомлённые хроническими ошибками, допускаемыми учащимися в процентных расчё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: «В растворе массой 400г содержится 20г соли. Каково процентное содержание соли в растворе?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: Составим таблицу:400г-----------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г----------- х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нужно мысленно сблизить обе строки, чтобы знаки тире образовали знак =. Так получается пропорция:                реш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ой и даёт ответ х=5. Многие учащиеся решают туже задачу «ещё прощё», умножив крест – накрест: 20 на 100 и х на 400 из краткой записи условия задачи. Во всех случаях способ действий не опирается на понимание сути этих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6"/>
              <p:cNvSpPr txBox="1"/>
              <p:nvPr/>
            </p:nvSpPr>
            <p:spPr>
              <a:xfrm>
                <a:off x="6143760" y="3857760"/>
                <a:ext cx="1000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се задачи из данного раздела являются необязательными в том смысле что не нужно добиваться от всех учащихся умения их решать. Следующую задачу можно отнести к задачи олимпиадного характера, хотя особой сложности она и не представляет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Задача: «Три курицы за три дня снесли три яйца. Сколько яиц снесут 12 кур за 12 дней?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Учащиеся очень удивятся когда узнают, что «очевидный» ответ «12 яиц» неверен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291960" y="208080"/>
            <a:ext cx="8371080" cy="115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пишем краткое условие задачи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Кур          дней            яиц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3              3                  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12            12                х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 ходе обсуждения мы пришли к выводу, что если сначал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величить только число кур в 4 раза, то число яиц тоже увеличиться в 4 раза. Если же, кроме того число дней увеличить в 4 раза, то число яиц увеличится ещё в 4 раза. Окончательно имеем: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твет: 48 яиц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3" name="Object 2"/>
              <p:cNvSpPr txBox="1"/>
              <p:nvPr/>
            </p:nvSpPr>
            <p:spPr>
              <a:xfrm>
                <a:off x="1714680" y="4357800"/>
                <a:ext cx="30002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яиц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07:50:29Z</dcterms:created>
  <dc:creator>user</dc:creator>
  <dc:description/>
  <dc:language>en-US</dc:language>
  <cp:lastModifiedBy>1</cp:lastModifiedBy>
  <dcterms:modified xsi:type="dcterms:W3CDTF">2011-11-24T07:39:48Z</dcterms:modified>
  <cp:revision>99</cp:revision>
  <dc:subject/>
  <dc:title>Практическая направленность обучения</dc:title>
</cp:coreProperties>
</file>