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969-EE34-4244-B83B-AEC37B16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B65-44F7-4D1A-A45B-B6AC2432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564-6CA1-43A8-8846-DFA7A951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C5C-8DB3-4DB9-87F1-E623A745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EEC6-E539-49E8-9928-47793207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010B-0685-457A-82E1-1D4B654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F0DF-BB2B-4DEC-A9B3-4A38009C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8E7F-8652-447C-B253-924A20C9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C15C-EDB1-470F-ABB2-9845FFD6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5496-5DC0-487B-92C2-460DC6F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D789-6F00-4E0A-9FF4-BB647D3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EC1-DE39-4041-B33F-17A0DED0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9472-FC7B-45A3-BB4C-A1EBFCB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627-1366-4F98-8E5C-79A3CAE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136-B70C-4628-A465-FBDD381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3CFB-3701-4849-8390-CDC9E005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04C1-B19D-4F6E-9251-BA5B502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FA3D-5419-45B1-B741-082007F1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FAF77-4027-4A29-8317-1CB9DF4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771E-2571-4DFF-AF65-96EBC183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07E8-B0FF-43F3-BB84-E39E709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D499-6555-4577-B2CB-92A8F46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9FC-217A-4038-BE91-F005F4F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8097-E31B-4B0C-B6AE-70CA8E72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8E00-881C-4010-8403-FA21836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B067-4BAA-4AFC-9066-EB8548D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671C-1802-4EDD-83FE-BF27DD8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9CB5-5DBD-4B28-83E1-621689E3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FC21-1E3F-490A-ACAE-8D2A90AD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536B-0C70-4D35-9083-512C620E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2828-5286-410A-9513-ECA1B40F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D854-B50B-425B-8FE0-8AF9CBC5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184D-E5CB-420E-8422-BCE77EA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A05-CB86-4283-AF56-2D75203D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E070-841F-4310-A8B0-2FE407D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5F091-5A6B-46D8-AD3D-D73F380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479B-73B0-4F42-AEF0-2A57BC0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EF9F-26A6-4C08-99E0-E217C64A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1723-4D7F-4EF9-8D9F-1606EFA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CC4E-FCB4-408F-BD26-47BE5A3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681B-514A-42C6-8F74-A21F43C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7DC8-8843-4041-AB3C-9BC24265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E490-1086-4AB4-986E-606EFDDA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D663D-9BC5-4CF2-9806-7CBEE761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699-32BE-4D18-8275-B394E80B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7E7B-47F4-436A-A7B9-944718F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1104-78F4-41BB-B24F-3E16FE6E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200B-4026-4398-961A-4AE168D1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C779-93FE-47D3-9E7C-41A95972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08C6-8E9C-4F28-A1F3-D65D348F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66490-22F2-40CA-800E-2A4D121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AAC1-E8F8-4306-AC1C-B1426488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F5A0-100D-49EF-89EB-8CC2D53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3906-36A9-45E1-81B0-921565BE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ACFA-E93D-4BF2-BCBD-BFDFA0BA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E24-811C-4A0C-8287-789D2D8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15A8-D50B-4FD7-8CD4-C30D5415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21A6B-635B-4BCD-97DB-88E686C1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246A-7AAD-4264-ACAB-F6AE40F6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BA555-C223-4C01-991E-01874EF1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A19F-CFAF-4AB4-AA5A-BBBBDB4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FE47-9D4E-4A8D-9A17-1C320507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5DD1-C344-41DB-8E31-A253312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8789-0F57-45D3-81FE-77226A8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2031-44DF-4856-B117-2A17FE0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F127A-B3F4-4FC7-8C5E-51DC3B0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A47-D4B4-4861-B482-AA8F5C3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0158E-E88B-49C4-9655-71225D32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1D50B-D674-497E-974A-5859613E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C5B6C-14F7-4D30-821F-0D20C74E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0CB9-9DE3-4DF1-81CC-C67C9AB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213B-DF5A-4FB9-A517-523A7601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9CA69-AC44-483D-B778-EA0ED2A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A4A9-4E4E-4E68-8377-E469DE9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25E7-17CD-4AD1-98D0-BC8BFD45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D605-0205-45BC-A9AD-F7DF5AFB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DA0E-4CE4-4F9A-802F-37D7CA2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BF5-D356-4006-9758-0562048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8A16-A231-4858-85D1-4486A7A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29E53-2703-4B60-A897-7A25296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289EF-D8C0-437D-972A-B8BAF289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70EE-B734-4D6A-8DBD-28C49696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8A70-4CE5-4C40-B575-901E823A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2CEE-EFBA-4DED-8BC4-0255139C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66E5-2CEF-4AC8-8C91-8A90294D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9787-0BBE-4E6B-88D9-80E5A631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42D7-0815-4BB4-9CE0-6B48DE7F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69036-DD90-4304-B0D3-DF0FC2D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0DE-66A1-45E0-8282-27DB05A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7435F-C23B-4937-95BD-E199EF7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0AB1-A1A4-4675-84E1-C8EFFE9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C6DD-C40E-499F-BFA4-3FDBC8E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7FEC-7ECA-443B-A762-F9FEB0E2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E5D26-E926-42DB-9D53-2FFBF90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0B4B7-90EE-4F9A-847A-BBFA6D99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AE7CB-116C-4820-8822-A63637AF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60F-8FCF-44BE-B075-CE6FD01033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609-2B87-422F-9769-494B04862B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F05-FD7D-4BA0-BB1A-6B8F49E87A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9CCE-CE76-486E-9B79-C7166A9D56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C91B-AC9C-4D0B-A040-34372CA470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043-DD9B-41F4-8990-28D4C4D00A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C99D-BB74-46CB-B6FB-BBC7192A2A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9010-796F-414A-97E0-E54580556F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2"/>
          <a:stretch/>
        </p:blipFill>
        <p:spPr>
          <a:xfrm>
            <a:off x="311040" y="328680"/>
            <a:ext cx="8729640" cy="1481040"/>
          </a:xfrm>
          <a:prstGeom prst="rect">
            <a:avLst/>
          </a:prstGeom>
          <a:ln w="0">
            <a:noFill/>
          </a:ln>
        </p:spPr>
      </p:pic>
      <p:pic>
        <p:nvPicPr>
          <p:cNvPr id="371" name="Text Box 4" descr=""/>
          <p:cNvPicPr/>
          <p:nvPr/>
        </p:nvPicPr>
        <p:blipFill>
          <a:blip r:embed="rId3"/>
          <a:stretch/>
        </p:blipFill>
        <p:spPr>
          <a:xfrm>
            <a:off x="2992320" y="5711760"/>
            <a:ext cx="5432400" cy="101304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5" descr=""/>
          <p:cNvPicPr/>
          <p:nvPr/>
        </p:nvPicPr>
        <p:blipFill>
          <a:blip r:embed="rId4"/>
          <a:stretch/>
        </p:blipFill>
        <p:spPr>
          <a:xfrm>
            <a:off x="981000" y="2279520"/>
            <a:ext cx="7400880" cy="378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обходимо обратить внимание на момент, когда приходится определять от какого числа следует искать процент. При простейших формулировках задач проблем не возникает. Однако следует создать проблему, сформулировав, например такую задачу: На сколько процентов     больше   , если     меньше, чем    на 20%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214960" y="3571920"/>
                <a:ext cx="260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715080" y="3500280"/>
                <a:ext cx="28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5"/>
              <p:cNvSpPr txBox="1"/>
              <p:nvPr/>
            </p:nvSpPr>
            <p:spPr>
              <a:xfrm>
                <a:off x="7858080" y="3500280"/>
                <a:ext cx="2858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6"/>
              <p:cNvSpPr txBox="1"/>
              <p:nvPr/>
            </p:nvSpPr>
            <p:spPr>
              <a:xfrm>
                <a:off x="2786040" y="3929040"/>
                <a:ext cx="2858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00040" y="3500280"/>
            <a:ext cx="2773440" cy="30387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о условию         на 20%. Значит               и                 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усть           на х %, тогда приняв за 100% число    , найдём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 Из этих двух равенств следует, что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ынесем за скобку общи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множитель           , получим: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Ответ: на 25%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225360" y="55440"/>
            <a:ext cx="8467920" cy="7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2143080" y="785880"/>
                <a:ext cx="606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143680" y="857160"/>
                <a:ext cx="1143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6572160" y="714240"/>
                <a:ext cx="1357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1285920" y="1285920"/>
                <a:ext cx="857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g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6"/>
              <p:cNvSpPr txBox="1"/>
              <p:nvPr/>
            </p:nvSpPr>
            <p:spPr>
              <a:xfrm>
                <a:off x="7358040" y="1357200"/>
                <a:ext cx="3492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142920" y="1643040"/>
                <a:ext cx="1571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8"/>
              <p:cNvSpPr txBox="1"/>
              <p:nvPr/>
            </p:nvSpPr>
            <p:spPr>
              <a:xfrm>
                <a:off x="0" y="2143080"/>
                <a:ext cx="4643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1692360" y="2833560"/>
                <a:ext cx="9856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0"/>
              <p:cNvSpPr txBox="1"/>
              <p:nvPr/>
            </p:nvSpPr>
            <p:spPr>
              <a:xfrm>
                <a:off x="4214880" y="2786040"/>
                <a:ext cx="2714400" cy="407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0,2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а</m:t>
                            </m:r>
                          </m:num>
                          <m:den>
                            <m:r>
                              <m:t xml:space="preserve">0,8</m:t>
                            </m:r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,8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асто при решении задач на проценты приходится сталкиваться с понятиями «процентное содержание», «концентрация», «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%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й раствор» и т. п. В задачах, связанных с использованием этих понятий, речь идёт о составлении сплавов, растворов или смесей нескольких веществ. Термин концентрация часто встречается в химии, там, где рассматриваются различные соедине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1960" y="208080"/>
            <a:ext cx="8401320" cy="1084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усть в ведре 10 литров солёной воды. Если процентное содержание соли в нём составляет, например, 15%, то это значит что в это ведре                  кг соли. 10 литров воды весят 10 кг, а удельный вес воды равен 1000        . Говорят также, что в ведре 15%-й раствор соли.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47760" y="566640"/>
            <a:ext cx="8345520" cy="86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5214960" y="3214800"/>
                <a:ext cx="1928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6929280" y="4071960"/>
                <a:ext cx="85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ва раствора, из которых первый содержал 800 грамм безводной серной кислоты, а второй 600 грамм безводной серной кислоты, соединили вместе и получили 10 кг нового раствора серной кислоты. Определить массу первого и второго раствора вошедших в смесь, если известно, что процент содержания безводной серной кислоты в первом растворе на 10% больше, чем процент содержания безводной серной кислоты во втор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-360" y="121428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сть х кг- масса первого раствора, тогда (10-х) кг – масса второго раствор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массовая доля (в%) безводной серной кислоты в первом раствор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массовая доля (в%) безводной серной кислоты во втором раствор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 условию имеем, что процент содержания в первом растворе на 10% больше чем во втор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357120" y="2000160"/>
                <a:ext cx="2214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357120" y="2786040"/>
                <a:ext cx="2000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4"/>
              <p:cNvSpPr txBox="1"/>
              <p:nvPr/>
            </p:nvSpPr>
            <p:spPr>
              <a:xfrm>
                <a:off x="4502160" y="3213000"/>
                <a:ext cx="13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5" name="Содержимое 3"/>
              <p:cNvSpPr txBox="1"/>
              <p:nvPr/>
            </p:nvSpPr>
            <p:spPr>
              <a:xfrm>
                <a:off x="357120" y="547560"/>
                <a:ext cx="4000680" cy="45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Прямоугольник 5"/>
          <p:cNvSpPr/>
          <p:nvPr/>
        </p:nvSpPr>
        <p:spPr>
          <a:xfrm>
            <a:off x="0" y="214200"/>
            <a:ext cx="91440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к по условию х меньше 10, то корень х=20 не удовлетворяет условию задачи, значит 4 кг- масса первого раствора, тогда 10-4=6(кг)- масса второго раствора. Ответ: 4 кг, 6 к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522520" cy="33321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280080" y="2352240"/>
            <a:ext cx="88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есколько задач ГИА 2010 го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286080" cy="176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1.Цена на товар была повышена на 23% и составила 2091 рубль. Сколько стоил товар до повышения цены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сть товар стоил х и стоимость его составляла 100% После повышения на 23%, его стоимость составила 100%+23%=123% или 2091 рубл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еем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Х р. -  100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91 р. – 123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х=2091:1,23=1700 рубле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твет: до повышения цены товар стоил 1700 рубл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42920" y="4000680"/>
                <a:ext cx="37148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9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0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.Из объявления фирмы, проводящей обучающие семинары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Стоимость участия в семинаре – 3000 руб. с человека. Группам от организаций предоставляются скидки: от 3 до 10 человек – 5%, более 10 человек –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лько должна заплатить организация, направившая на семинар группу из 12 человек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астие - 3000 р. с че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т 3 до 10 чел. – скидка 5%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более 10 чел. – скидка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оимость семинара из 12 чел. - ? руб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ля группы из 12 чел. –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)3000    12= 36000(руб.) –стоимость участия для 12 чел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)8%=0,0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6000    0,08=2880(руб.) – скидк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)36000-2880=33120(руб.) – стоимость семинара со скидкой 8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твет: 33120 рубле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928800" y="4500720"/>
                <a:ext cx="25236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785880" y="5214960"/>
                <a:ext cx="2142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42920" y="3786120"/>
            <a:ext cx="2305080" cy="28926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0" y="171720"/>
            <a:ext cx="882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шение математических задач практически т содержания позволяет учащимся убедиться в значении математики для различных сф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еловеческой деятельности,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увидеть широту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зможных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тематики, понять её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ль в современ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6715080" y="3214800"/>
            <a:ext cx="2428920" cy="35258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5"/>
          <p:cNvSpPr/>
          <p:nvPr/>
        </p:nvSpPr>
        <p:spPr>
          <a:xfrm>
            <a:off x="468360" y="1428840"/>
            <a:ext cx="8675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мение выполнять процентные расчёты необходимо каждому человеку. В процентах вычисляется выполнение объёма работы, производительность труда, экономия материалов, топлива,                         электроэнергии и др.                                   Проценты применяются в физике,                   химии, метеоролог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хнике,                      статистике, при всевозможных                    банковских операция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2774520" y="6922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ы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28400" y="2071440"/>
            <a:ext cx="82580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осква «школа –Пресс» Математика в школе №3 1994г; №4 1995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Большая энциклопедия школьника. Изд-во Москва  «Росмэн» 2003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ИА 2010-2011 тренировочные тесты по математик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. К. Муравин алгебра 7-9. Изд-во «Дрофа» Москва 2008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Сборник заданий для подготовки к государственной итоговой аттестации в 9 классе. Москва «Просвещение» 2010 г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Прямоугольник 4" descr=""/>
          <p:cNvPicPr/>
          <p:nvPr/>
        </p:nvPicPr>
        <p:blipFill>
          <a:blip r:embed="rId1"/>
          <a:stretch/>
        </p:blipFill>
        <p:spPr>
          <a:xfrm>
            <a:off x="901800" y="304920"/>
            <a:ext cx="6986520" cy="169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727920" y="2642760"/>
            <a:ext cx="81468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ить содержание понятия «процент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ить основные приёмы и методы решения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иться анализировать реальные ситуации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тематических знаний, которыми владеют учащиес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 ГИА 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ывать трудолюбие, чувство уважения к нау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636720" y="61452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1188360" y="4273920"/>
            <a:ext cx="3771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чески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тические задач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278160" y="758880"/>
            <a:ext cx="44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502560" y="1785960"/>
            <a:ext cx="845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и 8-9 классов: Ващенко Д., Колесников С., Развин С., Божан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пакова Е., Васильева Е., Манюшкина Е., Иванова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267920" y="2852640"/>
            <a:ext cx="74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ы самостоятельного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Исторические сведен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Алгоритмы основных типов задач на проценты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Решение и анализ задач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Отработка вычислительных навык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Несколько задач ГИА 2010г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Подведение итогов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479240" y="549360"/>
            <a:ext cx="70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тапы проведения про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95280" y="105264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лово </a:t>
            </a:r>
            <a:r>
              <a:rPr b="1" i="1" lang="ru-RU" sz="1600" spc="-1" strike="noStrike">
                <a:solidFill>
                  <a:srgbClr val="000000"/>
                </a:solidFill>
                <a:latin typeface="Lucida Sans Unicode"/>
              </a:rPr>
              <a:t>процент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латинского слово р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 се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tum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что буквально означает «за сотню» или «со ста». Идея выражения частей целого постоянно в одних и тех же долях, вызванная практическими соображениям, родилась ещё в древности у вавилонян. Ряд задач клинописных табличек посвящен исчислению процентов, однако вавилонские ростовщики считали не «со ста», а «с шестидесяти». Проценты были особенно распространены в Древнем Риме. Римляне называли процентами деньги, которые платил должник заимодавцу за каждую сотню. От римлян проценты перешли к другим народам Европ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Долгое время под процентами понимались исключительно прибыль или убыток на каждые сто рублей. Они применялись только в торговых и денежных сделках. Затем область их применения расширилась, проценты встречаются в хозяйственных и финансовых расчетах, статистике, науке и технике. Ныне процент- это частый вид десятичных дробей, сотая доля целого (принимаемого за единицу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Знак % происходит, как полагают, от итальянского слова сеп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(сто), которое в процентных расчётах часто писалось сокращенно с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. Отсюда путём дальнейшего упрощения в скорописи букв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ревратилась в наклонённую черту (/), возник современный символ для обозначения процент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2873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7"/>
          <p:cNvSpPr/>
          <p:nvPr/>
        </p:nvSpPr>
        <p:spPr>
          <a:xfrm>
            <a:off x="2484360" y="5877000"/>
            <a:ext cx="44658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озник знак процента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—&gt;се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—&gt;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—&gt;с/о —&gt;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1763640" y="62064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 и анализ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00040" y="1071720"/>
            <a:ext cx="8175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приём решения задач  на прямую пропорциональность или на пропорции, который, видимо, придумали учителя химии, утомлённые хроническими ошибками, допускаемыми учащимися в процентных расчё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: «В растворе массой 400г содержится 20г соли. Каково процентное содержание соли в растворе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: Составим таблицу:400г-----------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 г----------- х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нужно мысленно сблизить обе строки, чтобы знаки тире образовали знак =. Так получается пропорция:                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ой и даёт ответ х=5. Многие учащиеся решают туже задачу «ещё прощё», умножив крест – накрест: 20 на 100 и х на 400 из краткой записи условия задачи. Во всех случаях способ действий не опирается на понимание сути эт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6"/>
              <p:cNvSpPr txBox="1"/>
              <p:nvPr/>
            </p:nvSpPr>
            <p:spPr>
              <a:xfrm>
                <a:off x="6143760" y="3857760"/>
                <a:ext cx="1000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се задачи из данного раздела являются необязательными в том смысле что не нужно добиваться от всех учащихся умения их решать. Следующую задачу можно отнести к задачи олимпиадного характера, хотя особой сложности она и не представляет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дача: «Три курицы за три дня снесли три яйца. Сколько яиц снесут 12 кур за 12 дней?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щиеся очень удивятся когда узнают, что «очевидный» ответ «12 яиц» неверен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91960" y="208080"/>
            <a:ext cx="8371080" cy="115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пишем краткое условие задачи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ур          дней            яи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3              3                  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2            12                х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ходе обсуждения мы пришли к выводу, что если снача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величить только число кур в 4 раза, то число яиц тоже увеличиться в 4 раза. Если же, кроме того число дней увеличить в 4 раза, то число яиц увеличится ещё в 4 раза. Окончательно имеем: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твет: 48 яиц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1714680" y="4357800"/>
                <a:ext cx="3000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яиц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7:50:29Z</dcterms:created>
  <dc:creator>user</dc:creator>
  <dc:description/>
  <dc:language>en-US</dc:language>
  <cp:lastModifiedBy>1</cp:lastModifiedBy>
  <dcterms:modified xsi:type="dcterms:W3CDTF">2011-11-24T07:39:48Z</dcterms:modified>
  <cp:revision>99</cp:revision>
  <dc:subject/>
  <dc:title>Практическая направленность обучения</dc:title>
</cp:coreProperties>
</file>