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8A5-5535-4A4F-804C-B91B9223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216-AE6E-43F6-8036-D72CE8C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2FC-D8A6-4125-B90C-1F6B1A2F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A02-E6C7-4DF5-AE5C-2E2C464B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2012-AC97-4F30-AAED-CCE75FDA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E699-B30E-423C-B50E-96D3298C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B6A2-BC04-49CA-BE6D-005968AE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01B9-207E-40C2-9104-7B6E5F83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7504-EEB3-448E-B61F-A13F6647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563-7E8E-4297-837E-C08C6B76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C5AB-4934-4D4D-AA08-6E69CD4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B39-6752-47DC-9833-4B2DCF8C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4F0C-3DD7-41E1-9A02-E850465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2ED4-89AF-488D-8D78-8EA8916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157E-4538-4FF6-85EF-22461CC5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D36-E714-44EF-82EB-900182CC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698-FAE4-4AB5-A155-E6C5FBE8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4AF-7F1B-4E92-86EE-63EACE55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367-C017-4B7F-91E4-1EF731A4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DF6-ECF9-4942-A81C-49ABC713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8AB-E3C8-403D-B542-6BE89277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F90-7597-46B0-B19C-1355B5D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119-4C24-4BCD-8D83-5E7E400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B05-6F23-4F9D-949B-981C878A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663-A467-4A66-A9F1-0FF1B3223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E346-E4D4-48AC-AD59-904EDAF46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ecff"/>
                </a:solidFill>
                <a:latin typeface="Bauhaus 93"/>
              </a:rPr>
              <a:t>Вечер-конкурс </a:t>
            </a:r>
            <a:br>
              <a:rPr sz="9600"/>
            </a:br>
            <a:r>
              <a:rPr b="1" lang="ru-RU" sz="9600" spc="-1" strike="noStrike">
                <a:solidFill>
                  <a:srgbClr val="ccecff"/>
                </a:solidFill>
                <a:latin typeface="Bauhaus 93"/>
              </a:rPr>
              <a:t>«О великий, могучий…»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Телеграмма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ШКОЛА           ПАР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55640" y="1781280"/>
            <a:ext cx="2612880" cy="28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736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Творчество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auhaus 93"/>
              </a:rPr>
              <a:t>К … к…  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35280" y="3068640"/>
            <a:ext cx="30974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auhaus 93"/>
              </a:rPr>
              <a:t>Молодцы!!!!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46656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Bauhaus 93"/>
              </a:rPr>
              <a:t>Русский язык-</a:t>
            </a:r>
            <a:r>
              <a:rPr b="1" lang="en-US" sz="7200" spc="-1" strike="noStrike">
                <a:solidFill>
                  <a:srgbClr val="ffffff"/>
                </a:solidFill>
                <a:latin typeface="Bauhaus 93"/>
              </a:rPr>
              <a:t>                       </a:t>
            </a:r>
            <a:r>
              <a:rPr b="1" lang="ru-RU" sz="7200" spc="-1" strike="noStrike">
                <a:solidFill>
                  <a:srgbClr val="ffffff"/>
                </a:solidFill>
                <a:latin typeface="Bauhaus 93"/>
              </a:rPr>
              <a:t>это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24360" cy="33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auhaus 93"/>
              </a:rPr>
              <a:t>Загад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По серебряной дороге мы отправились в поход. Остановимся на отдых , а она себе ид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е взять меня и не поднять. Не распилить пилой. Не вырубить  и не прогнать. Не вымести метлой…Но только мне придёт пора – сама уйду я со дв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Крылья есть , да не летает. Ног нет, да не догони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сю жизнь ходят в обгонку, а обогнать друг друга не могу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«Переставь буквы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рыня-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льто-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йка-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вода-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шкара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рка-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аз-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ркас-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Расписание уроков»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1463760"/>
            <a:ext cx="6553440" cy="4991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Из двух -  третье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ко+ромб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ит+ра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об+ус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ва+карп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Bauhaus 93"/>
              </a:rPr>
              <a:t>«Внимательный читатель»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ж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 нём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рожит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чной вакс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м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двух не 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азу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ько обу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й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й д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родит под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тит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по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ю но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чистить все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носил никт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 п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у той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и опыт перенять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29937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98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98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Дружная семейка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Подбери пару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    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нк     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р       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л    к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л    р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й    ма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но    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па    ок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с    в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33:32Z</dcterms:created>
  <dc:creator>Халил</dc:creator>
  <dc:description/>
  <dc:language>en-US</dc:language>
  <cp:lastModifiedBy>Халил</cp:lastModifiedBy>
  <dcterms:modified xsi:type="dcterms:W3CDTF">2009-03-18T14:57:31Z</dcterms:modified>
  <cp:revision>4</cp:revision>
  <dc:subject/>
  <dc:title>Вечер-конкурс  «О великий, могучий…»</dc:title>
</cp:coreProperties>
</file>