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A9C7-FA10-4FC0-A8E0-F23AAD7F1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34FA-BF69-4586-943E-351DED76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8872-D4F0-4522-9B6A-D2267F13E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3850-0392-49C1-B24E-5AA2F4D4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1D78-1404-4152-800E-5A685FDB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61C5-D55B-4847-891D-E489FE08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B957-4276-4E06-A633-CC17D748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4679-940B-4006-A333-8D3F1DDF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0DAE-555B-42CE-BA34-985A39C5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4CB9-69CE-4610-9D47-BB8C8B1F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713F-28B5-4D40-A280-D42BC1A6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5E54-0477-4EB7-87C8-C33BE711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BA5E-8B4C-4A20-BFC8-103FB571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A692-10E7-47F0-A7EC-8172ACCA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AF3F-55DA-4247-9DE3-B4C65CE9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7AD0-941D-47B8-B90E-6FD985889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6709-C3FD-4F30-8B03-8FFF1422C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A5D7-5462-4870-92A8-E1490AD2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B546-2401-478E-B11F-8F8B185B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0C9B-4CC7-42D4-885B-F28A02E8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B829-C2EF-4028-A667-FADFBEE3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A916-E023-4FE8-BBC4-FFA93318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2444-107C-43EE-A6B5-90B9D803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B943-F2AD-4674-8C64-9F97BC1D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59E5-13FA-452D-80E9-A67CEDD284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3D5F-F6E5-4789-8B07-02DFCA0702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cecff"/>
                </a:solidFill>
                <a:latin typeface="Bauhaus 93"/>
              </a:rPr>
              <a:t>Вечер-конкурс </a:t>
            </a:r>
            <a:br>
              <a:rPr sz="9600"/>
            </a:br>
            <a:r>
              <a:rPr b="1" lang="ru-RU" sz="9600" spc="-1" strike="noStrike">
                <a:solidFill>
                  <a:srgbClr val="ccecff"/>
                </a:solidFill>
                <a:latin typeface="Bauhaus 93"/>
              </a:rPr>
              <a:t>«О великий, могучий…»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ecff"/>
                </a:solidFill>
                <a:latin typeface="Bauhaus 93"/>
              </a:rPr>
              <a:t>«Телеграмма»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1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ШКОЛА           ПАР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55640" y="1781280"/>
            <a:ext cx="2612880" cy="28717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651640" y="1773360"/>
            <a:ext cx="27367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ecff"/>
                </a:solidFill>
                <a:latin typeface="Bauhaus 93"/>
              </a:rPr>
              <a:t>«Творчество»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auhaus 93"/>
              </a:rPr>
              <a:t>К … к…  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635280" y="3068640"/>
            <a:ext cx="309744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7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ecff"/>
                </a:solidFill>
                <a:latin typeface="Bauhaus 93"/>
              </a:rPr>
              <a:t>Молодцы!!!!!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635280" y="2781360"/>
            <a:ext cx="46656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914400" y="76464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Bauhaus 93"/>
              </a:rPr>
              <a:t>Русский язык-</a:t>
            </a:r>
            <a:r>
              <a:rPr b="1" lang="en-US" sz="7200" spc="-1" strike="noStrike">
                <a:solidFill>
                  <a:srgbClr val="ffffff"/>
                </a:solidFill>
                <a:latin typeface="Bauhaus 93"/>
              </a:rPr>
              <a:t>                       </a:t>
            </a:r>
            <a:r>
              <a:rPr b="1" lang="ru-RU" sz="7200" spc="-1" strike="noStrike">
                <a:solidFill>
                  <a:srgbClr val="ffffff"/>
                </a:solidFill>
                <a:latin typeface="Bauhaus 93"/>
              </a:rPr>
              <a:t>это…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867280" y="2637000"/>
            <a:ext cx="2124360" cy="330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Bauhaus 93"/>
              </a:rPr>
              <a:t>Загад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</a:rPr>
              <a:t>По серебряной дороге мы отправились в поход. Остановимся на отдых , а она себе ид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</a:rPr>
              <a:t>Не взять меня и не поднять. Не распилить пилой. Не вырубить  и не прогнать. Не вымести метлой…Но только мне придёт пора – сама уйду я со дво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</a:rPr>
              <a:t>Крылья есть , да не летает. Ног нет, да не догониш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</a:rPr>
              <a:t>Всю жизнь ходят в обгонку, а обогнать друг друга не могу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2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«Переставь буквы»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арыня-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альто-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ейка-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вода-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шкара-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ирка-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каз-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ркас-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ecff"/>
                </a:solidFill>
                <a:latin typeface="Bauhaus 93"/>
              </a:rPr>
              <a:t>«Расписание уроков»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187280" y="1463760"/>
            <a:ext cx="6553440" cy="4991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ecff"/>
                </a:solidFill>
                <a:latin typeface="Bauhaus 93"/>
              </a:rPr>
              <a:t>«Из двух -  третье»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Око+ромб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Кит+ран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Боб+уст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Ива+карп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Bauhaus 93"/>
              </a:rPr>
              <a:t>«Внимательный читатель»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 про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т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о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т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ожа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а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т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в нём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т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ож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орожит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т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ож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т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ичной вакс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ме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т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двух не про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разу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т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ько обув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 про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т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й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т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ож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про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т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й до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родит под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т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истит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10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по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и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т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ою ног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чистить все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т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 носил никто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т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т по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т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я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у той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т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ожки опыт перенять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299376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9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98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98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98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98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98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98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98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2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ecff"/>
                </a:solidFill>
                <a:latin typeface="Bauhaus 93"/>
              </a:rPr>
              <a:t>«Дружная семейка»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-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076720" y="1989000"/>
            <a:ext cx="3456000" cy="3672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ecff"/>
                </a:solidFill>
                <a:latin typeface="Bauhaus 93"/>
              </a:rPr>
              <a:t>«Подбери пару»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    еж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анк     о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Яр       точ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л    к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л    р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ой    мар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ено    ри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ипа    ок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ес    ва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8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3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3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3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8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3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6:33:32Z</dcterms:created>
  <dc:creator>Халил</dc:creator>
  <dc:description/>
  <dc:language>en-US</dc:language>
  <cp:lastModifiedBy>Халил</cp:lastModifiedBy>
  <dcterms:modified xsi:type="dcterms:W3CDTF">2009-03-18T14:57:31Z</dcterms:modified>
  <cp:revision>4</cp:revision>
  <dc:subject/>
  <dc:title>Вечер-конкурс  «О великий, могучий…»</dc:title>
</cp:coreProperties>
</file>