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3F90-B47B-40C7-8121-7846E987E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7E4A-6423-4F66-A5F3-76C4EB44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23BA-F2DB-441A-B90A-73A88E565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FDEE-06E0-4A6D-9238-6A10C0FFF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0EA5-A301-4D8E-8A6E-0034FDC0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8336-5309-4C32-900C-C352AE3A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00D3-F817-4F27-A46F-EBC9B200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6523-F3B7-4A70-8001-D980302E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3995-8F65-45E2-8EA0-D7BF4100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EEDB-1368-475F-8115-E799A303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FBE9-F5AC-4C98-A407-3F8440FF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0BE9-4687-4073-9DBD-40FCD87C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53D4-23CD-435D-9DF6-0F6FF4CEEC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56000" y="691920"/>
            <a:ext cx="6191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еография. 6 класс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2204640"/>
            <a:ext cx="77752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Запишем задание на дом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alibri"/>
              </a:rPr>
              <a:t>§3-4</a:t>
            </a:r>
            <a:r>
              <a:rPr b="1" lang="en-US" sz="26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0000ff"/>
                </a:solidFill>
                <a:latin typeface="Calibri"/>
              </a:rPr>
              <a:t>внимательно читать, задание 3-4 в тетрад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СЕГОДНЯ НА УРОКЕ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Тест по §1-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Новая тем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ересказ по §2 или рассказ                                     про путешественник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даем на проверку тетрад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User\Documents\1.jpg"/>
          <p:cNvPicPr/>
          <p:nvPr/>
        </p:nvPicPr>
        <p:blipFill>
          <a:blip r:embed="rId1"/>
          <a:stretch/>
        </p:blipFill>
        <p:spPr>
          <a:xfrm>
            <a:off x="0" y="0"/>
            <a:ext cx="2484360" cy="208584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4716360" y="333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ктронные материалы к уроку. ФРАГМЕНТ. Гришакина О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Глобус – модель Земли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н наиболее правильно изображает объекты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рты не сферичны, они дают искаж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Users\User\Desktop\218f0656d798cc6e2bd3ec2b6481a0cf.jpg"/>
          <p:cNvPicPr/>
          <p:nvPr/>
        </p:nvPicPr>
        <p:blipFill>
          <a:blip r:embed="rId1"/>
          <a:stretch/>
        </p:blipFill>
        <p:spPr>
          <a:xfrm>
            <a:off x="395280" y="1628640"/>
            <a:ext cx="3456000" cy="4689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C:\Users\User\Desktop\3969.jpg"/>
          <p:cNvPicPr/>
          <p:nvPr/>
        </p:nvPicPr>
        <p:blipFill>
          <a:blip r:embed="rId2"/>
          <a:stretch/>
        </p:blipFill>
        <p:spPr>
          <a:xfrm>
            <a:off x="5435640" y="1773360"/>
            <a:ext cx="3355920" cy="4686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C:\Users\User\Desktop\656351-11-1263834440259.jpg"/>
          <p:cNvPicPr/>
          <p:nvPr/>
        </p:nvPicPr>
        <p:blipFill>
          <a:blip r:embed="rId3"/>
          <a:stretch/>
        </p:blipFill>
        <p:spPr>
          <a:xfrm>
            <a:off x="3203640" y="4869000"/>
            <a:ext cx="2994120" cy="1655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Найдите и покажите на глобусе: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еверный и южный полюс, экватор, северное и южное полушарие, параллель и меридиа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C:\Users\User\Desktop\i010-001-245927207.jpg"/>
          <p:cNvPicPr/>
          <p:nvPr/>
        </p:nvPicPr>
        <p:blipFill>
          <a:blip r:embed="rId1"/>
          <a:stretch/>
        </p:blipFill>
        <p:spPr>
          <a:xfrm>
            <a:off x="539640" y="1628640"/>
            <a:ext cx="4945320" cy="452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C:\Users\User\Desktop\65470.jpg"/>
          <p:cNvPicPr/>
          <p:nvPr/>
        </p:nvPicPr>
        <p:blipFill>
          <a:blip r:embed="rId2"/>
          <a:stretch/>
        </p:blipFill>
        <p:spPr>
          <a:xfrm>
            <a:off x="5292720" y="1844640"/>
            <a:ext cx="3059280" cy="4030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Вернемся к домашней теме.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Вот вопросы для пересказ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599840"/>
            <a:ext cx="8147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чему люди не сразу открыли всё на Земле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 какими трудностями они сталкивались в путешествиях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зовите не менее 5 путешественн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сскажите чуть подробнее об одном (любом) из ни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 сейчас что-нибудь ученые открывают на Земл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Тест по §1-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95280" y="1341000"/>
            <a:ext cx="82915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ОПРОС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ой греческий мореплаватель совершил путешествие вокруг Европы в 320г. до н.э.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означает слово «география» на греческом язык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то  нашел морской путь в Индию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рты, атласы, учебники, космические снимки, отчеты экспедиций и т.д. все вместе называются …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то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завершил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первое кругосветное плавани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АРИАНТЫ ОТВЕТ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А)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ЛУМБ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Б)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ВАСКО ДА ГАМА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В)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ЛЬКА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Г)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СТОЧНИКИ ГЕОГР. ЗНАНИЙ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 Д)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ГЕЛЛАН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Е)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ИФЕЙ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Ж)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ИСАНИЕ ЗЕМЛИ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)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МОДЕЛЬ ЗЕМЛ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овая тема: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«ПЛАНЕТЫ СОЛНЕЧНОЙ СИСТЕМЫ. ФОРМА.РАЗМЕРЫ И ДВИЖЕНИЕ ЗЕМЛ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Users\User\Desktop\clip_image001.jpg"/>
          <p:cNvPicPr/>
          <p:nvPr/>
        </p:nvPicPr>
        <p:blipFill>
          <a:blip r:embed="rId1"/>
          <a:stretch/>
        </p:blipFill>
        <p:spPr>
          <a:xfrm>
            <a:off x="611280" y="1413000"/>
            <a:ext cx="7402320" cy="4997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Users\User\Desktop\soho eit_11147.jpg"/>
          <p:cNvPicPr/>
          <p:nvPr/>
        </p:nvPicPr>
        <p:blipFill>
          <a:blip r:embed="rId2"/>
          <a:stretch/>
        </p:blipFill>
        <p:spPr>
          <a:xfrm>
            <a:off x="7362720" y="4869000"/>
            <a:ext cx="1989360" cy="1989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селенная бесконечна, в ней много систем, подобных солнечной, много звезд, астероидов, космической пыли и т.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центре нашей космической системы находится Солнце – огромная горячая звезда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круг Солнца вращаются планеты, их спутники, астероиды и т.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 удалению от Солнца планеты расположены так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МЕРКУРИЙ, ВЕНЕРА, ЗЕМЛЯ, МАРС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–планеты земной групп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ЮПИТЕР, САТУРН, УРАН, НЕПТУН -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ланеты –гиган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лгое время Плутон считали                                                       планетой, сейчас н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User\Desktop\solar_system_ill.jpg"/>
          <p:cNvPicPr/>
          <p:nvPr/>
        </p:nvPicPr>
        <p:blipFill>
          <a:blip r:embed="rId1"/>
          <a:stretch/>
        </p:blipFill>
        <p:spPr>
          <a:xfrm>
            <a:off x="5549760" y="4533840"/>
            <a:ext cx="3594240" cy="2324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7868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стояние до Солнца от Земли  150 млн. км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мпература 13 500 000 К. (1 кельвин = -273° С)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иаметр Солнца в 109 раз больше земного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ъем =1 303 600 объёмов Земл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сса = 332 946 масс Земл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уч света достигает Земли за 8 мину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Users\User\Desktop\solnce.jpg"/>
          <p:cNvPicPr/>
          <p:nvPr/>
        </p:nvPicPr>
        <p:blipFill>
          <a:blip r:embed="rId1"/>
          <a:stretch/>
        </p:blipFill>
        <p:spPr>
          <a:xfrm>
            <a:off x="468360" y="2637000"/>
            <a:ext cx="3890880" cy="3892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Users\User\Desktop\4.jpg"/>
          <p:cNvPicPr/>
          <p:nvPr/>
        </p:nvPicPr>
        <p:blipFill>
          <a:blip r:embed="rId2"/>
          <a:stretch/>
        </p:blipFill>
        <p:spPr>
          <a:xfrm>
            <a:off x="4859280" y="2637000"/>
            <a:ext cx="3908520" cy="3887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User\Desktop\01113a8613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7272360" y="0"/>
            <a:ext cx="187164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емля – третья планета                от Солн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179280" y="4941720"/>
            <a:ext cx="352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ервым высказал предположение                                    о шарообразности Земли ПИФАГОР, затем идею довел до истины Аристо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6659640" y="5445000"/>
            <a:ext cx="165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верху и снизу Земля сплюснута на 22 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-51444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ЕМЛЯ – третья планета от Солнца.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Форма Земли шарообразна (геоид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лярный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радиус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= 6 356,8 км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кваториальный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радиус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=  6378 км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редний радиус  = 6 371  км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Объём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V)10,832073×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</a:rPr>
              <a:t>11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км³       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Масс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(m)5,9736×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</a:rPr>
              <a:t>24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кг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лощадь поверхности (S)510 072 000 км²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лина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экватор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= 40 000 км. Угол наклона оси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66,5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емля вращается  вокруг своей оси                                                                      за 23 часа 56 минут и 4.091 секунд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корость движения земли по орбите                                                          вокруг Солнца =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29,765 км/сек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 урок мы пролетаем  81 тыс. км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емля совершает полный оборот                                                                  за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365,2564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редних солнечных суток </a:t>
            </a:r>
            <a:br>
              <a:rPr sz="24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Users\User\Desktop\001.jpg"/>
          <p:cNvPicPr/>
          <p:nvPr/>
        </p:nvPicPr>
        <p:blipFill>
          <a:blip r:embed="rId1"/>
          <a:stretch/>
        </p:blipFill>
        <p:spPr>
          <a:xfrm>
            <a:off x="6402240" y="0"/>
            <a:ext cx="2741760" cy="2741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C:\Users\User\Desktop\tumblr_kyukmuajUI1qa5a9k.jpg"/>
          <p:cNvPicPr/>
          <p:nvPr/>
        </p:nvPicPr>
        <p:blipFill>
          <a:blip r:embed="rId2"/>
          <a:stretch/>
        </p:blipFill>
        <p:spPr>
          <a:xfrm>
            <a:off x="6435720" y="4149720"/>
            <a:ext cx="2708280" cy="2708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ледствия движения Земл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11280" y="1197000"/>
            <a:ext cx="8075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з-за движения Земли вокруг оси возникает смена дня и ноч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2.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з –за вращения Земли вокруг Солнца  и наклона оси вращения возникает смена времен г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Users\User\Desktop\46067077.jpg"/>
          <p:cNvPicPr/>
          <p:nvPr/>
        </p:nvPicPr>
        <p:blipFill>
          <a:blip r:embed="rId1"/>
          <a:stretch/>
        </p:blipFill>
        <p:spPr>
          <a:xfrm>
            <a:off x="1979640" y="2997360"/>
            <a:ext cx="544356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Луна – единственный природный спутник Земли.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Размер =0,273 земных радиуса. Объем = 0,020 земных. Масса = 0,0123 земны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Users\User\Desktop\Luna.jpg"/>
          <p:cNvPicPr/>
          <p:nvPr/>
        </p:nvPicPr>
        <p:blipFill>
          <a:blip r:embed="rId1"/>
          <a:stretch/>
        </p:blipFill>
        <p:spPr>
          <a:xfrm>
            <a:off x="611280" y="1844640"/>
            <a:ext cx="4286160" cy="4286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Users\User\Desktop\2e347b6a7897c359f4f0ab36900194d7.jpg"/>
          <p:cNvPicPr/>
          <p:nvPr/>
        </p:nvPicPr>
        <p:blipFill>
          <a:blip r:embed="rId2"/>
          <a:stretch/>
        </p:blipFill>
        <p:spPr>
          <a:xfrm>
            <a:off x="5219640" y="1844640"/>
            <a:ext cx="3252960" cy="2102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C:\Users\User\Desktop\blue-moon-large.jpg"/>
          <p:cNvPicPr/>
          <p:nvPr/>
        </p:nvPicPr>
        <p:blipFill>
          <a:blip r:embed="rId3"/>
          <a:stretch/>
        </p:blipFill>
        <p:spPr>
          <a:xfrm>
            <a:off x="5435640" y="4076640"/>
            <a:ext cx="2840040" cy="2468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4:38:20Z</dcterms:created>
  <dc:creator>User</dc:creator>
  <dc:description/>
  <dc:language>en-US</dc:language>
  <cp:lastModifiedBy>User</cp:lastModifiedBy>
  <dcterms:modified xsi:type="dcterms:W3CDTF">2011-11-25T16:30:24Z</dcterms:modified>
  <cp:revision>18</cp:revision>
  <dc:subject/>
  <dc:title>География. 6 класс. 26.09.2011</dc:title>
</cp:coreProperties>
</file>